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951663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9516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936960" y="0"/>
            <a:ext cx="301320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955440" y="755640"/>
            <a:ext cx="5040360" cy="37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0" y="9575280"/>
            <a:ext cx="3013200" cy="505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936960" y="9575280"/>
            <a:ext cx="3013200" cy="505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787D-0D8C-484E-8F30-92FC80317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5006-48DD-4348-90AF-C535E04BE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 кожної групи є своє власне меню: завдання, календарі, обговорення, звіти і т.п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386C-0B02-4338-81AE-E93390851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ьогодні для розвитку медичної галузі перед чиновниками та медичною спільнотою стоять такі завд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F766-EFC1-4FFF-A518-75CA181BF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ля виконання вказаних завдань у реаліях сучасності потрібна повна інформатизація процесів. Її реалізацію здатен виконувати спеціалізований інформаційний портал. Це закрита система для авторизованих учасникі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3A1B-FA24-4F3C-8840-2D263B22D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і функції можна використовувати до необмеженої кількості проектів різних напрямкі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75C1-F9D2-4C34-A47B-DB79E22EA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дним із найголовніших завдань на сьогодні є реформування медичної галузі. Саме для ефективної його реалізації найоптимальніше підходить система внутрішнього портал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DBF2-E31E-4F32-A5BF-67B746480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30EB-3D3A-4C68-B21D-786B06BE1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EDA-6D12-422B-9C2D-9E7882F2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0C1-15C9-4D26-8AAF-EA06C05F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239-C246-4712-8177-3CD60C51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053-CC34-4D58-AE2E-A2F93E6F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0172-2FB1-42D2-A005-901323E3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2783-E9E0-4620-9591-963FE7CB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3552-1787-408D-978B-A34FCC19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C9BE-BF68-4436-9586-86AF6198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FE12-E189-4990-9E9B-DFA82D52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1459-CFE4-4E55-8333-893277C4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E2C1-31A6-4ADB-86C4-3B85F42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ADD-E548-426E-B057-8A858E3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C28E-F7DC-4B61-B600-8CAC3F18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5845-6469-4A33-B5DE-7AC9E8C7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6E3B-3B3F-45DB-95A5-DE943198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00B1-8C95-42B1-AEE7-DA950435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7204-E986-476E-B004-8EF54F1B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B5DF-4E09-4863-8972-FD8C5266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69183-9551-482F-AB83-86654B95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77CD-0C7F-4914-A893-A475AE77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7C43-FA8D-4C56-BC5E-C28382C0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6C9A-43FE-40D9-BC4B-2A7F8CC3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FE8-B770-41F8-9B69-BF75AAEA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16CD-605F-4906-8415-7F389E19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0C670-8744-4C58-B5FF-BA4625FE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1088-A028-4A40-9ACE-CA252EF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BFE9-BF99-45D4-953F-3CD0FCA0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71BED-A570-4F58-AA5B-95CA1413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9190-F338-4C16-8A6A-DAD684EB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64389-1F1B-4A5F-BEE0-74EC97AE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4900D-6A3D-449B-AF7C-537CA35A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64E79-BB45-433E-BA66-51884BDC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3FA0C-3759-41F5-BADF-9E65CCE6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B3D-9AC7-4A1C-9092-243D69C7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B0299-CF6F-4BEC-B559-3E2BFCDF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5EB74-8E9B-41DA-A62A-6F0D7ABC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A61E-CFBA-4363-81E3-317A2E73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A660-43DA-4B71-9183-AA3F3B8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7AED-C1B0-45AC-9568-C4AD5E36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FF6C9-3339-432F-8122-CB69531A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02D3-60F9-499E-BEAD-68CA957E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288F-E33F-4432-AF27-5906DDF8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E80F-ED51-4AF7-B627-B50AFF7A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2692-A81A-4E0C-A708-72A41484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390-EE86-4DF1-ADB0-9247DA55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A7F67-04E7-4E49-8CAB-88661B99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66DC-8B07-4D27-874D-EB6FD68B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2A1C5-B01E-4AD0-A8C8-9525F1F9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EA55-2DD2-4CF2-B16D-86C6667E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250B0-B879-4B3B-A3A4-5BAEA3E0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22452-E4CC-416A-A7E1-BEEBF49B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CC00-38EA-4B18-9E51-D116980E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F0F34-E278-4AED-8897-81CCB3D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2437C-6FF9-46DE-8B70-6406F8E3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3049A-4FE1-46B6-A05C-A391BEAB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8B9-89FE-4D1E-9281-C342EC7D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0D5C4-9C71-4811-A000-9645353E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881-48BC-48D8-9E68-5151E8E9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ACA-1F4C-4AA8-B697-4B129AEA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7AC-B298-4858-9163-5A63E935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88E7-1E66-463D-9A99-4B7E6D7D827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Rectangle 28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Rectangle 30"/>
          <p:cNvGrpSpPr/>
          <p:nvPr/>
        </p:nvGrpSpPr>
        <p:grpSpPr>
          <a:xfrm>
            <a:off x="-6480" y="1262160"/>
            <a:ext cx="9156960" cy="5602320"/>
            <a:chOff x="-6480" y="1262160"/>
            <a:chExt cx="9156960" cy="5602320"/>
          </a:xfrm>
        </p:grpSpPr>
        <p:pic>
          <p:nvPicPr>
            <p:cNvPr id="16" name="Rectangle 30" descr=""/>
            <p:cNvPicPr/>
            <p:nvPr/>
          </p:nvPicPr>
          <p:blipFill>
            <a:blip r:embed="rId5"/>
            <a:stretch/>
          </p:blipFill>
          <p:spPr>
            <a:xfrm>
              <a:off x="-6480" y="1262160"/>
              <a:ext cx="915696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0" y="1270080"/>
              <a:ext cx="9144000" cy="55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6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Rectangle 28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Rectangle 30"/>
          <p:cNvGrpSpPr/>
          <p:nvPr/>
        </p:nvGrpSpPr>
        <p:grpSpPr>
          <a:xfrm>
            <a:off x="-6480" y="1262160"/>
            <a:ext cx="9156960" cy="5602320"/>
            <a:chOff x="-6480" y="1262160"/>
            <a:chExt cx="9156960" cy="5602320"/>
          </a:xfrm>
        </p:grpSpPr>
        <p:pic>
          <p:nvPicPr>
            <p:cNvPr id="65" name="Rectangle 30" descr=""/>
            <p:cNvPicPr/>
            <p:nvPr/>
          </p:nvPicPr>
          <p:blipFill>
            <a:blip r:embed="rId5"/>
            <a:stretch/>
          </p:blipFill>
          <p:spPr>
            <a:xfrm>
              <a:off x="-6480" y="1262160"/>
              <a:ext cx="915696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1270080"/>
              <a:ext cx="9144000" cy="55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64EA-64F2-43E4-A837-E260E25BB2F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1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Rectangle 28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Rectangle 30"/>
          <p:cNvGrpSpPr/>
          <p:nvPr/>
        </p:nvGrpSpPr>
        <p:grpSpPr>
          <a:xfrm>
            <a:off x="-6480" y="1262160"/>
            <a:ext cx="9156960" cy="5602320"/>
            <a:chOff x="-6480" y="1262160"/>
            <a:chExt cx="9156960" cy="5602320"/>
          </a:xfrm>
        </p:grpSpPr>
        <p:pic>
          <p:nvPicPr>
            <p:cNvPr id="119" name="Rectangle 30" descr=""/>
            <p:cNvPicPr/>
            <p:nvPr/>
          </p:nvPicPr>
          <p:blipFill>
            <a:blip r:embed="rId5"/>
            <a:stretch/>
          </p:blipFill>
          <p:spPr>
            <a:xfrm>
              <a:off x="-6480" y="1262160"/>
              <a:ext cx="915696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0" y="1270080"/>
              <a:ext cx="9144000" cy="55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DE8E-1D06-4F4B-AFF2-EFED5F7A4E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110D-B1B4-4944-9D44-ED98A976D9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3"/>
          <p:cNvSpPr/>
          <p:nvPr/>
        </p:nvSpPr>
        <p:spPr>
          <a:xfrm>
            <a:off x="0" y="0"/>
            <a:ext cx="9144000" cy="256536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ECD4-748B-4119-9B20-3A2D0A2E025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хема 2" descr=""/>
          <p:cNvPicPr/>
          <p:nvPr/>
        </p:nvPicPr>
        <p:blipFill>
          <a:blip r:embed="rId2"/>
          <a:stretch/>
        </p:blipFill>
        <p:spPr>
          <a:xfrm>
            <a:off x="523800" y="1835280"/>
            <a:ext cx="8096400" cy="2139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2"/>
          <a:stretch/>
        </p:blipFill>
        <p:spPr>
          <a:xfrm>
            <a:off x="781200" y="-6480"/>
            <a:ext cx="8369280" cy="7257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2" descr="zadachi.JPG"/>
          <p:cNvPicPr/>
          <p:nvPr/>
        </p:nvPicPr>
        <p:blipFill>
          <a:blip r:embed="rId3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4" descr="zadachi2.JPG"/>
          <p:cNvPicPr/>
          <p:nvPr/>
        </p:nvPicPr>
        <p:blipFill>
          <a:blip r:embed="rId4"/>
          <a:stretch/>
        </p:blipFill>
        <p:spPr>
          <a:xfrm>
            <a:off x="5991120" y="785880"/>
            <a:ext cx="3152880" cy="5772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781200" y="-6480"/>
            <a:ext cx="8369280" cy="725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videokonf1.JPG"/>
          <p:cNvPicPr/>
          <p:nvPr/>
        </p:nvPicPr>
        <p:blipFill>
          <a:blip r:embed="rId3"/>
          <a:stretch/>
        </p:blipFill>
        <p:spPr>
          <a:xfrm>
            <a:off x="571680" y="1000080"/>
            <a:ext cx="8358120" cy="564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2"/>
          <a:stretch/>
        </p:blipFill>
        <p:spPr>
          <a:xfrm>
            <a:off x="1133640" y="36360"/>
            <a:ext cx="7565760" cy="695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grupa.JPG"/>
          <p:cNvPicPr/>
          <p:nvPr/>
        </p:nvPicPr>
        <p:blipFill>
          <a:blip r:embed="rId3"/>
          <a:stretch/>
        </p:blipFill>
        <p:spPr>
          <a:xfrm>
            <a:off x="714240" y="1000080"/>
            <a:ext cx="8072640" cy="5315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500040" y="285840"/>
            <a:ext cx="806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Користувачі порт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Овал 4"/>
          <p:cNvGrpSpPr/>
          <p:nvPr/>
        </p:nvGrpSpPr>
        <p:grpSpPr>
          <a:xfrm>
            <a:off x="622440" y="2620800"/>
            <a:ext cx="2333520" cy="1159200"/>
            <a:chOff x="622440" y="2620800"/>
            <a:chExt cx="2333520" cy="1159200"/>
          </a:xfrm>
        </p:grpSpPr>
        <p:pic>
          <p:nvPicPr>
            <p:cNvPr id="285" name="Овал 4" descr=""/>
            <p:cNvPicPr/>
            <p:nvPr/>
          </p:nvPicPr>
          <p:blipFill>
            <a:blip r:embed="rId2"/>
            <a:stretch/>
          </p:blipFill>
          <p:spPr>
            <a:xfrm>
              <a:off x="622440" y="2620800"/>
              <a:ext cx="2333520" cy="11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42960" y="2639880"/>
              <a:ext cx="230328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Медичні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працівн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Овал 4"/>
          <p:cNvGrpSpPr/>
          <p:nvPr/>
        </p:nvGrpSpPr>
        <p:grpSpPr>
          <a:xfrm>
            <a:off x="3402000" y="1298520"/>
            <a:ext cx="2333520" cy="1158840"/>
            <a:chOff x="3402000" y="1298520"/>
            <a:chExt cx="2333520" cy="1158840"/>
          </a:xfrm>
        </p:grpSpPr>
        <p:pic>
          <p:nvPicPr>
            <p:cNvPr id="288" name="Овал 4" descr=""/>
            <p:cNvPicPr/>
            <p:nvPr/>
          </p:nvPicPr>
          <p:blipFill>
            <a:blip r:embed="rId3"/>
            <a:stretch/>
          </p:blipFill>
          <p:spPr>
            <a:xfrm>
              <a:off x="3402000" y="1298520"/>
              <a:ext cx="2333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422520" y="1319040"/>
              <a:ext cx="230508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Посадовці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Овал 4"/>
          <p:cNvGrpSpPr/>
          <p:nvPr/>
        </p:nvGrpSpPr>
        <p:grpSpPr>
          <a:xfrm>
            <a:off x="804960" y="5010120"/>
            <a:ext cx="2334960" cy="1158840"/>
            <a:chOff x="804960" y="5010120"/>
            <a:chExt cx="2334960" cy="1158840"/>
          </a:xfrm>
        </p:grpSpPr>
        <p:pic>
          <p:nvPicPr>
            <p:cNvPr id="291" name="Овал 4" descr=""/>
            <p:cNvPicPr/>
            <p:nvPr/>
          </p:nvPicPr>
          <p:blipFill>
            <a:blip r:embed="rId4"/>
            <a:stretch/>
          </p:blipFill>
          <p:spPr>
            <a:xfrm>
              <a:off x="804960" y="5010120"/>
              <a:ext cx="2334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20800" y="5030640"/>
              <a:ext cx="230508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Науковці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методи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Овал 4"/>
          <p:cNvGrpSpPr/>
          <p:nvPr/>
        </p:nvGrpSpPr>
        <p:grpSpPr>
          <a:xfrm>
            <a:off x="6229440" y="4937040"/>
            <a:ext cx="2334960" cy="1158840"/>
            <a:chOff x="6229440" y="4937040"/>
            <a:chExt cx="2334960" cy="1158840"/>
          </a:xfrm>
        </p:grpSpPr>
        <p:pic>
          <p:nvPicPr>
            <p:cNvPr id="294" name="Овал 4" descr=""/>
            <p:cNvPicPr/>
            <p:nvPr/>
          </p:nvPicPr>
          <p:blipFill>
            <a:blip r:embed="rId5"/>
            <a:stretch/>
          </p:blipFill>
          <p:spPr>
            <a:xfrm>
              <a:off x="6229440" y="4937040"/>
              <a:ext cx="2334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248520" y="4959360"/>
              <a:ext cx="230328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Експер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Схема 31" descr=""/>
          <p:cNvPicPr/>
          <p:nvPr/>
        </p:nvPicPr>
        <p:blipFill>
          <a:blip r:embed="rId6"/>
          <a:stretch/>
        </p:blipFill>
        <p:spPr>
          <a:xfrm>
            <a:off x="420840" y="1206360"/>
            <a:ext cx="8094600" cy="52308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4"/>
          <p:cNvSpPr/>
          <p:nvPr/>
        </p:nvSpPr>
        <p:spPr>
          <a:xfrm>
            <a:off x="5857920" y="2428920"/>
            <a:ext cx="141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Чл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робоч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гр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6"/>
          <p:cNvSpPr/>
          <p:nvPr/>
        </p:nvSpPr>
        <p:spPr>
          <a:xfrm>
            <a:off x="1256400" y="2286000"/>
            <a:ext cx="20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Експ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раці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рес-служ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Майбутнє п</a:t>
            </a:r>
            <a:r>
              <a:rPr b="0" lang="ru-RU" sz="3600" spc="-1" strike="noStrike">
                <a:solidFill>
                  <a:srgbClr val="0b5395"/>
                </a:solidFill>
                <a:latin typeface="Calibri"/>
              </a:rPr>
              <a:t>орталу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Содержимое 4" descr=""/>
          <p:cNvPicPr/>
          <p:nvPr/>
        </p:nvPicPr>
        <p:blipFill>
          <a:blip r:embed="rId2"/>
          <a:stretch/>
        </p:blipFill>
        <p:spPr>
          <a:xfrm>
            <a:off x="407880" y="981000"/>
            <a:ext cx="8394840" cy="559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2"/>
          <a:stretch/>
        </p:blipFill>
        <p:spPr>
          <a:xfrm>
            <a:off x="493560" y="2639880"/>
            <a:ext cx="8242560" cy="115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0"/>
            <a:ext cx="795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             </a:t>
            </a: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Завдання медичної галуз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Схема 3" descr=""/>
          <p:cNvPicPr/>
          <p:nvPr/>
        </p:nvPicPr>
        <p:blipFill>
          <a:blip r:embed="rId2"/>
          <a:stretch/>
        </p:blipFill>
        <p:spPr>
          <a:xfrm>
            <a:off x="268200" y="781200"/>
            <a:ext cx="8882280" cy="5540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3571920" y="2928960"/>
            <a:ext cx="1868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Облік хвор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профіль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реєс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6424920" y="2714760"/>
            <a:ext cx="236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учасні мет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лікув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телемедиц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іддал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онсультації та п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3" descr=""/>
          <p:cNvPicPr/>
          <p:nvPr/>
        </p:nvPicPr>
        <p:blipFill>
          <a:blip r:embed="rId2"/>
          <a:stretch/>
        </p:blipFill>
        <p:spPr>
          <a:xfrm>
            <a:off x="781200" y="-92160"/>
            <a:ext cx="7972200" cy="714600"/>
          </a:xfrm>
          <a:prstGeom prst="rect">
            <a:avLst/>
          </a:prstGeom>
          <a:ln w="0">
            <a:noFill/>
          </a:ln>
        </p:spPr>
      </p:pic>
      <p:pic>
        <p:nvPicPr>
          <p:cNvPr id="262" name="Схема 4" descr=""/>
          <p:cNvPicPr/>
          <p:nvPr/>
        </p:nvPicPr>
        <p:blipFill>
          <a:blip r:embed="rId3"/>
          <a:stretch/>
        </p:blipFill>
        <p:spPr>
          <a:xfrm>
            <a:off x="341280" y="1390680"/>
            <a:ext cx="8394840" cy="407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1920960" y="-6480"/>
            <a:ext cx="5302080" cy="725760"/>
          </a:xfrm>
          <a:prstGeom prst="rect">
            <a:avLst/>
          </a:prstGeom>
          <a:ln w="0">
            <a:noFill/>
          </a:ln>
        </p:spPr>
      </p:pic>
      <p:pic>
        <p:nvPicPr>
          <p:cNvPr id="264" name="Схема 2" descr=""/>
          <p:cNvPicPr/>
          <p:nvPr/>
        </p:nvPicPr>
        <p:blipFill>
          <a:blip r:embed="rId3"/>
          <a:stretch/>
        </p:blipFill>
        <p:spPr>
          <a:xfrm>
            <a:off x="353880" y="1352520"/>
            <a:ext cx="8369280" cy="5267520"/>
          </a:xfrm>
          <a:prstGeom prst="rect">
            <a:avLst/>
          </a:prstGeom>
          <a:ln w="0">
            <a:noFill/>
          </a:ln>
        </p:spPr>
      </p:pic>
      <p:sp>
        <p:nvSpPr>
          <p:cNvPr id="265" name="7-конечная звезда 4"/>
          <p:cNvSpPr/>
          <p:nvPr/>
        </p:nvSpPr>
        <p:spPr>
          <a:xfrm>
            <a:off x="6443640" y="0"/>
            <a:ext cx="2700360" cy="2200320"/>
          </a:xfrm>
          <a:prstGeom prst="pi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Необмежена кількість проекті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2" descr=""/>
          <p:cNvPicPr/>
          <p:nvPr/>
        </p:nvPicPr>
        <p:blipFill>
          <a:blip r:embed="rId2"/>
          <a:stretch/>
        </p:blipFill>
        <p:spPr>
          <a:xfrm>
            <a:off x="835200" y="-6480"/>
            <a:ext cx="8315280" cy="115884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golovna.JPG"/>
          <p:cNvPicPr/>
          <p:nvPr/>
        </p:nvPicPr>
        <p:blipFill>
          <a:blip r:embed="rId3"/>
          <a:stretch/>
        </p:blipFill>
        <p:spPr>
          <a:xfrm>
            <a:off x="285840" y="150012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2"/>
          <a:stretch/>
        </p:blipFill>
        <p:spPr>
          <a:xfrm>
            <a:off x="1279440" y="244440"/>
            <a:ext cx="7346880" cy="773280"/>
          </a:xfrm>
          <a:prstGeom prst="rect">
            <a:avLst/>
          </a:prstGeom>
          <a:ln w="0">
            <a:noFill/>
          </a:ln>
        </p:spPr>
      </p:pic>
      <p:pic>
        <p:nvPicPr>
          <p:cNvPr id="269" name="Схема 4" descr=""/>
          <p:cNvPicPr/>
          <p:nvPr/>
        </p:nvPicPr>
        <p:blipFill>
          <a:blip r:embed="rId3"/>
          <a:stretch/>
        </p:blipFill>
        <p:spPr>
          <a:xfrm>
            <a:off x="195120" y="1054080"/>
            <a:ext cx="8753760" cy="553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1243080" y="244440"/>
            <a:ext cx="7419960" cy="773280"/>
          </a:xfrm>
          <a:prstGeom prst="rect">
            <a:avLst/>
          </a:prstGeom>
          <a:ln w="0">
            <a:noFill/>
          </a:ln>
        </p:spPr>
      </p:pic>
      <p:pic>
        <p:nvPicPr>
          <p:cNvPr id="271" name="Схема 4" descr=""/>
          <p:cNvPicPr/>
          <p:nvPr/>
        </p:nvPicPr>
        <p:blipFill>
          <a:blip r:embed="rId3"/>
          <a:stretch/>
        </p:blipFill>
        <p:spPr>
          <a:xfrm>
            <a:off x="195120" y="1054080"/>
            <a:ext cx="8753760" cy="553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2"/>
          <a:stretch/>
        </p:blipFill>
        <p:spPr>
          <a:xfrm>
            <a:off x="633240" y="195120"/>
            <a:ext cx="8066160" cy="5367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" descr="zakony.JPG"/>
          <p:cNvPicPr/>
          <p:nvPr/>
        </p:nvPicPr>
        <p:blipFill>
          <a:blip r:embed="rId3"/>
          <a:stretch/>
        </p:blipFill>
        <p:spPr>
          <a:xfrm>
            <a:off x="285840" y="1185840"/>
            <a:ext cx="8799480" cy="431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2"/>
          <a:stretch/>
        </p:blipFill>
        <p:spPr>
          <a:xfrm>
            <a:off x="781200" y="208080"/>
            <a:ext cx="7991280" cy="9507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2" descr="kalendar.JPG"/>
          <p:cNvPicPr/>
          <p:nvPr/>
        </p:nvPicPr>
        <p:blipFill>
          <a:blip r:embed="rId3"/>
          <a:stretch/>
        </p:blipFill>
        <p:spPr>
          <a:xfrm>
            <a:off x="214200" y="1357200"/>
            <a:ext cx="8744040" cy="490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9:44:45Z</dcterms:created>
  <dc:creator>User</dc:creator>
  <dc:description/>
  <dc:language>en-US</dc:language>
  <cp:lastModifiedBy>I Am</cp:lastModifiedBy>
  <dcterms:modified xsi:type="dcterms:W3CDTF">2011-11-23T12:12:49Z</dcterms:modified>
  <cp:revision>223</cp:revision>
  <dc:subject/>
  <dc:title>PowerPoint Template</dc:title>
</cp:coreProperties>
</file>