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951663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9516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936960" y="0"/>
            <a:ext cx="301320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55440" y="755640"/>
            <a:ext cx="504036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0" y="9575280"/>
            <a:ext cx="3013200" cy="505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936960" y="9575280"/>
            <a:ext cx="3013200" cy="505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649-0714-4717-B65A-5B18CFBD6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645A-BD35-4577-8F9E-66DE208EB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 кожної групи є своє власне меню: завдання, календарі, обговорення, звіти і т.п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7323-C814-4B2E-B5D5-91ABBF680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ьогодні для розвитку медичної галузі перед чиновниками та медичною спільнотою стоять такі завд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77B9-CF64-4C2A-A4DC-6B89F9743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ля виконання вказаних завдань у реаліях сучасності потрібна повна інформатизація процесів. Її реалізацію здатен виконувати спеціалізований інформаційний портал. Це закрита система для авторизованих учасникі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BCA-F9BF-4DF9-BE98-209499223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і функції можна використовувати до необмеженої кількості проектів різних напрямкі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3374-A3F2-4CD5-9369-7A042FF5B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дним із найголовніших завдань на сьогодні є реформування медичної галузі. Саме для ефективної його реалізації найоптимальніше підходить система внутрішнього портал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164C-BB3D-414D-BB03-9FB5DA8D1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0CA4-2289-43D9-AF1D-E41742B52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377-40F7-484B-8C9F-1BB4FB14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CE8-01A0-46EF-87D7-9F51FF5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033-FB39-4C12-A869-BB853FFE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EA5-877E-4AAA-B9F3-A04A838B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6827-71FA-4DDD-87E6-C80BBF04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F8BB-ECC2-444D-91CB-9C72B629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EEA8-4E93-4734-A10B-61318D00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4B60-31AD-4839-9D5B-A20528C3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1FD-076A-4D9C-BAE3-34FF6904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EFA-7942-45FD-90E9-B7ECD9A6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C7AD-80E8-45E9-888C-1F69CFC1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DF2-55D4-43AE-8F73-F13F4F80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B2D7-91C0-49C3-851B-30C9F26F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8473-A8F3-4140-A654-867862BE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2DFC-0B17-4A9A-B85C-40EE79E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231F-8B69-40EE-B156-8BE97836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FB3F-A4A2-4E6A-8A8C-79103B21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203E-53B1-4BC7-B8D1-92FAB4BA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9F74-9901-48C3-8FC2-97B6C8AA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1D5A-6D15-486F-B075-DDCD4C5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4083-982A-4C1A-8125-661EE6B2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C4FE-B8B4-4ED2-AE88-A46F95AC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94B-249F-43A3-ACCE-640E0D36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BAFB-835E-48C7-9014-54713106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87B7-B39F-4836-948B-3D091C3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0CC6D-678B-4073-8D56-0B648E3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91ED-4243-4CAA-BF7B-56294D3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C4D0-0CDA-417B-881F-6544AC81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10EE-CDEE-44D4-9BB8-AEC2E1CD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3E1C-AA3D-42C3-A5D1-D689DC93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D02B-5131-4B61-A0E6-5BA0730E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DA3B8-AA99-4C87-9409-CD394E8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B6D5-656C-4F9D-85B8-EE6E6E4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F24-7864-4634-8F36-72A3F300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DDA1-51BA-41D1-BC85-187ADE90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F6BA-04D7-479A-8041-02E803E9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E5C2-BED1-47FA-A7BA-574838FF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F34B-A562-41CD-B255-417C604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532D-FC71-4460-B1D4-4064A06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F9DB-B73F-453C-881A-638CF79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71B9-112A-42D1-B874-4041FB12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9F8A-16CB-497A-92AE-3CE41DC8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77BA-2E01-495C-9337-FA1336F3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54D8B-24FA-4B92-BC94-C0128FF0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FEB-ADDB-415C-BD4C-390032E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C2A8-5A4A-4AE6-BC96-BE31A42E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627B-23EF-47DC-BB67-C69F5BC9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43DC-745F-44E6-8896-A796B7D1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47BA-FC37-460D-9806-7D98FC3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4612F-BA8D-459B-8107-D7F6A8F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0AACD-749C-48CC-A524-196BFA9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FDF0E-0D4A-473B-8074-C58166CF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7517-87BE-441F-9CEF-EEF030D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A0A9-5EDA-40F6-ACAD-A28E46AA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45FB8-F0C4-4C6F-AA50-2720F74F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318-14A6-46DC-89AB-36797783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4ABFC-DA14-4CDB-B9CA-C1A4BDF9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6C9-6819-4B6E-AA57-83DB803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30C-C85C-4A72-9B36-A9DFA6C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862-C87C-4E33-BDB7-C5C5A5EA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716-4044-4A07-BDF8-664723736B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16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65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B960-D039-4669-9EF5-705E857C84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119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F42F-604F-48C8-955F-1ED7B5948A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ECA0-B879-4B79-883C-C07E43C14D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3"/>
          <p:cNvSpPr/>
          <p:nvPr/>
        </p:nvSpPr>
        <p:spPr>
          <a:xfrm>
            <a:off x="0" y="0"/>
            <a:ext cx="9144000" cy="256536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1A5B-09BD-4D64-B9DF-1CE04B1C66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хема 2" descr=""/>
          <p:cNvPicPr/>
          <p:nvPr/>
        </p:nvPicPr>
        <p:blipFill>
          <a:blip r:embed="rId2"/>
          <a:stretch/>
        </p:blipFill>
        <p:spPr>
          <a:xfrm>
            <a:off x="523800" y="1835280"/>
            <a:ext cx="8096400" cy="213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369280" cy="7257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zadachi.JPG"/>
          <p:cNvPicPr/>
          <p:nvPr/>
        </p:nvPicPr>
        <p:blipFill>
          <a:blip r:embed="rId3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4" descr="zadachi2.JPG"/>
          <p:cNvPicPr/>
          <p:nvPr/>
        </p:nvPicPr>
        <p:blipFill>
          <a:blip r:embed="rId4"/>
          <a:stretch/>
        </p:blipFill>
        <p:spPr>
          <a:xfrm>
            <a:off x="5991120" y="785880"/>
            <a:ext cx="3152880" cy="577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369280" cy="725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videokonf1.JPG"/>
          <p:cNvPicPr/>
          <p:nvPr/>
        </p:nvPicPr>
        <p:blipFill>
          <a:blip r:embed="rId3"/>
          <a:stretch/>
        </p:blipFill>
        <p:spPr>
          <a:xfrm>
            <a:off x="571680" y="1000080"/>
            <a:ext cx="8358120" cy="564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2"/>
          <a:stretch/>
        </p:blipFill>
        <p:spPr>
          <a:xfrm>
            <a:off x="1133640" y="36360"/>
            <a:ext cx="7565760" cy="695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grupa.JPG"/>
          <p:cNvPicPr/>
          <p:nvPr/>
        </p:nvPicPr>
        <p:blipFill>
          <a:blip r:embed="rId3"/>
          <a:stretch/>
        </p:blipFill>
        <p:spPr>
          <a:xfrm>
            <a:off x="714240" y="1000080"/>
            <a:ext cx="8072640" cy="531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500040" y="285840"/>
            <a:ext cx="80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Користувачі порт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Овал 4"/>
          <p:cNvGrpSpPr/>
          <p:nvPr/>
        </p:nvGrpSpPr>
        <p:grpSpPr>
          <a:xfrm>
            <a:off x="622440" y="2620800"/>
            <a:ext cx="2333520" cy="1159200"/>
            <a:chOff x="622440" y="2620800"/>
            <a:chExt cx="2333520" cy="1159200"/>
          </a:xfrm>
        </p:grpSpPr>
        <p:pic>
          <p:nvPicPr>
            <p:cNvPr id="285" name="Овал 4" descr=""/>
            <p:cNvPicPr/>
            <p:nvPr/>
          </p:nvPicPr>
          <p:blipFill>
            <a:blip r:embed="rId2"/>
            <a:stretch/>
          </p:blipFill>
          <p:spPr>
            <a:xfrm>
              <a:off x="622440" y="2620800"/>
              <a:ext cx="233352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2960" y="2639880"/>
              <a:ext cx="23032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Медичні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праців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Овал 4"/>
          <p:cNvGrpSpPr/>
          <p:nvPr/>
        </p:nvGrpSpPr>
        <p:grpSpPr>
          <a:xfrm>
            <a:off x="3402000" y="1298520"/>
            <a:ext cx="2333520" cy="1158840"/>
            <a:chOff x="3402000" y="1298520"/>
            <a:chExt cx="2333520" cy="1158840"/>
          </a:xfrm>
        </p:grpSpPr>
        <p:pic>
          <p:nvPicPr>
            <p:cNvPr id="288" name="Овал 4" descr=""/>
            <p:cNvPicPr/>
            <p:nvPr/>
          </p:nvPicPr>
          <p:blipFill>
            <a:blip r:embed="rId3"/>
            <a:stretch/>
          </p:blipFill>
          <p:spPr>
            <a:xfrm>
              <a:off x="3402000" y="1298520"/>
              <a:ext cx="2333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422520" y="1319040"/>
              <a:ext cx="23050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Посадовці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Овал 4"/>
          <p:cNvGrpSpPr/>
          <p:nvPr/>
        </p:nvGrpSpPr>
        <p:grpSpPr>
          <a:xfrm>
            <a:off x="804960" y="5010120"/>
            <a:ext cx="2334960" cy="1158840"/>
            <a:chOff x="804960" y="5010120"/>
            <a:chExt cx="2334960" cy="1158840"/>
          </a:xfrm>
        </p:grpSpPr>
        <p:pic>
          <p:nvPicPr>
            <p:cNvPr id="291" name="Овал 4" descr=""/>
            <p:cNvPicPr/>
            <p:nvPr/>
          </p:nvPicPr>
          <p:blipFill>
            <a:blip r:embed="rId4"/>
            <a:stretch/>
          </p:blipFill>
          <p:spPr>
            <a:xfrm>
              <a:off x="804960" y="5010120"/>
              <a:ext cx="2334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20800" y="5030640"/>
              <a:ext cx="230508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Науковці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методи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Овал 4"/>
          <p:cNvGrpSpPr/>
          <p:nvPr/>
        </p:nvGrpSpPr>
        <p:grpSpPr>
          <a:xfrm>
            <a:off x="6229440" y="4937040"/>
            <a:ext cx="2334960" cy="1158840"/>
            <a:chOff x="6229440" y="4937040"/>
            <a:chExt cx="2334960" cy="1158840"/>
          </a:xfrm>
        </p:grpSpPr>
        <p:pic>
          <p:nvPicPr>
            <p:cNvPr id="294" name="Овал 4" descr=""/>
            <p:cNvPicPr/>
            <p:nvPr/>
          </p:nvPicPr>
          <p:blipFill>
            <a:blip r:embed="rId5"/>
            <a:stretch/>
          </p:blipFill>
          <p:spPr>
            <a:xfrm>
              <a:off x="6229440" y="4937040"/>
              <a:ext cx="2334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248520" y="4959360"/>
              <a:ext cx="230328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Експе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Схема 31" descr=""/>
          <p:cNvPicPr/>
          <p:nvPr/>
        </p:nvPicPr>
        <p:blipFill>
          <a:blip r:embed="rId6"/>
          <a:stretch/>
        </p:blipFill>
        <p:spPr>
          <a:xfrm>
            <a:off x="420840" y="1206360"/>
            <a:ext cx="8094600" cy="52308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4"/>
          <p:cNvSpPr/>
          <p:nvPr/>
        </p:nvSpPr>
        <p:spPr>
          <a:xfrm>
            <a:off x="5857920" y="2428920"/>
            <a:ext cx="141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Ч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робоч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гр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6"/>
          <p:cNvSpPr/>
          <p:nvPr/>
        </p:nvSpPr>
        <p:spPr>
          <a:xfrm>
            <a:off x="1256400" y="228600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Експ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раці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рес-служ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Майбутнє п</a:t>
            </a:r>
            <a:r>
              <a:rPr b="0" lang="ru-RU" sz="3600" spc="-1" strike="noStrike">
                <a:solidFill>
                  <a:srgbClr val="0b5395"/>
                </a:solidFill>
                <a:latin typeface="Calibri"/>
              </a:rPr>
              <a:t>ортал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Содержимое 4" descr=""/>
          <p:cNvPicPr/>
          <p:nvPr/>
        </p:nvPicPr>
        <p:blipFill>
          <a:blip r:embed="rId2"/>
          <a:stretch/>
        </p:blipFill>
        <p:spPr>
          <a:xfrm>
            <a:off x="407880" y="981000"/>
            <a:ext cx="8394840" cy="559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2"/>
          <a:stretch/>
        </p:blipFill>
        <p:spPr>
          <a:xfrm>
            <a:off x="493560" y="2639880"/>
            <a:ext cx="8242560" cy="115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0"/>
            <a:ext cx="79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            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Завдання медичної галуз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Схема 3" descr=""/>
          <p:cNvPicPr/>
          <p:nvPr/>
        </p:nvPicPr>
        <p:blipFill>
          <a:blip r:embed="rId2"/>
          <a:stretch/>
        </p:blipFill>
        <p:spPr>
          <a:xfrm>
            <a:off x="268200" y="781200"/>
            <a:ext cx="8882280" cy="5540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571920" y="2928960"/>
            <a:ext cx="186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Облік хвор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профіль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реєс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6424920" y="2714760"/>
            <a:ext cx="236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учасні мет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ікув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елемедиц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іддал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сультації та п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3" descr=""/>
          <p:cNvPicPr/>
          <p:nvPr/>
        </p:nvPicPr>
        <p:blipFill>
          <a:blip r:embed="rId2"/>
          <a:stretch/>
        </p:blipFill>
        <p:spPr>
          <a:xfrm>
            <a:off x="781200" y="-92160"/>
            <a:ext cx="797220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Схема 4" descr=""/>
          <p:cNvPicPr/>
          <p:nvPr/>
        </p:nvPicPr>
        <p:blipFill>
          <a:blip r:embed="rId3"/>
          <a:stretch/>
        </p:blipFill>
        <p:spPr>
          <a:xfrm>
            <a:off x="341280" y="1390680"/>
            <a:ext cx="8394840" cy="407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920960" y="-6480"/>
            <a:ext cx="5302080" cy="725760"/>
          </a:xfrm>
          <a:prstGeom prst="rect">
            <a:avLst/>
          </a:prstGeom>
          <a:ln w="0">
            <a:noFill/>
          </a:ln>
        </p:spPr>
      </p:pic>
      <p:pic>
        <p:nvPicPr>
          <p:cNvPr id="264" name="Схема 2" descr=""/>
          <p:cNvPicPr/>
          <p:nvPr/>
        </p:nvPicPr>
        <p:blipFill>
          <a:blip r:embed="rId3"/>
          <a:stretch/>
        </p:blipFill>
        <p:spPr>
          <a:xfrm>
            <a:off x="353880" y="1352520"/>
            <a:ext cx="8369280" cy="5267520"/>
          </a:xfrm>
          <a:prstGeom prst="rect">
            <a:avLst/>
          </a:prstGeom>
          <a:ln w="0">
            <a:noFill/>
          </a:ln>
        </p:spPr>
      </p:pic>
      <p:sp>
        <p:nvSpPr>
          <p:cNvPr id="265" name="7-конечная звезда 4"/>
          <p:cNvSpPr/>
          <p:nvPr/>
        </p:nvSpPr>
        <p:spPr>
          <a:xfrm>
            <a:off x="6443640" y="0"/>
            <a:ext cx="2700360" cy="2200320"/>
          </a:xfrm>
          <a:prstGeom prst="pi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Необмежена кількість проекті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2" descr=""/>
          <p:cNvPicPr/>
          <p:nvPr/>
        </p:nvPicPr>
        <p:blipFill>
          <a:blip r:embed="rId2"/>
          <a:stretch/>
        </p:blipFill>
        <p:spPr>
          <a:xfrm>
            <a:off x="835200" y="-6480"/>
            <a:ext cx="8315280" cy="11588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golovna.JPG"/>
          <p:cNvPicPr/>
          <p:nvPr/>
        </p:nvPicPr>
        <p:blipFill>
          <a:blip r:embed="rId3"/>
          <a:stretch/>
        </p:blipFill>
        <p:spPr>
          <a:xfrm>
            <a:off x="285840" y="150012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2"/>
          <a:stretch/>
        </p:blipFill>
        <p:spPr>
          <a:xfrm>
            <a:off x="1279440" y="244440"/>
            <a:ext cx="7346880" cy="773280"/>
          </a:xfrm>
          <a:prstGeom prst="rect">
            <a:avLst/>
          </a:prstGeom>
          <a:ln w="0">
            <a:noFill/>
          </a:ln>
        </p:spPr>
      </p:pic>
      <p:pic>
        <p:nvPicPr>
          <p:cNvPr id="269" name="Схема 4" descr=""/>
          <p:cNvPicPr/>
          <p:nvPr/>
        </p:nvPicPr>
        <p:blipFill>
          <a:blip r:embed="rId3"/>
          <a:stretch/>
        </p:blipFill>
        <p:spPr>
          <a:xfrm>
            <a:off x="195120" y="1054080"/>
            <a:ext cx="8753760" cy="553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1243080" y="244440"/>
            <a:ext cx="7419960" cy="773280"/>
          </a:xfrm>
          <a:prstGeom prst="rect">
            <a:avLst/>
          </a:prstGeom>
          <a:ln w="0">
            <a:noFill/>
          </a:ln>
        </p:spPr>
      </p:pic>
      <p:pic>
        <p:nvPicPr>
          <p:cNvPr id="271" name="Схема 4" descr=""/>
          <p:cNvPicPr/>
          <p:nvPr/>
        </p:nvPicPr>
        <p:blipFill>
          <a:blip r:embed="rId3"/>
          <a:stretch/>
        </p:blipFill>
        <p:spPr>
          <a:xfrm>
            <a:off x="195120" y="1054080"/>
            <a:ext cx="8753760" cy="553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633240" y="195120"/>
            <a:ext cx="8066160" cy="5367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zakony.JPG"/>
          <p:cNvPicPr/>
          <p:nvPr/>
        </p:nvPicPr>
        <p:blipFill>
          <a:blip r:embed="rId3"/>
          <a:stretch/>
        </p:blipFill>
        <p:spPr>
          <a:xfrm>
            <a:off x="285840" y="1185840"/>
            <a:ext cx="8799480" cy="431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781200" y="208080"/>
            <a:ext cx="7991280" cy="9507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" descr="kalendar.JPG"/>
          <p:cNvPicPr/>
          <p:nvPr/>
        </p:nvPicPr>
        <p:blipFill>
          <a:blip r:embed="rId3"/>
          <a:stretch/>
        </p:blipFill>
        <p:spPr>
          <a:xfrm>
            <a:off x="214200" y="1357200"/>
            <a:ext cx="8744040" cy="490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9:44:45Z</dcterms:created>
  <dc:creator>User</dc:creator>
  <dc:description/>
  <dc:language>en-US</dc:language>
  <cp:lastModifiedBy>I Am</cp:lastModifiedBy>
  <dcterms:modified xsi:type="dcterms:W3CDTF">2011-11-23T12:12:49Z</dcterms:modified>
  <cp:revision>223</cp:revision>
  <dc:subject/>
  <dc:title>PowerPoint Template</dc:title>
</cp:coreProperties>
</file>