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6.jpeg" ContentType="image/jpeg"/>
  <Override PartName="/ppt/media/image5.jpeg" ContentType="image/jpeg"/>
  <Override PartName="/ppt/media/image6.png" ContentType="image/png"/>
  <Override PartName="/ppt/media/image31.png" ContentType="image/png"/>
  <Override PartName="/ppt/media/image21.jpeg" ContentType="image/jpeg"/>
  <Override PartName="/ppt/media/image29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951663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6951600" cy="100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504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6"/>
          </p:nvPr>
        </p:nvSpPr>
        <p:spPr>
          <a:xfrm>
            <a:off x="3936960" y="0"/>
            <a:ext cx="3013200" cy="504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Img"/>
          </p:nvPr>
        </p:nvSpPr>
        <p:spPr>
          <a:xfrm>
            <a:off x="955440" y="755640"/>
            <a:ext cx="5040360" cy="37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body"/>
          </p:nvPr>
        </p:nvSpPr>
        <p:spPr>
          <a:xfrm>
            <a:off x="695160" y="4789080"/>
            <a:ext cx="5561280" cy="4537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17"/>
          </p:nvPr>
        </p:nvSpPr>
        <p:spPr>
          <a:xfrm>
            <a:off x="0" y="9575280"/>
            <a:ext cx="3013200" cy="505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18"/>
          </p:nvPr>
        </p:nvSpPr>
        <p:spPr>
          <a:xfrm>
            <a:off x="3936960" y="9575280"/>
            <a:ext cx="3013200" cy="505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A007-C936-4D2C-B43A-27D05A2A30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55800" y="755640"/>
            <a:ext cx="5040360" cy="3781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789080"/>
            <a:ext cx="55612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Номер слайда 3"/>
          <p:cNvSpPr/>
          <p:nvPr/>
        </p:nvSpPr>
        <p:spPr>
          <a:xfrm>
            <a:off x="3936960" y="9575640"/>
            <a:ext cx="3013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F33F-C1EE-44DC-8BBF-AE8E3C7F93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55800" y="755640"/>
            <a:ext cx="5040360" cy="3781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789080"/>
            <a:ext cx="5561280" cy="4537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У кожної групи є своє власне меню: завдання, календарі, обговорення, звіти і т.п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Номер слайда 3"/>
          <p:cNvSpPr/>
          <p:nvPr/>
        </p:nvSpPr>
        <p:spPr>
          <a:xfrm>
            <a:off x="3936960" y="9575640"/>
            <a:ext cx="3013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1427-0251-4EBB-9E5A-0DEBF435E0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55800" y="755640"/>
            <a:ext cx="5040360" cy="37814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95160" y="4789080"/>
            <a:ext cx="5561280" cy="4537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ьогодні для розвитку медичної галузі перед чиновниками та медичною спільнотою стоять такі завда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936960" y="9575640"/>
            <a:ext cx="3013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F95B-53EB-4A8C-884E-55A87F96D3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55800" y="755640"/>
            <a:ext cx="5040360" cy="37814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95160" y="4789080"/>
            <a:ext cx="5561280" cy="4537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ля виконання вказаних завдань у реаліях сучасності потрібна повна інформатизація процесів. Її реалізацію здатен виконувати спеціалізований інформаційний портал. Це закрита система для авторизованих учасників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Номер слайда 3"/>
          <p:cNvSpPr/>
          <p:nvPr/>
        </p:nvSpPr>
        <p:spPr>
          <a:xfrm>
            <a:off x="3936960" y="9575640"/>
            <a:ext cx="3013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A9FE-AC82-472F-B0BC-18988F23E2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55800" y="755640"/>
            <a:ext cx="5040360" cy="37814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95160" y="4789080"/>
            <a:ext cx="5561280" cy="4537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Ці функції можна використовувати до необмеженої кількості проектів різних напрямків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936960" y="9575640"/>
            <a:ext cx="3013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D7C0-F13B-42B1-AE6C-F1DE35033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55800" y="755640"/>
            <a:ext cx="5040360" cy="37814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95160" y="4789080"/>
            <a:ext cx="5561280" cy="4537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дним із найголовніших завдань на сьогодні є реформування медичної галузі. Саме для ефективної його реалізації найоптимальніше підходить система внутрішнього порталу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936960" y="9575640"/>
            <a:ext cx="3013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9021-1085-4E28-B478-7C54D53595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55800" y="755640"/>
            <a:ext cx="5040360" cy="3781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789080"/>
            <a:ext cx="55612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936960" y="9575640"/>
            <a:ext cx="3013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7ACA-3BAE-4D65-9BB5-2ABDABDB34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D264-3E63-4B1F-8056-AD26CE0E0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0C04-D265-4CD7-9FD0-BD1BE204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318A-FAE8-4BE3-97C2-4A44964ED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46E2-AB30-44E8-A5EC-C91C33C91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E685-A162-4FEE-AFE9-FC728EAF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4380-CC67-4EC5-9032-E10AA452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3EB79-3AB8-41D7-A058-D445600D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7ABB-5D4A-40FA-A7F2-28C14E32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DD43-77C3-4376-81D7-72728E48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4052-5915-4D6F-B163-A56A4A18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3879B-D9DB-4AC8-809E-889314F4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5566-24F1-4B1A-9B51-E8E491CB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7985-6640-4453-9A5C-FDF596A7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F9D3-4DC2-4286-B18A-21053815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172F-4DF4-47B7-BB2F-BDFDC617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9B9FC-AF69-40A6-898A-0D0D9674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C504-DACA-48EF-AA1D-183919CE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36419-B859-4CDB-9E23-49BFA33DE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73D5E-7D9B-45D2-9820-FDF03B96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DAA20-F02E-43D5-8D2D-ECD2B66D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CAD4A-F652-45B7-B181-FAFA66E8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9AA41-3DD3-40B5-ABC8-40798E9A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B99C-2F2E-4337-AF20-3A5351D9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928B6-E355-448D-9078-D572F8C5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827BC-942E-463D-84B2-20703AED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915F9-2E78-493B-AC3E-8991E295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79463-2C3F-44B7-826A-711A29BC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F5D37-831C-48EB-AD90-31B98642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7F192-3ACB-4D2B-A0D0-49608137B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32C73-4885-4D33-BB1C-D48F2E01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B9467-C1EB-429A-98E3-897B3F99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23D4B-945F-4B95-90B5-8D8BCCA8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0FB63-0DF2-4F5F-943A-1A8C30B5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1874-8E53-4F55-8AA4-F9CB87E5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84F9E-448C-43F4-8D3A-A9FC9782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6C286-F1E7-4B2F-BBB6-A02A16AA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C3DEB-3ABE-4F32-B320-EF0E7DE3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7D7CD-5464-492B-91DC-64239FF8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4F970-A4A6-413A-880A-2EE88A7E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23BDA-EC9A-4475-9F7A-9C8354B8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065C0-9678-4C9A-AB2B-D6CA0F42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CE307-E18F-416B-AD45-688F845E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84E11-A2BB-4EAA-98A3-BA650CA0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08FE1-C722-4C7F-A3B6-12E26FF9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083A-CAD5-40D6-A569-720E2F5D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A8FA1-0C4A-4620-818E-EC9CA5A0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8EE94-CC2D-4096-A78D-72D5656F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5B012-44E9-42A7-8FAF-3C8D7461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785CE-C31B-4EC8-872D-440CEF0F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4742A-8821-4E96-A661-646468DC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C05E8-D1EE-4DB9-AA09-3D280F9A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C604E-F0CE-42CF-8CE1-719671E7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E22DF-6CD3-419E-8118-B534B175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B9C97-EBF4-418D-8DDB-96A24599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BD91B-5D17-45BD-B8F4-CA559D11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0C19-38CD-4065-846A-B8666F59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72BF8-801B-46EF-9B1D-79B6ED533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7EAC-CB40-49ED-87F5-ABE42484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90B8-88BF-44D9-88E7-80373584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8F5A-8262-42C4-9718-5DC88365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F712-0AC2-452C-8164-F8C2021D6E4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Rectangle 28"/>
          <p:cNvSpPr/>
          <p:nvPr/>
        </p:nvSpPr>
        <p:spPr>
          <a:xfrm>
            <a:off x="0" y="0"/>
            <a:ext cx="9144000" cy="2852640"/>
          </a:xfrm>
          <a:prstGeom prst="rect">
            <a:avLst/>
          </a:prstGeom>
          <a:gradFill rotWithShape="0">
            <a:gsLst>
              <a:gs pos="0">
                <a:srgbClr val="ccecff">
                  <a:alpha val="4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Rectangle 30"/>
          <p:cNvGrpSpPr/>
          <p:nvPr/>
        </p:nvGrpSpPr>
        <p:grpSpPr>
          <a:xfrm>
            <a:off x="-6480" y="1262160"/>
            <a:ext cx="9156960" cy="5602320"/>
            <a:chOff x="-6480" y="1262160"/>
            <a:chExt cx="9156960" cy="5602320"/>
          </a:xfrm>
        </p:grpSpPr>
        <p:pic>
          <p:nvPicPr>
            <p:cNvPr id="16" name="Rectangle 30" descr=""/>
            <p:cNvPicPr/>
            <p:nvPr/>
          </p:nvPicPr>
          <p:blipFill>
            <a:blip r:embed="rId5"/>
            <a:stretch/>
          </p:blipFill>
          <p:spPr>
            <a:xfrm>
              <a:off x="-6480" y="1262160"/>
              <a:ext cx="9156960" cy="560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"/>
            <p:cNvSpPr/>
            <p:nvPr/>
          </p:nvSpPr>
          <p:spPr>
            <a:xfrm>
              <a:off x="0" y="1270080"/>
              <a:ext cx="9144000" cy="55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7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8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61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" name="Rectangle 28"/>
          <p:cNvSpPr/>
          <p:nvPr/>
        </p:nvSpPr>
        <p:spPr>
          <a:xfrm>
            <a:off x="0" y="0"/>
            <a:ext cx="9144000" cy="2852640"/>
          </a:xfrm>
          <a:prstGeom prst="rect">
            <a:avLst/>
          </a:prstGeom>
          <a:gradFill rotWithShape="0">
            <a:gsLst>
              <a:gs pos="0">
                <a:srgbClr val="ccecff">
                  <a:alpha val="47058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Rectangle 30"/>
          <p:cNvGrpSpPr/>
          <p:nvPr/>
        </p:nvGrpSpPr>
        <p:grpSpPr>
          <a:xfrm>
            <a:off x="-6480" y="1262160"/>
            <a:ext cx="9156960" cy="5602320"/>
            <a:chOff x="-6480" y="1262160"/>
            <a:chExt cx="9156960" cy="5602320"/>
          </a:xfrm>
        </p:grpSpPr>
        <p:pic>
          <p:nvPicPr>
            <p:cNvPr id="65" name="Rectangle 30" descr=""/>
            <p:cNvPicPr/>
            <p:nvPr/>
          </p:nvPicPr>
          <p:blipFill>
            <a:blip r:embed="rId5"/>
            <a:stretch/>
          </p:blipFill>
          <p:spPr>
            <a:xfrm>
              <a:off x="-6480" y="1262160"/>
              <a:ext cx="9156960" cy="560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1270080"/>
              <a:ext cx="9144000" cy="55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B7B5-41AC-4C8F-8100-61FBF23F741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11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12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15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Rectangle 28"/>
          <p:cNvSpPr/>
          <p:nvPr/>
        </p:nvSpPr>
        <p:spPr>
          <a:xfrm>
            <a:off x="0" y="0"/>
            <a:ext cx="9144000" cy="2852640"/>
          </a:xfrm>
          <a:prstGeom prst="rect">
            <a:avLst/>
          </a:prstGeom>
          <a:gradFill rotWithShape="0">
            <a:gsLst>
              <a:gs pos="0">
                <a:srgbClr val="ccecff">
                  <a:alpha val="47058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Rectangle 30"/>
          <p:cNvGrpSpPr/>
          <p:nvPr/>
        </p:nvGrpSpPr>
        <p:grpSpPr>
          <a:xfrm>
            <a:off x="-6480" y="1262160"/>
            <a:ext cx="9156960" cy="5602320"/>
            <a:chOff x="-6480" y="1262160"/>
            <a:chExt cx="9156960" cy="5602320"/>
          </a:xfrm>
        </p:grpSpPr>
        <p:pic>
          <p:nvPicPr>
            <p:cNvPr id="119" name="Rectangle 30" descr=""/>
            <p:cNvPicPr/>
            <p:nvPr/>
          </p:nvPicPr>
          <p:blipFill>
            <a:blip r:embed="rId5"/>
            <a:stretch/>
          </p:blipFill>
          <p:spPr>
            <a:xfrm>
              <a:off x="-6480" y="1262160"/>
              <a:ext cx="9156960" cy="560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0" y="1270080"/>
              <a:ext cx="9144000" cy="55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05FF-1E32-4F2F-A58F-1D1F70D092E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024F-255D-41B8-B479-513FD9525E6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3"/>
          <p:cNvSpPr/>
          <p:nvPr/>
        </p:nvSpPr>
        <p:spPr>
          <a:xfrm>
            <a:off x="0" y="0"/>
            <a:ext cx="9144000" cy="2565360"/>
          </a:xfrm>
          <a:prstGeom prst="rect">
            <a:avLst/>
          </a:prstGeom>
          <a:gradFill rotWithShape="0">
            <a:gsLst>
              <a:gs pos="0">
                <a:srgbClr val="ccecff">
                  <a:alpha val="4705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519D-99FA-4CF1-8457-C429A8B4B1A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Схема 2" descr=""/>
          <p:cNvPicPr/>
          <p:nvPr/>
        </p:nvPicPr>
        <p:blipFill>
          <a:blip r:embed="rId2"/>
          <a:stretch/>
        </p:blipFill>
        <p:spPr>
          <a:xfrm>
            <a:off x="523800" y="1835280"/>
            <a:ext cx="8096400" cy="2139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2"/>
          <a:stretch/>
        </p:blipFill>
        <p:spPr>
          <a:xfrm>
            <a:off x="781200" y="-6480"/>
            <a:ext cx="8369280" cy="72576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2" descr="zadachi.JPG"/>
          <p:cNvPicPr/>
          <p:nvPr/>
        </p:nvPicPr>
        <p:blipFill>
          <a:blip r:embed="rId3"/>
          <a:stretch/>
        </p:blipFill>
        <p:spPr>
          <a:xfrm>
            <a:off x="0" y="1071720"/>
            <a:ext cx="9144000" cy="578628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4" descr="zadachi2.JPG"/>
          <p:cNvPicPr/>
          <p:nvPr/>
        </p:nvPicPr>
        <p:blipFill>
          <a:blip r:embed="rId4"/>
          <a:stretch/>
        </p:blipFill>
        <p:spPr>
          <a:xfrm>
            <a:off x="5991120" y="785880"/>
            <a:ext cx="3152880" cy="5772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Заголовок 1" descr=""/>
          <p:cNvPicPr/>
          <p:nvPr/>
        </p:nvPicPr>
        <p:blipFill>
          <a:blip r:embed="rId2"/>
          <a:stretch/>
        </p:blipFill>
        <p:spPr>
          <a:xfrm>
            <a:off x="781200" y="-6480"/>
            <a:ext cx="8369280" cy="72576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4" descr="videokonf1.JPG"/>
          <p:cNvPicPr/>
          <p:nvPr/>
        </p:nvPicPr>
        <p:blipFill>
          <a:blip r:embed="rId3"/>
          <a:stretch/>
        </p:blipFill>
        <p:spPr>
          <a:xfrm>
            <a:off x="571680" y="1000080"/>
            <a:ext cx="8358120" cy="5643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Заголовок 1" descr=""/>
          <p:cNvPicPr/>
          <p:nvPr/>
        </p:nvPicPr>
        <p:blipFill>
          <a:blip r:embed="rId2"/>
          <a:stretch/>
        </p:blipFill>
        <p:spPr>
          <a:xfrm>
            <a:off x="1133640" y="36360"/>
            <a:ext cx="7565760" cy="69552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4" descr="grupa.JPG"/>
          <p:cNvPicPr/>
          <p:nvPr/>
        </p:nvPicPr>
        <p:blipFill>
          <a:blip r:embed="rId3"/>
          <a:stretch/>
        </p:blipFill>
        <p:spPr>
          <a:xfrm>
            <a:off x="714240" y="1000080"/>
            <a:ext cx="8072640" cy="5315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3"/>
          <p:cNvSpPr/>
          <p:nvPr/>
        </p:nvSpPr>
        <p:spPr>
          <a:xfrm>
            <a:off x="500040" y="285840"/>
            <a:ext cx="8064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b5395"/>
                </a:solidFill>
                <a:latin typeface="Calibri"/>
              </a:rPr>
              <a:t>Користувачі портал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Овал 4"/>
          <p:cNvGrpSpPr/>
          <p:nvPr/>
        </p:nvGrpSpPr>
        <p:grpSpPr>
          <a:xfrm>
            <a:off x="622440" y="2620800"/>
            <a:ext cx="2333520" cy="1159200"/>
            <a:chOff x="622440" y="2620800"/>
            <a:chExt cx="2333520" cy="1159200"/>
          </a:xfrm>
        </p:grpSpPr>
        <p:pic>
          <p:nvPicPr>
            <p:cNvPr id="285" name="Овал 4" descr=""/>
            <p:cNvPicPr/>
            <p:nvPr/>
          </p:nvPicPr>
          <p:blipFill>
            <a:blip r:embed="rId2"/>
            <a:stretch/>
          </p:blipFill>
          <p:spPr>
            <a:xfrm>
              <a:off x="622440" y="2620800"/>
              <a:ext cx="2333520" cy="11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642960" y="2639880"/>
              <a:ext cx="230328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520" rIns="11520" tIns="11520" bIns="11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Calibri"/>
                </a:rPr>
                <a:t>Медичні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Calibri"/>
                </a:rPr>
                <a:t>працівни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Овал 4"/>
          <p:cNvGrpSpPr/>
          <p:nvPr/>
        </p:nvGrpSpPr>
        <p:grpSpPr>
          <a:xfrm>
            <a:off x="3402000" y="1298520"/>
            <a:ext cx="2333520" cy="1158840"/>
            <a:chOff x="3402000" y="1298520"/>
            <a:chExt cx="2333520" cy="1158840"/>
          </a:xfrm>
        </p:grpSpPr>
        <p:pic>
          <p:nvPicPr>
            <p:cNvPr id="288" name="Овал 4" descr=""/>
            <p:cNvPicPr/>
            <p:nvPr/>
          </p:nvPicPr>
          <p:blipFill>
            <a:blip r:embed="rId3"/>
            <a:stretch/>
          </p:blipFill>
          <p:spPr>
            <a:xfrm>
              <a:off x="3402000" y="1298520"/>
              <a:ext cx="233352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3422520" y="1319040"/>
              <a:ext cx="2305080" cy="11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520" rIns="11520" tIns="11520" bIns="11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Calibri"/>
                </a:rPr>
                <a:t>Посадовці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Овал 4"/>
          <p:cNvGrpSpPr/>
          <p:nvPr/>
        </p:nvGrpSpPr>
        <p:grpSpPr>
          <a:xfrm>
            <a:off x="804960" y="5010120"/>
            <a:ext cx="2334960" cy="1158840"/>
            <a:chOff x="804960" y="5010120"/>
            <a:chExt cx="2334960" cy="1158840"/>
          </a:xfrm>
        </p:grpSpPr>
        <p:pic>
          <p:nvPicPr>
            <p:cNvPr id="291" name="Овал 4" descr=""/>
            <p:cNvPicPr/>
            <p:nvPr/>
          </p:nvPicPr>
          <p:blipFill>
            <a:blip r:embed="rId4"/>
            <a:stretch/>
          </p:blipFill>
          <p:spPr>
            <a:xfrm>
              <a:off x="804960" y="5010120"/>
              <a:ext cx="23349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820800" y="5030640"/>
              <a:ext cx="2305080" cy="11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520" rIns="11520" tIns="11520" bIns="11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Calibri"/>
                </a:rPr>
                <a:t>Науковці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Calibri"/>
                </a:rPr>
                <a:t>методи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Овал 4"/>
          <p:cNvGrpSpPr/>
          <p:nvPr/>
        </p:nvGrpSpPr>
        <p:grpSpPr>
          <a:xfrm>
            <a:off x="6229440" y="4937040"/>
            <a:ext cx="2334960" cy="1158840"/>
            <a:chOff x="6229440" y="4937040"/>
            <a:chExt cx="2334960" cy="1158840"/>
          </a:xfrm>
        </p:grpSpPr>
        <p:pic>
          <p:nvPicPr>
            <p:cNvPr id="294" name="Овал 4" descr=""/>
            <p:cNvPicPr/>
            <p:nvPr/>
          </p:nvPicPr>
          <p:blipFill>
            <a:blip r:embed="rId5"/>
            <a:stretch/>
          </p:blipFill>
          <p:spPr>
            <a:xfrm>
              <a:off x="6229440" y="4937040"/>
              <a:ext cx="233496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6248520" y="4959360"/>
              <a:ext cx="2303280" cy="11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520" rIns="11520" tIns="11520" bIns="11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Calibri"/>
                </a:rPr>
                <a:t>Експер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6" name="Схема 31" descr=""/>
          <p:cNvPicPr/>
          <p:nvPr/>
        </p:nvPicPr>
        <p:blipFill>
          <a:blip r:embed="rId6"/>
          <a:stretch/>
        </p:blipFill>
        <p:spPr>
          <a:xfrm>
            <a:off x="420840" y="1206360"/>
            <a:ext cx="8094600" cy="5230800"/>
          </a:xfrm>
          <a:prstGeom prst="rect">
            <a:avLst/>
          </a:prstGeom>
          <a:ln w="0">
            <a:noFill/>
          </a:ln>
        </p:spPr>
      </p:pic>
      <p:sp>
        <p:nvSpPr>
          <p:cNvPr id="297" name="TextBox 34"/>
          <p:cNvSpPr/>
          <p:nvPr/>
        </p:nvSpPr>
        <p:spPr>
          <a:xfrm>
            <a:off x="5857920" y="2428920"/>
            <a:ext cx="1417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Чл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робоч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гру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36"/>
          <p:cNvSpPr/>
          <p:nvPr/>
        </p:nvSpPr>
        <p:spPr>
          <a:xfrm>
            <a:off x="1256400" y="2286000"/>
            <a:ext cx="207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Експер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Праців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прес-служ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46800" bIns="0" anchor="b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b5395"/>
                </a:solidFill>
                <a:latin typeface="Calibri"/>
              </a:rPr>
              <a:t>Майбутнє п</a:t>
            </a:r>
            <a:r>
              <a:rPr b="0" lang="ru-RU" sz="3600" spc="-1" strike="noStrike">
                <a:solidFill>
                  <a:srgbClr val="0b5395"/>
                </a:solidFill>
                <a:latin typeface="Calibri"/>
              </a:rPr>
              <a:t>орталу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0" name="Содержимое 4" descr=""/>
          <p:cNvPicPr/>
          <p:nvPr/>
        </p:nvPicPr>
        <p:blipFill>
          <a:blip r:embed="rId2"/>
          <a:stretch/>
        </p:blipFill>
        <p:spPr>
          <a:xfrm>
            <a:off x="407880" y="981000"/>
            <a:ext cx="8394840" cy="5595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2"/>
          <a:stretch/>
        </p:blipFill>
        <p:spPr>
          <a:xfrm>
            <a:off x="493560" y="2639880"/>
            <a:ext cx="8242560" cy="1150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3"/>
          <p:cNvSpPr/>
          <p:nvPr/>
        </p:nvSpPr>
        <p:spPr>
          <a:xfrm>
            <a:off x="0" y="0"/>
            <a:ext cx="7959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b5395"/>
                </a:solidFill>
                <a:latin typeface="Calibri"/>
              </a:rPr>
              <a:t>             </a:t>
            </a:r>
            <a:r>
              <a:rPr b="0" lang="uk-UA" sz="3600" spc="-1" strike="noStrike">
                <a:solidFill>
                  <a:srgbClr val="0b5395"/>
                </a:solidFill>
                <a:latin typeface="Calibri"/>
              </a:rPr>
              <a:t>Завдання медичної галуз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Схема 3" descr=""/>
          <p:cNvPicPr/>
          <p:nvPr/>
        </p:nvPicPr>
        <p:blipFill>
          <a:blip r:embed="rId2"/>
          <a:stretch/>
        </p:blipFill>
        <p:spPr>
          <a:xfrm>
            <a:off x="268200" y="781200"/>
            <a:ext cx="8882280" cy="55404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"/>
          <p:cNvSpPr/>
          <p:nvPr/>
        </p:nvSpPr>
        <p:spPr>
          <a:xfrm>
            <a:off x="3571920" y="2928960"/>
            <a:ext cx="1868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Облік хвори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профіль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реєст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6424920" y="2714760"/>
            <a:ext cx="2364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Сучасні мет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лікуванн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телемедици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іддале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консультації та п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3" descr=""/>
          <p:cNvPicPr/>
          <p:nvPr/>
        </p:nvPicPr>
        <p:blipFill>
          <a:blip r:embed="rId2"/>
          <a:stretch/>
        </p:blipFill>
        <p:spPr>
          <a:xfrm>
            <a:off x="781200" y="-92160"/>
            <a:ext cx="7972200" cy="714600"/>
          </a:xfrm>
          <a:prstGeom prst="rect">
            <a:avLst/>
          </a:prstGeom>
          <a:ln w="0">
            <a:noFill/>
          </a:ln>
        </p:spPr>
      </p:pic>
      <p:pic>
        <p:nvPicPr>
          <p:cNvPr id="262" name="Схема 4" descr=""/>
          <p:cNvPicPr/>
          <p:nvPr/>
        </p:nvPicPr>
        <p:blipFill>
          <a:blip r:embed="rId3"/>
          <a:stretch/>
        </p:blipFill>
        <p:spPr>
          <a:xfrm>
            <a:off x="341280" y="1390680"/>
            <a:ext cx="8394840" cy="4076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2"/>
          <a:stretch/>
        </p:blipFill>
        <p:spPr>
          <a:xfrm>
            <a:off x="1920960" y="-6480"/>
            <a:ext cx="5302080" cy="725760"/>
          </a:xfrm>
          <a:prstGeom prst="rect">
            <a:avLst/>
          </a:prstGeom>
          <a:ln w="0">
            <a:noFill/>
          </a:ln>
        </p:spPr>
      </p:pic>
      <p:pic>
        <p:nvPicPr>
          <p:cNvPr id="264" name="Схема 2" descr=""/>
          <p:cNvPicPr/>
          <p:nvPr/>
        </p:nvPicPr>
        <p:blipFill>
          <a:blip r:embed="rId3"/>
          <a:stretch/>
        </p:blipFill>
        <p:spPr>
          <a:xfrm>
            <a:off x="353880" y="1352520"/>
            <a:ext cx="8369280" cy="5267520"/>
          </a:xfrm>
          <a:prstGeom prst="rect">
            <a:avLst/>
          </a:prstGeom>
          <a:ln w="0">
            <a:noFill/>
          </a:ln>
        </p:spPr>
      </p:pic>
      <p:sp>
        <p:nvSpPr>
          <p:cNvPr id="265" name="7-конечная звезда 4"/>
          <p:cNvSpPr/>
          <p:nvPr/>
        </p:nvSpPr>
        <p:spPr>
          <a:xfrm>
            <a:off x="6443640" y="0"/>
            <a:ext cx="2700360" cy="2200320"/>
          </a:xfrm>
          <a:prstGeom prst="pie">
            <a:avLst/>
          </a:prstGeom>
          <a:solidFill>
            <a:srgbClr val="ffc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nstantia"/>
              </a:rPr>
              <a:t>Необмежена кількість проектів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2" descr=""/>
          <p:cNvPicPr/>
          <p:nvPr/>
        </p:nvPicPr>
        <p:blipFill>
          <a:blip r:embed="rId2"/>
          <a:stretch/>
        </p:blipFill>
        <p:spPr>
          <a:xfrm>
            <a:off x="835200" y="-6480"/>
            <a:ext cx="8315280" cy="115884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3" descr="golovna.JPG"/>
          <p:cNvPicPr/>
          <p:nvPr/>
        </p:nvPicPr>
        <p:blipFill>
          <a:blip r:embed="rId3"/>
          <a:stretch/>
        </p:blipFill>
        <p:spPr>
          <a:xfrm>
            <a:off x="285840" y="1500120"/>
            <a:ext cx="8643960" cy="5143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1" descr=""/>
          <p:cNvPicPr/>
          <p:nvPr/>
        </p:nvPicPr>
        <p:blipFill>
          <a:blip r:embed="rId2"/>
          <a:stretch/>
        </p:blipFill>
        <p:spPr>
          <a:xfrm>
            <a:off x="1279440" y="244440"/>
            <a:ext cx="7346880" cy="773280"/>
          </a:xfrm>
          <a:prstGeom prst="rect">
            <a:avLst/>
          </a:prstGeom>
          <a:ln w="0">
            <a:noFill/>
          </a:ln>
        </p:spPr>
      </p:pic>
      <p:pic>
        <p:nvPicPr>
          <p:cNvPr id="269" name="Схема 4" descr=""/>
          <p:cNvPicPr/>
          <p:nvPr/>
        </p:nvPicPr>
        <p:blipFill>
          <a:blip r:embed="rId3"/>
          <a:stretch/>
        </p:blipFill>
        <p:spPr>
          <a:xfrm>
            <a:off x="195120" y="1054080"/>
            <a:ext cx="8753760" cy="553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2"/>
          <a:stretch/>
        </p:blipFill>
        <p:spPr>
          <a:xfrm>
            <a:off x="1243080" y="244440"/>
            <a:ext cx="7419960" cy="773280"/>
          </a:xfrm>
          <a:prstGeom prst="rect">
            <a:avLst/>
          </a:prstGeom>
          <a:ln w="0">
            <a:noFill/>
          </a:ln>
        </p:spPr>
      </p:pic>
      <p:pic>
        <p:nvPicPr>
          <p:cNvPr id="271" name="Схема 4" descr=""/>
          <p:cNvPicPr/>
          <p:nvPr/>
        </p:nvPicPr>
        <p:blipFill>
          <a:blip r:embed="rId3"/>
          <a:stretch/>
        </p:blipFill>
        <p:spPr>
          <a:xfrm>
            <a:off x="195120" y="1054080"/>
            <a:ext cx="8753760" cy="553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2"/>
          <a:stretch/>
        </p:blipFill>
        <p:spPr>
          <a:xfrm>
            <a:off x="633240" y="195120"/>
            <a:ext cx="8066160" cy="53676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3" descr="zakony.JPG"/>
          <p:cNvPicPr/>
          <p:nvPr/>
        </p:nvPicPr>
        <p:blipFill>
          <a:blip r:embed="rId3"/>
          <a:stretch/>
        </p:blipFill>
        <p:spPr>
          <a:xfrm>
            <a:off x="285840" y="1185840"/>
            <a:ext cx="8799480" cy="4318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1" descr=""/>
          <p:cNvPicPr/>
          <p:nvPr/>
        </p:nvPicPr>
        <p:blipFill>
          <a:blip r:embed="rId2"/>
          <a:stretch/>
        </p:blipFill>
        <p:spPr>
          <a:xfrm>
            <a:off x="781200" y="208080"/>
            <a:ext cx="7991280" cy="95076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2" descr="kalendar.JPG"/>
          <p:cNvPicPr/>
          <p:nvPr/>
        </p:nvPicPr>
        <p:blipFill>
          <a:blip r:embed="rId3"/>
          <a:stretch/>
        </p:blipFill>
        <p:spPr>
          <a:xfrm>
            <a:off x="214200" y="1357200"/>
            <a:ext cx="8744040" cy="4907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9:44:45Z</dcterms:created>
  <dc:creator>User</dc:creator>
  <dc:description/>
  <dc:language>en-US</dc:language>
  <cp:lastModifiedBy>I Am</cp:lastModifiedBy>
  <dcterms:modified xsi:type="dcterms:W3CDTF">2011-11-23T12:12:49Z</dcterms:modified>
  <cp:revision>223</cp:revision>
  <dc:subject/>
  <dc:title>PowerPoint Template</dc:title>
</cp:coreProperties>
</file>