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723438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8305-1729-4490-878F-1C399BB1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87505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4161600"/>
            <a:ext cx="87505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9389-86E5-488F-8EE5-4D02F735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90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AC59-F0BF-47AD-853E-B5ECBECA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3760" y="167904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2600" y="167904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416160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3760" y="416160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2600" y="416160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F656-346B-433F-8E42-B3176900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9C40-F4A1-422A-92E7-0B99F38B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85280" y="1679040"/>
            <a:ext cx="87505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8AC6-ACE8-4E36-9EB5-B2E1BE3C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8750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737C-203C-4593-A114-DCB79510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5506-FE34-4FFB-8494-C9B92A2D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3FA8-9625-441B-ADC4-FFD0B8EF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85280" y="288720"/>
            <a:ext cx="87505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0884-DFE5-4879-BCBE-2113BDDF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52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9C46-AE94-4559-8D55-884A1F55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679040"/>
            <a:ext cx="87505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69B4-901A-4AD9-8593-E27E73F3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690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4633-58D9-4A55-9F89-817D2F2C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5280" y="4161600"/>
            <a:ext cx="87505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8A3B-21F8-492F-B3BC-0D0D2836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87505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280" y="4161600"/>
            <a:ext cx="87505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988F-3D67-47DF-9E8F-70D9873A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52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690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23C8-980B-41CC-9814-20F43401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43760" y="167904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02600" y="167904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5280" y="416160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43760" y="416160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02600" y="416160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19A7-2581-4CA3-AFB9-712DF081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8C73C-881C-4ED9-8A1E-95C72C69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85280" y="1679040"/>
            <a:ext cx="87505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4B753-C49E-4800-8DC6-FE4E0F53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8750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A2EA1-2B6A-4ED9-B05E-07E14CA0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0D092-E481-4088-920C-B5F21521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C6D2E-76C6-4510-85B3-D86070F6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8750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4D12-4D8E-428B-937E-5008C932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85280" y="288720"/>
            <a:ext cx="87505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2F64C-D66C-4318-BC0D-9BCE4385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52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2E75E-559E-43C6-8999-5A777762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690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F3BF9-00F6-4462-8871-5FDB0E36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5280" y="4161600"/>
            <a:ext cx="87505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9C285-8C46-4202-8179-E0F5F6C7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87505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5280" y="4161600"/>
            <a:ext cx="87505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3F38A-D00D-4EAD-A95A-18BBD6D0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852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690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A0CED-7825-46A1-9D0C-452C3E2F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443760" y="167904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02600" y="167904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5280" y="416160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443760" y="416160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02600" y="416160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321C2-8358-4D64-82F5-57472E90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FA64-FFBB-49A0-B8A9-0567BDBB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7DE8-535F-43AE-8E6F-473727B1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88720"/>
            <a:ext cx="87505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665B-08FB-4B18-B5CB-6564F54C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658F-1D53-47A3-85DB-F67BE4A7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90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8D82-FBA0-416C-A2E8-D340FB19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4161600"/>
            <a:ext cx="87505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AA9D-4B39-48C2-BF49-F6DD3EFA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679040"/>
            <a:ext cx="8750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27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27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27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6557760"/>
            <a:ext cx="22687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2800" y="6557760"/>
            <a:ext cx="30765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7440" y="6557760"/>
            <a:ext cx="22687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030C-30FD-4E9F-9475-4E2B45F9DE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39840" y="1920960"/>
            <a:ext cx="9381600" cy="5279760"/>
            <a:chOff x="339840" y="1920960"/>
            <a:chExt cx="9381600" cy="5279760"/>
          </a:xfrm>
        </p:grpSpPr>
        <p:sp>
          <p:nvSpPr>
            <p:cNvPr id="42" name=""/>
            <p:cNvSpPr/>
            <p:nvPr/>
          </p:nvSpPr>
          <p:spPr>
            <a:xfrm>
              <a:off x="891360" y="4849200"/>
              <a:ext cx="8829720" cy="23515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54960" y="1920960"/>
              <a:ext cx="9366480" cy="527976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91360" y="4887360"/>
              <a:ext cx="8829720" cy="23133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91360" y="1920960"/>
              <a:ext cx="7775280" cy="4824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91360" y="1920960"/>
              <a:ext cx="48960" cy="297468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89920" y="4840920"/>
              <a:ext cx="48960" cy="235980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9840" y="4840920"/>
              <a:ext cx="4858920" cy="4824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9840" y="4840920"/>
              <a:ext cx="50760" cy="235980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90640" y="6557760"/>
            <a:ext cx="2022480" cy="500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646080" y="6557760"/>
            <a:ext cx="3078360" cy="500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7375680" y="6557760"/>
            <a:ext cx="2022480" cy="500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C054B-FC1D-4CC3-BEFC-96E6680BDC9E}" type="slidenum">
              <a:rPr b="0" lang="ru-RU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85280" y="257040"/>
            <a:ext cx="8915400" cy="1503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7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7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90280" y="2000160"/>
            <a:ext cx="8513640" cy="4400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85880" indent="-301680">
              <a:spcBef>
                <a:spcPts val="85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208160" indent="-241200">
              <a:spcBef>
                <a:spcPts val="8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1692360" indent="-241560">
              <a:spcBef>
                <a:spcPts val="85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4" marL="2176560" indent="-243000">
              <a:spcBef>
                <a:spcPts val="8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5" marL="2176560" indent="-243000">
              <a:spcBef>
                <a:spcPts val="8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6" marL="2176560" indent="-243000">
              <a:spcBef>
                <a:spcPts val="8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39840" y="1839960"/>
            <a:ext cx="9381600" cy="5385960"/>
            <a:chOff x="339840" y="1839960"/>
            <a:chExt cx="9381600" cy="5385960"/>
          </a:xfrm>
        </p:grpSpPr>
        <p:sp>
          <p:nvSpPr>
            <p:cNvPr id="92" name=""/>
            <p:cNvSpPr/>
            <p:nvPr/>
          </p:nvSpPr>
          <p:spPr>
            <a:xfrm>
              <a:off x="354960" y="1839960"/>
              <a:ext cx="9366480" cy="53611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91360" y="4000320"/>
              <a:ext cx="8829720" cy="32007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9840" y="3962160"/>
              <a:ext cx="5830920" cy="4824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91360" y="1839960"/>
              <a:ext cx="8259480" cy="4824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9840" y="3962160"/>
              <a:ext cx="50760" cy="326376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91360" y="1839960"/>
              <a:ext cx="48960" cy="537624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52280" y="1999800"/>
            <a:ext cx="8264520" cy="1824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57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7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1052640" y="6557760"/>
            <a:ext cx="2022480" cy="500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687840" y="6557760"/>
            <a:ext cx="3078000" cy="500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7375680" y="6557760"/>
            <a:ext cx="2022480" cy="500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9BAB0-413F-4358-9607-83EBD30BB973}" type="slidenum">
              <a:rPr b="0" lang="ru-RU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88920" y="189000"/>
          <a:ext cx="814320" cy="113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20" y="189000"/>
                    <a:ext cx="814320" cy="113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8602560" y="200160"/>
          <a:ext cx="1068480" cy="1257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602560" y="200160"/>
                    <a:ext cx="106848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928800" y="546120"/>
            <a:ext cx="784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Головне управління охорони здоров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'</a:t>
            </a: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я Донецької облдержадміністрац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89080" y="3168720"/>
            <a:ext cx="9146520" cy="2376360"/>
            <a:chOff x="289080" y="3168720"/>
            <a:chExt cx="9146520" cy="2376360"/>
          </a:xfrm>
        </p:grpSpPr>
        <p:sp>
          <p:nvSpPr>
            <p:cNvPr id="144" name=""/>
            <p:cNvSpPr/>
            <p:nvPr/>
          </p:nvSpPr>
          <p:spPr>
            <a:xfrm>
              <a:off x="289080" y="3168720"/>
              <a:ext cx="9146520" cy="1222200"/>
            </a:xfrm>
            <a:prstGeom prst="rect">
              <a:avLst/>
            </a:prstGeom>
            <a:solidFill>
              <a:srgbClr val="0000ff">
                <a:alpha val="70000"/>
              </a:srgbClr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700" spc="-1" strike="noStrike">
                  <a:solidFill>
                    <a:srgbClr val="ffff00"/>
                  </a:solidFill>
                  <a:latin typeface="Garamond"/>
                </a:rPr>
                <a:t>Концепція удосконалення перинатальної допомоги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9080" y="4390920"/>
              <a:ext cx="9146520" cy="115416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700" spc="-1" strike="noStrike">
                  <a:solidFill>
                    <a:srgbClr val="0000ff"/>
                  </a:solidFill>
                  <a:latin typeface="Garamond"/>
                </a:rPr>
                <a:t>в Донецькій області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052720" y="6264360"/>
            <a:ext cx="626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Georgia"/>
              </a:rPr>
              <a:t>Заступник начальника головного управління Качур О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30760" y="4975200"/>
            <a:ext cx="2027160" cy="209700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2100" spc="-1" strike="noStrike">
                <a:solidFill>
                  <a:srgbClr val="ccecff"/>
                </a:solidFill>
                <a:latin typeface="Bookman Old Style"/>
              </a:rPr>
              <a:t>ЦПМС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2682720"/>
            <a:ext cx="6352920" cy="18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uk-UA" sz="5700" spc="-1" strike="noStrike">
                <a:solidFill>
                  <a:srgbClr val="ff9933"/>
                </a:solidFill>
                <a:latin typeface="Bookman Old Style"/>
              </a:rPr>
              <a:t>Вторинний 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uk-UA" sz="5700" spc="-1" strike="noStrike">
                <a:solidFill>
                  <a:srgbClr val="ff9933"/>
                </a:solidFill>
                <a:latin typeface="Bookman Old Style"/>
              </a:rPr>
              <a:t>рівень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47720" y="5103720"/>
            <a:ext cx="6353280" cy="18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uk-UA" sz="5700" spc="-1" strike="noStrike">
                <a:solidFill>
                  <a:srgbClr val="0066ff"/>
                </a:solidFill>
                <a:latin typeface="Bookman Old Style"/>
              </a:rPr>
              <a:t>Первинний 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uk-UA" sz="5700" spc="-1" strike="noStrike">
                <a:solidFill>
                  <a:srgbClr val="0066ff"/>
                </a:solidFill>
                <a:latin typeface="Bookman Old Style"/>
              </a:rPr>
              <a:t>рівень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6775560" y="5792760"/>
            <a:ext cx="2218680" cy="680760"/>
            <a:chOff x="6775560" y="5792760"/>
            <a:chExt cx="2218680" cy="680760"/>
          </a:xfrm>
        </p:grpSpPr>
        <p:sp>
          <p:nvSpPr>
            <p:cNvPr id="311" name=""/>
            <p:cNvSpPr/>
            <p:nvPr/>
          </p:nvSpPr>
          <p:spPr>
            <a:xfrm>
              <a:off x="6775560" y="5792760"/>
              <a:ext cx="2218680" cy="6807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14440" y="5985720"/>
              <a:ext cx="212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000000"/>
                  </a:solidFill>
                  <a:latin typeface="Bookman Old Style"/>
                </a:rPr>
                <a:t>лікар-консультант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775560" y="5111640"/>
            <a:ext cx="2219040" cy="831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Bookman Old Style"/>
              </a:rPr>
              <a:t>Консультативно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Bookman Old Style"/>
              </a:rPr>
              <a:t>діагностичн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Bookman Old Style"/>
              </a:rPr>
              <a:t>цент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775560" y="5111640"/>
            <a:ext cx="2219040" cy="1360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Bookman Old Style"/>
              </a:rPr>
              <a:t>Жіноч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Bookman Old Style"/>
              </a:rPr>
              <a:t>консультаці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65160"/>
            <a:ext cx="9721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Garamond"/>
              </a:rPr>
              <a:t>Розмежування надання перинатальної допом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3120" y="1407960"/>
            <a:ext cx="2144520" cy="1513080"/>
          </a:xfrm>
          <a:prstGeom prst="octagon">
            <a:avLst>
              <a:gd name="adj" fmla="val 2928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Пологов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відділенн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Пологов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будин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773520" y="2828880"/>
            <a:ext cx="2144520" cy="136044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Перинатальн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регіональн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центр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06680" y="936720"/>
            <a:ext cx="2908440" cy="1422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Виїзн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лікарсько-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консультативн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бригад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0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2000" fill="hold"/>
                                        <p:tgtEl>
                                          <p:spTgt spid="3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6763E-006 L 0.00087 -0.29295 E">
                                      <p:cBhvr>
                                        <p:cTn id="226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500"/>
                            </p:stCondLst>
                            <p:childTnLst>
                              <p:par>
                                <p:cTn id="2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500"/>
                            </p:stCondLst>
                            <p:childTnLst>
                              <p:par>
                                <p:cTn id="2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8000"/>
                            </p:stCondLst>
                            <p:childTnLst>
                              <p:par>
                                <p:cTn id="2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9000"/>
                            </p:stCondLst>
                            <p:childTnLst>
                              <p:par>
                                <p:cTn id="24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79769E-006 L 0.00399 -0.52948 E">
                                      <p:cBhvr>
                                        <p:cTn id="250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16185E-006 L -0.31094 0.0578 E">
                                      <p:cBhvr>
                                        <p:cTn id="252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584440" y="5761080"/>
            <a:ext cx="4103640" cy="1008000"/>
          </a:xfrm>
          <a:prstGeom prst="ellipse">
            <a:avLst/>
          </a:prstGeom>
          <a:gradFill rotWithShape="0">
            <a:gsLst>
              <a:gs pos="0">
                <a:srgbClr val="cc00cc"/>
              </a:gs>
              <a:gs pos="50000">
                <a:srgbClr val="740074"/>
              </a:gs>
              <a:gs pos="100000">
                <a:srgbClr val="cc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Оптимізація мережі та ресурс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85280" y="72720"/>
            <a:ext cx="8750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800080"/>
                </a:solidFill>
                <a:latin typeface="Garamond"/>
              </a:rPr>
              <a:t>Обґрунтування закриття малопотужних пологових</a:t>
            </a:r>
            <a:br>
              <a:rPr sz="2500"/>
            </a:br>
            <a:r>
              <a:rPr b="1" lang="uk-UA" sz="2500" spc="-1" strike="noStrike">
                <a:solidFill>
                  <a:srgbClr val="800080"/>
                </a:solidFill>
                <a:latin typeface="Garamond"/>
              </a:rPr>
              <a:t>відділен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8000" y="1224000"/>
            <a:ext cx="503280" cy="431640"/>
          </a:xfrm>
          <a:prstGeom prst="pentag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400" y="3325680"/>
            <a:ext cx="501480" cy="432000"/>
          </a:xfrm>
          <a:prstGeom prst="pentag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8000" y="5365800"/>
            <a:ext cx="503280" cy="43164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502320" y="5370480"/>
            <a:ext cx="505080" cy="43200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473880" y="3370320"/>
            <a:ext cx="503280" cy="43164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9560" y="1231920"/>
            <a:ext cx="2846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Старобешевський рай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43960" y="3333600"/>
            <a:ext cx="1442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Дебальце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22080" y="5408640"/>
            <a:ext cx="1258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Кіровсь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953760" y="1425600"/>
            <a:ext cx="11102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Авдії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32440" y="3379680"/>
            <a:ext cx="30182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В.-Новоселківський рай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854400" y="5398920"/>
            <a:ext cx="2898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Олександрівський рай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904840" y="1440000"/>
            <a:ext cx="3362760" cy="4321080"/>
            <a:chOff x="2904840" y="1440000"/>
            <a:chExt cx="3362760" cy="4321080"/>
          </a:xfrm>
        </p:grpSpPr>
        <p:sp>
          <p:nvSpPr>
            <p:cNvPr id="334" name=""/>
            <p:cNvSpPr/>
            <p:nvPr/>
          </p:nvSpPr>
          <p:spPr>
            <a:xfrm>
              <a:off x="3217680" y="1440000"/>
              <a:ext cx="2736360" cy="4321080"/>
            </a:xfrm>
            <a:prstGeom prst="downArrowCallout">
              <a:avLst>
                <a:gd name="adj1" fmla="val 35827"/>
                <a:gd name="adj2" fmla="val 25000"/>
                <a:gd name="adj3" fmla="val 21581"/>
                <a:gd name="adj4" fmla="val 77407"/>
              </a:avLst>
            </a:prstGeom>
            <a:gradFill rotWithShape="0">
              <a:gsLst>
                <a:gs pos="0">
                  <a:srgbClr val="cc00cc">
                    <a:alpha val="81176"/>
                  </a:srgbClr>
                </a:gs>
                <a:gs pos="100000">
                  <a:srgbClr val="f7def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04840" y="1457280"/>
              <a:ext cx="3362760" cy="32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- дискваліфікаці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мед. персоналу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- неналежний матеріально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технічний стан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- порушення принципів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безпечного материнства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- необґрунтовані бюджетні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витрати на утриманн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ліжкового фонду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62280" y="1655640"/>
            <a:ext cx="3009240" cy="13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кількість пологів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240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малюкова смертність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15,1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неонатолог за сумісництв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відсутність цілодобового по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анестезіолог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дефіцит акушер-гінеколог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120" y="3757680"/>
            <a:ext cx="3009240" cy="13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кількість пологів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154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малюкова смертність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9,9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неонатолог за сумісництв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відсутність цілодобового по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анестезіолог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дефіцит акушер-гінеколог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52640" y="5797440"/>
            <a:ext cx="25700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кількість пологів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255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материнська смертність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19880" y="1636560"/>
            <a:ext cx="272412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кількість пологів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302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малюкова смертність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25,1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дефіцит акушер-гінеколог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23480" y="3794040"/>
            <a:ext cx="250452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кількість пологів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210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малюкова смертність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8,3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відсутність неонатолог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453360" y="5786280"/>
            <a:ext cx="27241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кількість пологів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119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материнська смертність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1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відсутність неонатолог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дефіцит акушер-гінеколог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02320" y="1239840"/>
            <a:ext cx="505080" cy="43164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7481880" y="5670720"/>
            <a:ext cx="21258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1" lang="uk-UA" sz="1500" spc="-1" strike="noStrike">
                <a:solidFill>
                  <a:srgbClr val="000000"/>
                </a:solidFill>
                <a:latin typeface="Bookman Old Style"/>
              </a:rPr>
              <a:t>Облас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Bookman Old Style"/>
              </a:rPr>
              <a:t>перинатальний цент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887480" y="727200"/>
          <a:ext cx="5792760" cy="635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87480" y="727200"/>
                    <a:ext cx="5792760" cy="63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1860480" y="727200"/>
          <a:ext cx="5794560" cy="635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60480" y="727200"/>
                    <a:ext cx="5794560" cy="63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396720" y="46080"/>
            <a:ext cx="88426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2700" spc="-1" strike="noStrike">
                <a:solidFill>
                  <a:srgbClr val="800080"/>
                </a:solidFill>
                <a:latin typeface="Georgia"/>
              </a:rPr>
              <a:t>Мережа перинатальних центрі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937040" y="1332000"/>
            <a:ext cx="2601360" cy="2114280"/>
            <a:chOff x="4937040" y="1332000"/>
            <a:chExt cx="2601360" cy="2114280"/>
          </a:xfrm>
        </p:grpSpPr>
        <p:sp>
          <p:nvSpPr>
            <p:cNvPr id="351" name=""/>
            <p:cNvSpPr/>
            <p:nvPr/>
          </p:nvSpPr>
          <p:spPr>
            <a:xfrm>
              <a:off x="4937040" y="3070080"/>
              <a:ext cx="457200" cy="376200"/>
            </a:xfrm>
            <a:custGeom>
              <a:avLst/>
              <a:gdLst>
                <a:gd name="textAreaLeft" fmla="*/ 147600 w 457200"/>
                <a:gd name="textAreaRight" fmla="*/ 309600 w 457200"/>
                <a:gd name="textAreaTop" fmla="*/ 121680 h 376200"/>
                <a:gd name="textAreaBottom" fmla="*/ 25452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6983" y="6983"/>
                  </a:lnTo>
                  <a:lnTo>
                    <a:pt x="10800" y="0"/>
                  </a:lnTo>
                  <a:lnTo>
                    <a:pt x="14617" y="6983"/>
                  </a:lnTo>
                  <a:lnTo>
                    <a:pt x="21600" y="10800"/>
                  </a:lnTo>
                  <a:lnTo>
                    <a:pt x="14617" y="14617"/>
                  </a:lnTo>
                  <a:lnTo>
                    <a:pt x="10800" y="21600"/>
                  </a:lnTo>
                  <a:lnTo>
                    <a:pt x="6983" y="1461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85800" y="1332000"/>
              <a:ext cx="1452600" cy="603360"/>
            </a:xfrm>
            <a:prstGeom prst="wedgeRectCallout">
              <a:avLst>
                <a:gd name="adj1" fmla="val -103194"/>
                <a:gd name="adj2" fmla="val 241435"/>
              </a:avLst>
            </a:prstGeom>
            <a:solidFill>
              <a:srgbClr val="ffffff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ТМО “Сім</a:t>
              </a:r>
              <a:r>
                <a:rPr b="1" lang="en-US" sz="1700" spc="-1" strike="noStrike">
                  <a:solidFill>
                    <a:srgbClr val="000000"/>
                  </a:solidFill>
                  <a:latin typeface="Garamond"/>
                </a:rPr>
                <a:t>’</a:t>
              </a: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я і здоров</a:t>
              </a:r>
              <a:r>
                <a:rPr b="1" lang="en-US" sz="1700" spc="-1" strike="noStrike">
                  <a:solidFill>
                    <a:srgbClr val="000000"/>
                  </a:solidFill>
                  <a:latin typeface="Garamond"/>
                </a:rPr>
                <a:t>’</a:t>
              </a: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819680" y="3220920"/>
            <a:ext cx="3103200" cy="884160"/>
            <a:chOff x="4819680" y="3220920"/>
            <a:chExt cx="3103200" cy="884160"/>
          </a:xfrm>
        </p:grpSpPr>
        <p:sp>
          <p:nvSpPr>
            <p:cNvPr id="354" name=""/>
            <p:cNvSpPr/>
            <p:nvPr/>
          </p:nvSpPr>
          <p:spPr>
            <a:xfrm>
              <a:off x="6600960" y="3220920"/>
              <a:ext cx="1321920" cy="379440"/>
            </a:xfrm>
            <a:prstGeom prst="wedgeRectCallout">
              <a:avLst>
                <a:gd name="adj1" fmla="val -162388"/>
                <a:gd name="adj2" fmla="val 132458"/>
              </a:avLst>
            </a:prstGeom>
            <a:solidFill>
              <a:srgbClr val="ffffff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МЛ № 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819680" y="3728880"/>
              <a:ext cx="459360" cy="376200"/>
            </a:xfrm>
            <a:custGeom>
              <a:avLst/>
              <a:gdLst>
                <a:gd name="textAreaLeft" fmla="*/ 155880 w 459360"/>
                <a:gd name="textAreaRight" fmla="*/ 303480 w 459360"/>
                <a:gd name="textAreaTop" fmla="*/ 127800 h 376200"/>
                <a:gd name="textAreaBottom" fmla="*/ 24840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7335" y="7335"/>
                  </a:lnTo>
                  <a:lnTo>
                    <a:pt x="10800" y="0"/>
                  </a:lnTo>
                  <a:lnTo>
                    <a:pt x="14265" y="7335"/>
                  </a:lnTo>
                  <a:lnTo>
                    <a:pt x="21600" y="10800"/>
                  </a:lnTo>
                  <a:lnTo>
                    <a:pt x="14265" y="14265"/>
                  </a:lnTo>
                  <a:lnTo>
                    <a:pt x="10800" y="21600"/>
                  </a:lnTo>
                  <a:lnTo>
                    <a:pt x="7335" y="1426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473800" y="3525840"/>
            <a:ext cx="230040" cy="22716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091120" y="4809960"/>
            <a:ext cx="228600" cy="22716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140360" y="3630600"/>
            <a:ext cx="230040" cy="22716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549760" y="2921040"/>
            <a:ext cx="228600" cy="22536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402080" y="3978360"/>
            <a:ext cx="763560" cy="347400"/>
          </a:xfrm>
          <a:prstGeom prst="octagon">
            <a:avLst>
              <a:gd name="adj" fmla="val 29287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 Antiqua"/>
              </a:rPr>
              <a:t>ОПЦ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103480" y="1177920"/>
            <a:ext cx="2374200" cy="1096560"/>
            <a:chOff x="2103480" y="1177920"/>
            <a:chExt cx="2374200" cy="1096560"/>
          </a:xfrm>
        </p:grpSpPr>
        <p:sp>
          <p:nvSpPr>
            <p:cNvPr id="362" name=""/>
            <p:cNvSpPr/>
            <p:nvPr/>
          </p:nvSpPr>
          <p:spPr>
            <a:xfrm>
              <a:off x="2103480" y="1177920"/>
              <a:ext cx="1530720" cy="453240"/>
            </a:xfrm>
            <a:prstGeom prst="wedgeRectCallout">
              <a:avLst>
                <a:gd name="adj1" fmla="val 85171"/>
                <a:gd name="adj2" fmla="val 145953"/>
              </a:avLst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МЛ № 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19040" y="1897920"/>
              <a:ext cx="458640" cy="376560"/>
            </a:xfrm>
            <a:custGeom>
              <a:avLst/>
              <a:gdLst>
                <a:gd name="textAreaLeft" fmla="*/ 155520 w 458640"/>
                <a:gd name="textAreaRight" fmla="*/ 303120 w 458640"/>
                <a:gd name="textAreaTop" fmla="*/ 127800 h 376560"/>
                <a:gd name="textAreaBottom" fmla="*/ 248760 h 37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7335" y="7335"/>
                  </a:lnTo>
                  <a:lnTo>
                    <a:pt x="10800" y="0"/>
                  </a:lnTo>
                  <a:lnTo>
                    <a:pt x="14265" y="7335"/>
                  </a:lnTo>
                  <a:lnTo>
                    <a:pt x="21600" y="10800"/>
                  </a:lnTo>
                  <a:lnTo>
                    <a:pt x="14265" y="14265"/>
                  </a:lnTo>
                  <a:lnTo>
                    <a:pt x="10800" y="21600"/>
                  </a:lnTo>
                  <a:lnTo>
                    <a:pt x="7335" y="1426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20840" y="2916360"/>
            <a:ext cx="2923560" cy="485280"/>
            <a:chOff x="420840" y="2916360"/>
            <a:chExt cx="2923560" cy="485280"/>
          </a:xfrm>
        </p:grpSpPr>
        <p:sp>
          <p:nvSpPr>
            <p:cNvPr id="365" name=""/>
            <p:cNvSpPr/>
            <p:nvPr/>
          </p:nvSpPr>
          <p:spPr>
            <a:xfrm>
              <a:off x="420840" y="2916360"/>
              <a:ext cx="1757880" cy="455400"/>
            </a:xfrm>
            <a:prstGeom prst="wedgeRectCallout">
              <a:avLst>
                <a:gd name="adj1" fmla="val 103550"/>
                <a:gd name="adj2" fmla="val 21060"/>
              </a:avLst>
            </a:prstGeom>
            <a:solidFill>
              <a:srgbClr val="ffffff"/>
            </a:solidFill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ЦРЛ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85760" y="3024720"/>
              <a:ext cx="458640" cy="376920"/>
            </a:xfrm>
            <a:custGeom>
              <a:avLst/>
              <a:gdLst>
                <a:gd name="textAreaLeft" fmla="*/ 155520 w 458640"/>
                <a:gd name="textAreaRight" fmla="*/ 303120 w 458640"/>
                <a:gd name="textAreaTop" fmla="*/ 127800 h 376920"/>
                <a:gd name="textAreaBottom" fmla="*/ 249120 h 37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7335" y="7335"/>
                  </a:lnTo>
                  <a:lnTo>
                    <a:pt x="10800" y="0"/>
                  </a:lnTo>
                  <a:lnTo>
                    <a:pt x="14265" y="7335"/>
                  </a:lnTo>
                  <a:lnTo>
                    <a:pt x="21600" y="10800"/>
                  </a:lnTo>
                  <a:lnTo>
                    <a:pt x="14265" y="14265"/>
                  </a:lnTo>
                  <a:lnTo>
                    <a:pt x="10800" y="21600"/>
                  </a:lnTo>
                  <a:lnTo>
                    <a:pt x="7335" y="1426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492200" y="3965400"/>
            <a:ext cx="2890440" cy="1147680"/>
            <a:chOff x="1492200" y="3965400"/>
            <a:chExt cx="2890440" cy="1147680"/>
          </a:xfrm>
        </p:grpSpPr>
        <p:sp>
          <p:nvSpPr>
            <p:cNvPr id="368" name=""/>
            <p:cNvSpPr/>
            <p:nvPr/>
          </p:nvSpPr>
          <p:spPr>
            <a:xfrm>
              <a:off x="1492200" y="4658400"/>
              <a:ext cx="1758240" cy="454680"/>
            </a:xfrm>
            <a:prstGeom prst="wedgeRectCallout">
              <a:avLst>
                <a:gd name="adj1" fmla="val 101726"/>
                <a:gd name="adj2" fmla="val -160625"/>
              </a:avLst>
            </a:prstGeom>
            <a:solidFill>
              <a:srgbClr val="ffffff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ЦМКЛ № 3 і 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24000" y="3965400"/>
              <a:ext cx="458640" cy="376200"/>
            </a:xfrm>
            <a:custGeom>
              <a:avLst/>
              <a:gdLst>
                <a:gd name="textAreaLeft" fmla="*/ 155520 w 458640"/>
                <a:gd name="textAreaRight" fmla="*/ 303120 w 458640"/>
                <a:gd name="textAreaTop" fmla="*/ 127800 h 376200"/>
                <a:gd name="textAreaBottom" fmla="*/ 24840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7335" y="7335"/>
                  </a:lnTo>
                  <a:lnTo>
                    <a:pt x="10800" y="0"/>
                  </a:lnTo>
                  <a:lnTo>
                    <a:pt x="14265" y="7335"/>
                  </a:lnTo>
                  <a:lnTo>
                    <a:pt x="21600" y="10800"/>
                  </a:lnTo>
                  <a:lnTo>
                    <a:pt x="14265" y="14265"/>
                  </a:lnTo>
                  <a:lnTo>
                    <a:pt x="10800" y="21600"/>
                  </a:lnTo>
                  <a:lnTo>
                    <a:pt x="7335" y="1426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021200" y="6035760"/>
            <a:ext cx="3138120" cy="893160"/>
            <a:chOff x="4021200" y="6035760"/>
            <a:chExt cx="3138120" cy="893160"/>
          </a:xfrm>
        </p:grpSpPr>
        <p:sp>
          <p:nvSpPr>
            <p:cNvPr id="371" name=""/>
            <p:cNvSpPr/>
            <p:nvPr/>
          </p:nvSpPr>
          <p:spPr>
            <a:xfrm>
              <a:off x="4785480" y="6322320"/>
              <a:ext cx="2373840" cy="606600"/>
            </a:xfrm>
            <a:prstGeom prst="wedgeRectCallout">
              <a:avLst>
                <a:gd name="adj1" fmla="val -70824"/>
                <a:gd name="adj2" fmla="val -65935"/>
              </a:avLst>
            </a:prstGeom>
            <a:solidFill>
              <a:srgbClr val="ffff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Пологовий будинок № 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21200" y="6035760"/>
              <a:ext cx="458640" cy="376560"/>
            </a:xfrm>
            <a:custGeom>
              <a:avLst/>
              <a:gdLst>
                <a:gd name="textAreaLeft" fmla="*/ 155520 w 458640"/>
                <a:gd name="textAreaRight" fmla="*/ 303120 w 458640"/>
                <a:gd name="textAreaTop" fmla="*/ 127800 h 376560"/>
                <a:gd name="textAreaBottom" fmla="*/ 248760 h 37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7335" y="7335"/>
                  </a:lnTo>
                  <a:lnTo>
                    <a:pt x="10800" y="0"/>
                  </a:lnTo>
                  <a:lnTo>
                    <a:pt x="14265" y="7335"/>
                  </a:lnTo>
                  <a:lnTo>
                    <a:pt x="21600" y="10800"/>
                  </a:lnTo>
                  <a:lnTo>
                    <a:pt x="14265" y="14265"/>
                  </a:lnTo>
                  <a:lnTo>
                    <a:pt x="10800" y="21600"/>
                  </a:lnTo>
                  <a:lnTo>
                    <a:pt x="7335" y="1426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2563920" y="4357800"/>
            <a:ext cx="230040" cy="22536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784600" y="2136600"/>
            <a:ext cx="230040" cy="22716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54960" y="5629320"/>
            <a:ext cx="763560" cy="345960"/>
          </a:xfrm>
          <a:prstGeom prst="octagon">
            <a:avLst>
              <a:gd name="adj" fmla="val 29287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 Antiqua"/>
              </a:rPr>
              <a:t>ОПЦ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02680" y="6523200"/>
            <a:ext cx="219528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Bookman Old Style"/>
              </a:rPr>
              <a:t>Малопотужні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Bookman Old Style"/>
              </a:rPr>
              <a:t>пологові відділенн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599240" y="6594480"/>
            <a:ext cx="227160" cy="22716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9336240" y="690552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5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8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9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908000" y="431640"/>
            <a:ext cx="5905800" cy="12956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ОЦ №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Зміна механізмів фінансу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46000" y="3498840"/>
            <a:ext cx="6696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Переведення фінансування перинатальних цент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на обласний рів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46000" y="4543560"/>
            <a:ext cx="669636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2. Перехід до програмно-цільового методу фінансу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перинатальної служ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46000" y="5443560"/>
            <a:ext cx="6696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3. Залучення інвестиц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70880" y="2424240"/>
            <a:ext cx="185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66ff"/>
                </a:solidFill>
                <a:latin typeface="Garamond"/>
              </a:rPr>
              <a:t>Завд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77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770" fill="hold"/>
                                        <p:tgtEl>
                                          <p:spTgt spid="3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6" dur="77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8" dur="77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0"/>
                            </p:stCondLst>
                            <p:childTnLst>
                              <p:par>
                                <p:cTn id="4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-360" y="91800"/>
            <a:ext cx="9721800" cy="664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Bookman Old Style"/>
              </a:rPr>
              <a:t>Орієнтовна структура джерел фінансування</a:t>
            </a:r>
            <a:br>
              <a:rPr sz="2800"/>
            </a:br>
            <a:r>
              <a:rPr b="1" lang="uk-UA" sz="2800" spc="-1" strike="noStrike">
                <a:solidFill>
                  <a:srgbClr val="800080"/>
                </a:solidFill>
                <a:latin typeface="Bookman Old Style"/>
              </a:rPr>
              <a:t>із залученням інвестиційних кош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-1152720" y="1280520"/>
            <a:ext cx="5244480" cy="5244840"/>
            <a:chOff x="-1152720" y="1280520"/>
            <a:chExt cx="5244480" cy="5244840"/>
          </a:xfrm>
        </p:grpSpPr>
        <p:sp>
          <p:nvSpPr>
            <p:cNvPr id="387" name=""/>
            <p:cNvSpPr/>
            <p:nvPr/>
          </p:nvSpPr>
          <p:spPr>
            <a:xfrm rot="2700000">
              <a:off x="-402840" y="2066760"/>
              <a:ext cx="3745080" cy="3672000"/>
            </a:xfrm>
            <a:custGeom>
              <a:avLst/>
              <a:gdLst/>
              <a:ahLst/>
              <a:rect l="l" t="t" r="r" b="b"/>
              <a:pathLst>
                <a:path w="235" h="234">
                  <a:moveTo>
                    <a:pt x="0" y="0"/>
                  </a:moveTo>
                  <a:cubicBezTo>
                    <a:pt x="0" y="129"/>
                    <a:pt x="105" y="234"/>
                    <a:pt x="234" y="234"/>
                  </a:cubicBez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1120" y="3498840"/>
              <a:ext cx="3051360" cy="88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Bookman Old Style"/>
                </a:rPr>
                <a:t>Дитяча лікар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ffffff"/>
                  </a:solidFill>
                  <a:latin typeface="Bookman Old Style"/>
                </a:rPr>
                <a:t>Інвестиції - 6 млн. грн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5592960" y="1305000"/>
            <a:ext cx="5185080" cy="5184720"/>
            <a:chOff x="5592960" y="1305000"/>
            <a:chExt cx="5185080" cy="5184720"/>
          </a:xfrm>
        </p:grpSpPr>
        <p:sp>
          <p:nvSpPr>
            <p:cNvPr id="390" name=""/>
            <p:cNvSpPr/>
            <p:nvPr/>
          </p:nvSpPr>
          <p:spPr>
            <a:xfrm rot="2700000">
              <a:off x="6366240" y="2050200"/>
              <a:ext cx="3638520" cy="3693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235" y="235"/>
                  </a:moveTo>
                  <a:cubicBezTo>
                    <a:pt x="235" y="105"/>
                    <a:pt x="129" y="0"/>
                    <a:pt x="0" y="0"/>
                  </a:cubicBezTo>
                  <a:lnTo>
                    <a:pt x="0" y="235"/>
                  </a:lnTo>
                  <a:lnTo>
                    <a:pt x="235" y="235"/>
                  </a:lnTo>
                  <a:close/>
                </a:path>
              </a:pathLst>
            </a:custGeom>
            <a:solidFill>
              <a:srgbClr val="cc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08520" y="2580840"/>
              <a:ext cx="2622960" cy="29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Bookman Old Style"/>
                </a:rPr>
                <a:t>Кардіохіругіч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Bookman Old Style"/>
                </a:rPr>
                <a:t>цент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ffffff"/>
                  </a:solidFill>
                  <a:latin typeface="Bookman Old Style"/>
                </a:rPr>
                <a:t>Державний бюджет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ffffff"/>
                  </a:solidFill>
                  <a:latin typeface="Bookman Old Style"/>
                </a:rPr>
                <a:t>– </a:t>
              </a:r>
              <a:r>
                <a:rPr b="1" lang="uk-UA" sz="1700" spc="-1" strike="noStrike">
                  <a:solidFill>
                    <a:srgbClr val="ffffff"/>
                  </a:solidFill>
                  <a:latin typeface="Bookman Old Style"/>
                </a:rPr>
                <a:t>40 млн. грн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ffffff"/>
                  </a:solidFill>
                  <a:latin typeface="Bookman Old Style"/>
                </a:rPr>
                <a:t>Інвестиції - 1,5 млн. </a:t>
              </a:r>
              <a:r>
                <a:rPr b="1" lang="en-US" sz="1700" spc="-1" strike="noStrike">
                  <a:solidFill>
                    <a:srgbClr val="ffffff"/>
                  </a:solidFill>
                  <a:latin typeface="Bookman Old Style"/>
                </a:rPr>
                <a:t>$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ffffff"/>
                  </a:solidFill>
                  <a:latin typeface="Bookman Old Style"/>
                </a:rPr>
                <a:t>Фонд Ріната Ахметова,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ffffff"/>
                  </a:solidFill>
                  <a:latin typeface="Bookman Old Style"/>
                </a:rPr>
                <a:t>Група “Норд”,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ffffff"/>
                  </a:solidFill>
                  <a:latin typeface="Bookman Old Style"/>
                </a:rPr>
                <a:t>БФ “Український да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ffffff"/>
                  </a:solidFill>
                  <a:latin typeface="Bookman Old Style"/>
                </a:rPr>
                <a:t>життя”, СШ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ffffff"/>
                  </a:solidFill>
                  <a:latin typeface="Bookman Old Style"/>
                </a:rPr>
                <a:t>ОП “Шахт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ffffff"/>
                  </a:solidFill>
                  <a:latin typeface="Bookman Old Style"/>
                </a:rPr>
                <a:t>ім. О.Ф. Засядька”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226600" y="3250440"/>
            <a:ext cx="5152320" cy="5152680"/>
            <a:chOff x="2226600" y="3250440"/>
            <a:chExt cx="5152320" cy="5152680"/>
          </a:xfrm>
        </p:grpSpPr>
        <p:sp>
          <p:nvSpPr>
            <p:cNvPr id="393" name=""/>
            <p:cNvSpPr/>
            <p:nvPr/>
          </p:nvSpPr>
          <p:spPr>
            <a:xfrm rot="13500000">
              <a:off x="3009600" y="3976560"/>
              <a:ext cx="3586320" cy="370044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234" y="0"/>
                  </a:moveTo>
                  <a:cubicBezTo>
                    <a:pt x="105" y="0"/>
                    <a:pt x="0" y="105"/>
                    <a:pt x="0" y="234"/>
                  </a:cubicBezTo>
                  <a:lnTo>
                    <a:pt x="235" y="235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21600" y="5303880"/>
              <a:ext cx="4276440" cy="64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900" spc="-1" strike="noStrike">
                  <a:solidFill>
                    <a:srgbClr val="ffffff"/>
                  </a:solidFill>
                  <a:latin typeface="Bookman Old Style"/>
                </a:rPr>
                <a:t>Медико-генетичний центр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ffffff"/>
                  </a:solidFill>
                  <a:latin typeface="Bookman Old Style"/>
                </a:rPr>
                <a:t>Державний бюджет – 532,0 тис. грн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2294280" y="-565920"/>
            <a:ext cx="5151240" cy="5151240"/>
            <a:chOff x="2294280" y="-565920"/>
            <a:chExt cx="5151240" cy="5151240"/>
          </a:xfrm>
        </p:grpSpPr>
        <p:sp>
          <p:nvSpPr>
            <p:cNvPr id="396" name=""/>
            <p:cNvSpPr/>
            <p:nvPr/>
          </p:nvSpPr>
          <p:spPr>
            <a:xfrm rot="2700000">
              <a:off x="3077280" y="159480"/>
              <a:ext cx="3584520" cy="370044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234" y="0"/>
                  </a:moveTo>
                  <a:cubicBezTo>
                    <a:pt x="105" y="0"/>
                    <a:pt x="0" y="105"/>
                    <a:pt x="0" y="234"/>
                  </a:cubicBezTo>
                  <a:lnTo>
                    <a:pt x="235" y="235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48400" y="1261440"/>
              <a:ext cx="3802680" cy="16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900" spc="-1" strike="noStrike">
                  <a:solidFill>
                    <a:srgbClr val="003300"/>
                  </a:solidFill>
                  <a:latin typeface="Bookman Old Style"/>
                </a:rPr>
                <a:t>ДРЦОМД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003300"/>
                  </a:solidFill>
                  <a:latin typeface="Bookman Old Style"/>
                </a:rPr>
                <a:t>Обласний бюджет – 4,99 млн. грн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003300"/>
                  </a:solidFill>
                  <a:latin typeface="Bookman Old Style"/>
                </a:rPr>
                <a:t>Інвестиції – 1,9 млн. грн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003300"/>
                  </a:solidFill>
                  <a:latin typeface="Bookman Old Style"/>
                </a:rPr>
                <a:t>Фонд Віктора Пінчука,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003300"/>
                  </a:solidFill>
                  <a:latin typeface="Bookman Old Style"/>
                </a:rPr>
                <a:t>ВООЗ, </a:t>
              </a:r>
              <a:r>
                <a:rPr b="0" lang="en-US" sz="1700" spc="-1" strike="noStrike">
                  <a:solidFill>
                    <a:srgbClr val="003300"/>
                  </a:solidFill>
                  <a:latin typeface="Bookman Old Style"/>
                </a:rPr>
                <a:t>UNICEF, USADI,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003300"/>
                  </a:solidFill>
                  <a:latin typeface="Bookman Old Style"/>
                </a:rPr>
                <a:t>Швейцарський проект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3637080" y="3168720"/>
            <a:ext cx="2376360" cy="1511280"/>
          </a:xfrm>
          <a:prstGeom prst="octagon">
            <a:avLst>
              <a:gd name="adj" fmla="val 2928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Державний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15,7 млн.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844640" y="433440"/>
            <a:ext cx="6046920" cy="1366920"/>
          </a:xfrm>
          <a:prstGeom prst="rect">
            <a:avLst/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ОЦ №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Підвищення якості та доступн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медичної допом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46000" y="3311640"/>
            <a:ext cx="66963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Впровадження протоколів і стандартів над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перинатальної допомоги на усіх рівн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6000" y="4191120"/>
            <a:ext cx="669636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2. Застосування нових прогресивних технологій 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наданні допомоги жінкам і ді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46000" y="5299200"/>
            <a:ext cx="6696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3. Покращення матеріально-технічного оснащ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перинатальних центрів, придбання медич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обладнання відповідно до міжнародного рів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17560" y="6307200"/>
            <a:ext cx="669600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4. Організація роботи виїзних лікарсько-консультатив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бриг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0880" y="2424240"/>
            <a:ext cx="185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66ff"/>
                </a:solidFill>
                <a:latin typeface="Garamond"/>
              </a:rPr>
              <a:t>Завд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77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770" fill="hold"/>
                                        <p:tgtEl>
                                          <p:spTgt spid="4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1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3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000"/>
                            </p:stCondLst>
                            <p:childTnLst>
                              <p:par>
                                <p:cTn id="4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4000"/>
                            </p:stCondLst>
                            <p:childTnLst>
                              <p:par>
                                <p:cTn id="4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0"/>
                            </p:stCondLst>
                            <p:childTnLst>
                              <p:par>
                                <p:cTn id="4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6000"/>
                            </p:stCondLst>
                            <p:childTnLst>
                              <p:par>
                                <p:cTn id="4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781280" y="431640"/>
            <a:ext cx="6192720" cy="15116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ОЦ №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Вирішення кадрового забезпеч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служби надання допомоги діт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і матерям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46000" y="3311640"/>
            <a:ext cx="66963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Раціональне використання наявних кадрових ресурсів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перерозподіл функціональних обов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язків “лікар-медич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сестра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46000" y="4500720"/>
            <a:ext cx="669636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2. Безперервність навчання медичного персоналу акушерськ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гінекологічної служби (цикли перепідготовки, підвищ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кваліфікації, навчання на “робочому місці”, виїзні семінар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46000" y="5443560"/>
            <a:ext cx="6696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3. Збільшення державного замовл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17560" y="6192720"/>
            <a:ext cx="669600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4. Підвищення мотивації до якісної роботи, у т.ч. поліпш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умов праці, забезпечення гідним житлом тощ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70880" y="2424240"/>
            <a:ext cx="185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66ff"/>
                </a:solidFill>
                <a:latin typeface="Garamond"/>
              </a:rPr>
              <a:t>Завд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77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2" dur="770" fill="hold"/>
                                        <p:tgtEl>
                                          <p:spTgt spid="4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4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6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000"/>
                            </p:stCondLst>
                            <p:childTnLst>
                              <p:par>
                                <p:cTn id="5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4000"/>
                            </p:stCondLst>
                            <p:childTnLst>
                              <p:par>
                                <p:cTn id="5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0"/>
                            </p:stCondLst>
                            <p:childTnLst>
                              <p:par>
                                <p:cTn id="5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851120" y="431640"/>
            <a:ext cx="6048360" cy="15116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ОЦ №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Мотивація населення до здоров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способу житт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46000" y="3222720"/>
            <a:ext cx="66963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Активне проведення роз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яснювальної санітар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просвітницької роботи з популяризації здорового спосо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життя з широким використанням ресурсів ЗМІ, у т.ч. сайт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46000" y="4373640"/>
            <a:ext cx="669636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2. Проведення проф. оглядів і своєчасне виявлення захворю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вань у школярів, студентів, працюючих; організа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оздоровлення вагітних і підлітк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46000" y="5324400"/>
            <a:ext cx="6696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3. Розроблення системи стимулів до ведення здорового спосо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житт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17560" y="6192720"/>
            <a:ext cx="669600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4. Організація та проведення тематичних циклів з пит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здорового способу життя та збереження здоров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я 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навчальних закла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70880" y="2424240"/>
            <a:ext cx="185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66ff"/>
                </a:solidFill>
                <a:latin typeface="Garamond"/>
              </a:rPr>
              <a:t>Завд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77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5" dur="770" fill="hold"/>
                                        <p:tgtEl>
                                          <p:spTgt spid="4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7" dur="77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9" dur="77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4000"/>
                            </p:stCondLst>
                            <p:childTnLst>
                              <p:par>
                                <p:cTn id="5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0"/>
                            </p:stCondLst>
                            <p:childTnLst>
                              <p:par>
                                <p:cTn id="5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6000"/>
                            </p:stCondLst>
                            <p:childTnLst>
                              <p:par>
                                <p:cTn id="5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3"/>
          <p:cNvSpPr/>
          <p:nvPr/>
        </p:nvSpPr>
        <p:spPr>
          <a:xfrm>
            <a:off x="684360" y="1152360"/>
            <a:ext cx="8267400" cy="1727280"/>
          </a:xfrm>
          <a:prstGeom prst="downArrowCallout">
            <a:avLst>
              <a:gd name="adj1" fmla="val -104140"/>
              <a:gd name="adj2" fmla="val 119659"/>
              <a:gd name="adj3" fmla="val 16667"/>
              <a:gd name="adj4" fmla="val 6666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Bookman Old Style"/>
                <a:ea typeface="Arial"/>
              </a:rPr>
              <a:t>Обласний регіональний перинатальний цент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Bookman Old Style"/>
                <a:ea typeface="Arial"/>
              </a:rPr>
              <a:t>  </a:t>
            </a:r>
            <a:r>
              <a:rPr b="1" lang="uk-UA" sz="2100" spc="-1" strike="noStrike">
                <a:solidFill>
                  <a:srgbClr val="000000"/>
                </a:solidFill>
                <a:latin typeface="Bookman Old Style"/>
                <a:ea typeface="Arial"/>
              </a:rPr>
              <a:t>7 регіональних перинатальних центрі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Bookman Old Style"/>
                <a:ea typeface="Arial"/>
              </a:rPr>
              <a:t>2011-2013 рок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279360" y="3197160"/>
            <a:ext cx="1606680" cy="830160"/>
          </a:xfrm>
          <a:prstGeom prst="rightArrowCallout">
            <a:avLst>
              <a:gd name="adj1" fmla="val 25002"/>
              <a:gd name="adj2" fmla="val 25000"/>
              <a:gd name="adj3" fmla="val 29237"/>
              <a:gd name="adj4" fmla="val 6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І ета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295200" y="4530600"/>
            <a:ext cx="1657440" cy="831960"/>
          </a:xfrm>
          <a:prstGeom prst="rightArrowCallout">
            <a:avLst>
              <a:gd name="adj1" fmla="val 25002"/>
              <a:gd name="adj2" fmla="val 25000"/>
              <a:gd name="adj3" fmla="val 3019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ІІ ета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392040" y="5905440"/>
            <a:ext cx="1589040" cy="858960"/>
          </a:xfrm>
          <a:prstGeom prst="rightArrowCallout">
            <a:avLst>
              <a:gd name="adj1" fmla="val 25002"/>
              <a:gd name="adj2" fmla="val 25000"/>
              <a:gd name="adj3" fmla="val 27167"/>
              <a:gd name="adj4" fmla="val 6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ІІІ ета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2179800" y="3286080"/>
            <a:ext cx="973080" cy="604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201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8"/>
          <p:cNvSpPr/>
          <p:nvPr/>
        </p:nvSpPr>
        <p:spPr>
          <a:xfrm>
            <a:off x="2236680" y="4626000"/>
            <a:ext cx="973080" cy="60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20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9"/>
          <p:cNvSpPr/>
          <p:nvPr/>
        </p:nvSpPr>
        <p:spPr>
          <a:xfrm>
            <a:off x="2219400" y="6058080"/>
            <a:ext cx="995400" cy="528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20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3492360" y="3200400"/>
            <a:ext cx="6048360" cy="75708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Створення обласного перинатального центру ІІІ рівня на базі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Донецького регіонального центру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охорони материнства та дитинст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1"/>
          <p:cNvSpPr/>
          <p:nvPr/>
        </p:nvSpPr>
        <p:spPr>
          <a:xfrm>
            <a:off x="3492360" y="5737320"/>
            <a:ext cx="5991480" cy="11318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Створення регіональних перинатальних центрів ІІ рівня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м. Донецьк (ЦМКЛ №№</a:t>
            </a:r>
            <a:r>
              <a:rPr b="1" lang="uk-UA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3,</a:t>
            </a:r>
            <a:r>
              <a:rPr b="1" lang="uk-UA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6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м. Горлівка (ТМО “Сім</a:t>
            </a:r>
            <a:r>
              <a:rPr b="1" lang="en-US" sz="1500" spc="-1" strike="noStrike">
                <a:solidFill>
                  <a:srgbClr val="000000"/>
                </a:solidFill>
                <a:latin typeface="Garamond"/>
                <a:ea typeface="Arial"/>
              </a:rPr>
              <a:t>’</a:t>
            </a: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я і здоров</a:t>
            </a:r>
            <a:r>
              <a:rPr b="1" lang="en-US" sz="1500" spc="-1" strike="noStrike">
                <a:solidFill>
                  <a:srgbClr val="000000"/>
                </a:solidFill>
                <a:latin typeface="Garamond"/>
                <a:ea typeface="Arial"/>
              </a:rPr>
              <a:t>’</a:t>
            </a: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я”)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м. Краматорськ (ЦМЛ №2), м. Красноармійськ (ЦРЛ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2"/>
          <p:cNvSpPr/>
          <p:nvPr/>
        </p:nvSpPr>
        <p:spPr>
          <a:xfrm>
            <a:off x="3492360" y="4530600"/>
            <a:ext cx="6048360" cy="75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Створення регіональних перинатальних центрів ІІ рівн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в м. Макіївка (ЦМЛ № 3)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м. Маріуполь (пологовий  будинок №</a:t>
            </a:r>
            <a:r>
              <a:rPr b="1" lang="en-US" sz="15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85640" y="144360"/>
            <a:ext cx="87505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Garamond"/>
              </a:rPr>
              <a:t>Етапи реалізації Проек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500"/>
                            </p:stCondLst>
                            <p:childTnLst>
                              <p:par>
                                <p:cTn id="6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85280" y="71280"/>
            <a:ext cx="8750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Garamond"/>
              </a:rPr>
              <a:t>План-графік створення ОПЦ на  2011 рі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252360" y="776160"/>
          <a:ext cx="9288360" cy="6318360"/>
        </p:xfrm>
        <a:graphic>
          <a:graphicData uri="http://schemas.openxmlformats.org/drawingml/2006/table">
            <a:tbl>
              <a:tblPr/>
              <a:tblGrid>
                <a:gridCol w="436680"/>
                <a:gridCol w="4819680"/>
                <a:gridCol w="360360"/>
                <a:gridCol w="360360"/>
                <a:gridCol w="360360"/>
                <a:gridCol w="287280"/>
                <a:gridCol w="360360"/>
                <a:gridCol w="360360"/>
                <a:gridCol w="287280"/>
                <a:gridCol w="289080"/>
                <a:gridCol w="287280"/>
                <a:gridCol w="360360"/>
                <a:gridCol w="360360"/>
                <a:gridCol w="358560"/>
              </a:tblGrid>
              <a:tr h="474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хо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7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я внутрішнього аудиту закладів, що надають медичну допомогу дітям і матеря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я зовнішнього аудиту комісією МОЗ Україн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а технічного стану ДРЦОМД експертами Національного проект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вердження складу робочої групи з підготовки та реалізації Національного проекту «Нове життя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вердження заходів щодо реалізації Проекту розпорядженням голови облдержадміністрації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обка проектно-кошторисної документації щодо ремонтно-реконструктивних робіт у ДРЦОМ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ндерні процедури з реалізації Проект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я аудиту акушерських закладів, на базі яких планується створення регіональних перинатальних центрів ІІ рів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обка штатного розкладу перинатального центру та погодження з МОЗ Украї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монтно-реконструктивні роботи згідно з розробленою проектно-кошторисною документацією технічними консуль-тантами Проекту, приведення технічного стану ДРЦОМД у відповідність до вимог ВООЗ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я навчальних тренінгів із співробітниками ДРЦОМД фахівцями ДонНМУ, представниками ВООЗ, ЮНІСЕФ та ін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</a:tr>
              <a:tr h="4086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вітлення теми реорганізації перинатальної допомоги в засобах масової інформації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</a:tr>
              <a:tr h="4086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оснащення ДРЦОМД необхідним обладнанням, встановлення та введення в експлуатаці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криття Обласного перинатального центр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</a:tr>
            </a:tbl>
          </a:graphicData>
        </a:graphic>
      </p:graphicFrame>
      <p:sp>
        <p:nvSpPr>
          <p:cNvPr id="435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139680"/>
            <a:ext cx="90360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Garamond"/>
              </a:rPr>
              <a:t>Проблемні питання в системі над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Garamond"/>
              </a:rPr>
              <a:t>медичної допомоги жінкам і діт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7760" y="863640"/>
          <a:ext cx="4241880" cy="2922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760" y="863640"/>
                    <a:ext cx="424188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90360" y="4235400"/>
          <a:ext cx="4146840" cy="29037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0360" y="4235400"/>
                    <a:ext cx="4146840" cy="29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559480" y="900000"/>
          <a:ext cx="4178160" cy="2917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59480" y="900000"/>
                    <a:ext cx="41781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556240" y="4281480"/>
          <a:ext cx="4098960" cy="2844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56240" y="4281480"/>
                    <a:ext cx="409896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3276720" y="2952720"/>
            <a:ext cx="3168360" cy="223056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333399"/>
                </a:solidFill>
                <a:latin typeface="Bookman Old Style"/>
              </a:rPr>
              <a:t>    </a:t>
            </a:r>
            <a:r>
              <a:rPr b="1" lang="uk-UA" sz="1400" spc="-1" strike="noStrike" u="sng">
                <a:solidFill>
                  <a:srgbClr val="ff33cc"/>
                </a:solidFill>
                <a:uFillTx/>
                <a:latin typeface="Bookman Old Style"/>
              </a:rPr>
              <a:t>Демографічна ситуаці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незадовільний стан здоров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жінок і діт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низький індекс репродуктив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ного   здоров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я населення;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зниження народжуваност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депопуляція населення</a:t>
            </a:r>
            <a:r>
              <a:rPr b="0" lang="uk-UA" sz="1400" spc="-1" strike="noStrike">
                <a:solidFill>
                  <a:srgbClr val="333399"/>
                </a:solidFill>
                <a:latin typeface="Bookman Old Style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397800" y="6788160"/>
            <a:ext cx="30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02840" y="360000"/>
            <a:ext cx="8915400" cy="1058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800080"/>
                </a:solidFill>
                <a:latin typeface="Garamond"/>
              </a:rPr>
              <a:t>РЕГИОНАЛЬНЫЙ ПЕРИНАТАЛЬНЫЙ ЦЕНТР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80"/>
                </a:solidFill>
                <a:latin typeface="Garamond"/>
              </a:rPr>
              <a:t>(ДРЦОМД)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90640" y="2000160"/>
            <a:ext cx="4178160" cy="4400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252360" y="1655640"/>
          <a:ext cx="9217080" cy="5418360"/>
        </p:xfrm>
        <a:graphic>
          <a:graphicData uri="http://schemas.openxmlformats.org/drawingml/2006/table">
            <a:tbl>
              <a:tblPr/>
              <a:tblGrid>
                <a:gridCol w="2305080"/>
                <a:gridCol w="2303640"/>
                <a:gridCol w="2360520"/>
                <a:gridCol w="2247840"/>
              </a:tblGrid>
              <a:tr h="6976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АМБУЛАТОРНА СЛУЖ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СТАЦІОНАР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СЛУЖБ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6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СПЕЦІАЛІЗОВАНА СЛУЖ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ДОПОМІЖНА СЛУЖ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пренатальної діагностики та медицини пл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ушерський</a:t>
                      </a:r>
                      <a:r>
                        <a:rPr b="1" lang="uk-UA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л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0 + 50 ліж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ікувально-координаційний відді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Лабораторне відділ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сультативна полікліні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анестезіології та інтенсивної терап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сультативно-транспортна акушерсько-гінекологічна та неонатологічна брига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Центральне стерилізаційне відділ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85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діагностики та лікування безплідного шлюб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новонародже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реанімації новонароджени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гравітаційної хірургії кров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Адміністративно-господарська служ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зови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інекологічний бл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 ліж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ммологічне відділ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“Молодіжна клініка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апароскопічна хірур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3433680" y="1562040"/>
            <a:ext cx="3024360" cy="584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66"/>
                </a:solidFill>
                <a:latin typeface="Georgia"/>
              </a:rPr>
              <a:t>Операційні цілі</a:t>
            </a:r>
            <a:r>
              <a:rPr b="1" i="1" lang="ru-RU" sz="2400" spc="-1" strike="noStrike">
                <a:solidFill>
                  <a:srgbClr val="ff0066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788000" y="2160720"/>
            <a:ext cx="0" cy="367164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24000" y="3921120"/>
            <a:ext cx="4463640" cy="985320"/>
            <a:chOff x="324000" y="3921120"/>
            <a:chExt cx="4463640" cy="985320"/>
          </a:xfrm>
        </p:grpSpPr>
        <p:sp>
          <p:nvSpPr>
            <p:cNvPr id="442" name=""/>
            <p:cNvSpPr/>
            <p:nvPr/>
          </p:nvSpPr>
          <p:spPr>
            <a:xfrm>
              <a:off x="324000" y="3921120"/>
              <a:ext cx="3816360" cy="98532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ОЦ №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Зміна механізмів фінансуванн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4140000" y="4377960"/>
              <a:ext cx="64764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366840" y="5370480"/>
            <a:ext cx="3814560" cy="927000"/>
          </a:xfrm>
          <a:prstGeom prst="rect">
            <a:avLst/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ОЦ №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Підвищення якості та доступ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ності медичної допом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4168800" y="5821200"/>
            <a:ext cx="61920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976640" y="2160720"/>
            <a:ext cx="0" cy="367164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491080" y="5283360"/>
            <a:ext cx="3818160" cy="10094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ОЦ №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Мотивація населення до здор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вого способу житт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976640" y="5821200"/>
            <a:ext cx="50328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451480" y="3129120"/>
            <a:ext cx="3817800" cy="1177920"/>
          </a:xfrm>
          <a:prstGeom prst="rect">
            <a:avLst/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ОЦ №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Вирішення кадрового забезп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чення служби надання допом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дітям і матерям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971960" y="3672000"/>
            <a:ext cx="50328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5280" y="2706840"/>
            <a:ext cx="3745080" cy="9842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ОЦ №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Реорганізація системи над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перинатальної допом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140000" y="3174840"/>
            <a:ext cx="64764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148360" y="2465280"/>
            <a:ext cx="4459320" cy="2403720"/>
          </a:xfrm>
          <a:prstGeom prst="rect">
            <a:avLst/>
          </a:prstGeom>
          <a:solidFill>
            <a:srgbClr val="66ff66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Підготовка відповідних фахівці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Застосування дистанційних фор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навчанн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3. Цикли підвищення кваліфікації на базі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обласного перинатального центру 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виїзні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4. Підготовка фахівців на робочому місці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5. Перепідготовка фахівців шляхо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спеціалізації.</a:t>
            </a:r>
            <a:r>
              <a:rPr b="0" lang="ru-RU" sz="17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148360" y="5256360"/>
            <a:ext cx="4438440" cy="1050840"/>
          </a:xfrm>
          <a:prstGeom prst="rect">
            <a:avLst/>
          </a:prstGeom>
          <a:solidFill>
            <a:srgbClr val="66ff66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Розробка системи стимулів до здоровог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способу життя (“стимул +”, “стимул –”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435480" y="1565280"/>
            <a:ext cx="3024000" cy="5842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66"/>
                </a:solidFill>
                <a:latin typeface="Georgia"/>
              </a:rPr>
              <a:t>Завдання</a:t>
            </a:r>
            <a:r>
              <a:rPr b="1" i="1" lang="ru-RU" sz="2400" spc="-1" strike="noStrike">
                <a:solidFill>
                  <a:srgbClr val="ff0066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85760" y="428760"/>
            <a:ext cx="93250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cc"/>
                </a:solidFill>
                <a:latin typeface="Garamond"/>
              </a:rPr>
              <a:t>Науковий супровід реформи</a:t>
            </a:r>
            <a:br>
              <a:rPr sz="2800"/>
            </a:br>
            <a:r>
              <a:rPr b="1" lang="uk-UA" sz="2800" spc="-1" strike="noStrike">
                <a:solidFill>
                  <a:srgbClr val="9900cc"/>
                </a:solidFill>
                <a:latin typeface="Garamond"/>
              </a:rPr>
              <a:t>надання перинатальної допом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23840" y="2232000"/>
            <a:ext cx="4449600" cy="2203560"/>
          </a:xfrm>
          <a:prstGeom prst="rect">
            <a:avLst/>
          </a:prstGeom>
          <a:solidFill>
            <a:srgbClr val="66ff66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Наукове обґрунтування реорганізації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системи перинатальної допомог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шляхом створення мережі перинаталь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них центрів з урахуванням матеріально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технічних та кадрових ресурсів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кваліфікації персоналу, потоків пацієнтів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території обслуговування та закритт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малопотужних пологових стаціонарів</a:t>
            </a:r>
            <a:r>
              <a:rPr b="0" lang="ru-RU" sz="17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5280" y="4883040"/>
            <a:ext cx="4448160" cy="1828800"/>
          </a:xfrm>
          <a:prstGeom prst="rect">
            <a:avLst/>
          </a:prstGeom>
          <a:solidFill>
            <a:srgbClr val="66ff66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Створення науково-обґрунтованої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системи управління перинатальної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допомоги в області з урахуванням рівні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надання медичної допомоги. Розробк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системи моніторингу та оцінк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результатів впровадження Проект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«Нове життя»</a:t>
            </a:r>
            <a:r>
              <a:rPr b="0" lang="ru-RU" sz="17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6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8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8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649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9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660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1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682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000"/>
                            </p:stCondLst>
                            <p:childTnLst>
                              <p:par>
                                <p:cTn id="6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5560" y="122400"/>
            <a:ext cx="89154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Garamond"/>
              </a:rPr>
              <a:t>Очікувані результати</a:t>
            </a:r>
            <a:br>
              <a:rPr sz="2800"/>
            </a:br>
            <a:r>
              <a:rPr b="1" lang="uk-UA" sz="2800" spc="-1" strike="noStrike">
                <a:solidFill>
                  <a:srgbClr val="800080"/>
                </a:solidFill>
                <a:latin typeface="Garamond"/>
              </a:rPr>
              <a:t>впровадження  Проек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49440" y="1422360"/>
            <a:ext cx="2143080" cy="960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Garamond"/>
                <a:ea typeface="Arial"/>
              </a:rPr>
              <a:t>демографічн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017960" y="1422360"/>
            <a:ext cx="2143080" cy="9590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Garamond"/>
                <a:ea typeface="Arial"/>
              </a:rPr>
              <a:t>економічн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157880" y="1395360"/>
            <a:ext cx="2143440" cy="960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Garamond"/>
                <a:ea typeface="Arial"/>
              </a:rPr>
              <a:t>соціальн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2280" y="3273480"/>
            <a:ext cx="3103560" cy="3770280"/>
          </a:xfrm>
          <a:custGeom>
            <a:avLst/>
            <a:gdLst>
              <a:gd name="textAreaLeft" fmla="*/ 151200 w 3103560"/>
              <a:gd name="textAreaRight" fmla="*/ 2952360 w 3103560"/>
              <a:gd name="textAreaTop" fmla="*/ 151200 h 3770280"/>
              <a:gd name="textAreaBottom" fmla="*/ 3619080 h 3770280"/>
            </a:gdLst>
            <a:ahLst/>
            <a:rect l="textAreaLeft" t="textAreaTop" r="textAreaRight" b="textAreaBottom"/>
            <a:pathLst>
              <a:path w="21600" h="26240">
                <a:moveTo>
                  <a:pt x="3600" y="0"/>
                </a:moveTo>
                <a:arcTo wR="3600" hR="3600" stAng="16200000" swAng="-5400000"/>
                <a:lnTo>
                  <a:pt x="0" y="22640"/>
                </a:lnTo>
                <a:arcTo wR="3600" hR="3600" stAng="10800000" swAng="-5400000"/>
                <a:lnTo>
                  <a:pt x="18000" y="26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- зниження</a:t>
            </a:r>
            <a:r>
              <a:rPr b="0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рівня малюкової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смертності на 20%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зниження рі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материнської смертност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на 10%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зниження дитячо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інвалідності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зниження ранньо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неонатальної смертності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зниження рівн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перинатальної смерт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до 8 на 1000  новонарод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же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430440" y="3273480"/>
            <a:ext cx="3264120" cy="3699000"/>
          </a:xfrm>
          <a:custGeom>
            <a:avLst/>
            <a:gdLst>
              <a:gd name="textAreaLeft" fmla="*/ 159120 w 3264120"/>
              <a:gd name="textAreaRight" fmla="*/ 3105000 w 3264120"/>
              <a:gd name="textAreaTop" fmla="*/ 159120 h 3699000"/>
              <a:gd name="textAreaBottom" fmla="*/ 3539880 h 3699000"/>
            </a:gdLst>
            <a:ahLst/>
            <a:rect l="textAreaLeft" t="textAreaTop" r="textAreaRight" b="textAreaBottom"/>
            <a:pathLst>
              <a:path w="21600" h="24477">
                <a:moveTo>
                  <a:pt x="3600" y="0"/>
                </a:moveTo>
                <a:arcTo wR="3600" hR="3600" stAng="16200000" swAng="-5400000"/>
                <a:lnTo>
                  <a:pt x="0" y="20877"/>
                </a:lnTo>
                <a:arcTo wR="3600" hR="3600" stAng="10800000" swAng="-5400000"/>
                <a:lnTo>
                  <a:pt x="18000" y="24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збільшення чисель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працездатного населе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вивільнення місцевих 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державних коштів, щ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використовувалися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утримання малопотужн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відділе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покращення умов 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матеріально-техніч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стану закладів, що надаю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допомогу матерям та дітя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оптимізація терміну перебу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вання на стаціонарн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ліжку породіль і нов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народже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59440" y="3298680"/>
            <a:ext cx="2660760" cy="3673800"/>
          </a:xfrm>
          <a:custGeom>
            <a:avLst/>
            <a:gdLst>
              <a:gd name="textAreaLeft" fmla="*/ 129600 w 2660760"/>
              <a:gd name="textAreaRight" fmla="*/ 2531160 w 2660760"/>
              <a:gd name="textAreaTop" fmla="*/ 129600 h 3673800"/>
              <a:gd name="textAreaBottom" fmla="*/ 3544200 h 3673800"/>
            </a:gdLst>
            <a:ahLst/>
            <a:rect l="textAreaLeft" t="textAreaTop" r="textAreaRight" b="textAreaBottom"/>
            <a:pathLst>
              <a:path w="21600" h="29823">
                <a:moveTo>
                  <a:pt x="3600" y="0"/>
                </a:moveTo>
                <a:arcTo wR="3600" hR="3600" stAng="16200000" swAng="-5400000"/>
                <a:lnTo>
                  <a:pt x="0" y="26223"/>
                </a:lnTo>
                <a:arcTo wR="3600" hR="3600" stAng="10800000" swAng="-5400000"/>
                <a:lnTo>
                  <a:pt x="18000" y="29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покращення як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та доступності пери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натальної допомог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населенн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підвищення престиж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ності праці медич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працівникі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покращення репр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дуктивного здоров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‘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насел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822920" y="2316240"/>
            <a:ext cx="515880" cy="530280"/>
          </a:xfrm>
          <a:prstGeom prst="downArrow">
            <a:avLst>
              <a:gd name="adj1" fmla="val 50000"/>
              <a:gd name="adj2" fmla="val 256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465200" y="2343240"/>
            <a:ext cx="515880" cy="571320"/>
          </a:xfrm>
          <a:prstGeom prst="downArrow">
            <a:avLst>
              <a:gd name="adj1" fmla="val 50000"/>
              <a:gd name="adj2" fmla="val 276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988400" y="2316240"/>
            <a:ext cx="515880" cy="547560"/>
          </a:xfrm>
          <a:prstGeom prst="downArrow">
            <a:avLst>
              <a:gd name="adj1" fmla="val 50000"/>
              <a:gd name="adj2" fmla="val 265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85280" y="71280"/>
            <a:ext cx="87505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Garamond"/>
              </a:rPr>
              <a:t>Прогноз індикаторів впровадження Проек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3016080" y="2592360"/>
          <a:ext cx="6705720" cy="146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16080" y="2592360"/>
                    <a:ext cx="670572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3046320" y="917640"/>
          <a:ext cx="6677280" cy="1606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6320" y="917640"/>
                    <a:ext cx="6677280" cy="16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"/>
          <p:cNvGraphicFramePr/>
          <p:nvPr/>
        </p:nvGraphicFramePr>
        <p:xfrm>
          <a:off x="3233880" y="5665680"/>
          <a:ext cx="6487920" cy="1463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33880" y="5665680"/>
                    <a:ext cx="648792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3251160" y="4106880"/>
          <a:ext cx="6488280" cy="159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51160" y="4106880"/>
                    <a:ext cx="6488280" cy="15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>
            <a:off x="614880" y="1622520"/>
            <a:ext cx="2855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малюкова смерт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64840" y="3092400"/>
            <a:ext cx="319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материнська смерт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00120" y="4573440"/>
            <a:ext cx="3211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хвороби репродуктивно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системи підліт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19920" y="6186600"/>
            <a:ext cx="240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інвалідність ді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826160" y="4565520"/>
            <a:ext cx="3251160" cy="457200"/>
          </a:xfrm>
          <a:custGeom>
            <a:avLst/>
            <a:gdLst/>
            <a:ahLst/>
            <a:rect l="l" t="t" r="r" b="b"/>
            <a:pathLst>
              <a:path w="2048" h="288">
                <a:moveTo>
                  <a:pt x="0" y="0"/>
                </a:moveTo>
                <a:cubicBezTo>
                  <a:pt x="112" y="19"/>
                  <a:pt x="446" y="85"/>
                  <a:pt x="672" y="116"/>
                </a:cubicBezTo>
                <a:cubicBezTo>
                  <a:pt x="898" y="147"/>
                  <a:pt x="1127" y="159"/>
                  <a:pt x="1356" y="188"/>
                </a:cubicBezTo>
                <a:cubicBezTo>
                  <a:pt x="1585" y="217"/>
                  <a:pt x="1904" y="267"/>
                  <a:pt x="2048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449920" y="4776840"/>
            <a:ext cx="8265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Garamond"/>
              </a:rPr>
              <a:t>-10,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533840" y="1212840"/>
            <a:ext cx="3629160" cy="625320"/>
          </a:xfrm>
          <a:custGeom>
            <a:avLst/>
            <a:gdLst/>
            <a:ahLst/>
            <a:rect l="l" t="t" r="r" b="b"/>
            <a:pathLst>
              <a:path w="2286" h="394">
                <a:moveTo>
                  <a:pt x="0" y="16"/>
                </a:moveTo>
                <a:cubicBezTo>
                  <a:pt x="99" y="17"/>
                  <a:pt x="400" y="0"/>
                  <a:pt x="588" y="22"/>
                </a:cubicBezTo>
                <a:cubicBezTo>
                  <a:pt x="776" y="44"/>
                  <a:pt x="940" y="107"/>
                  <a:pt x="1128" y="148"/>
                </a:cubicBezTo>
                <a:cubicBezTo>
                  <a:pt x="1316" y="189"/>
                  <a:pt x="1523" y="227"/>
                  <a:pt x="1716" y="268"/>
                </a:cubicBezTo>
                <a:cubicBezTo>
                  <a:pt x="1909" y="309"/>
                  <a:pt x="2167" y="368"/>
                  <a:pt x="2286" y="39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614840" y="2932200"/>
            <a:ext cx="3414600" cy="215640"/>
          </a:xfrm>
          <a:custGeom>
            <a:avLst/>
            <a:gdLst/>
            <a:ahLst/>
            <a:rect l="l" t="t" r="r" b="b"/>
            <a:pathLst>
              <a:path w="2151" h="136">
                <a:moveTo>
                  <a:pt x="0" y="1"/>
                </a:moveTo>
                <a:cubicBezTo>
                  <a:pt x="88" y="4"/>
                  <a:pt x="355" y="0"/>
                  <a:pt x="531" y="18"/>
                </a:cubicBezTo>
                <a:cubicBezTo>
                  <a:pt x="707" y="36"/>
                  <a:pt x="878" y="91"/>
                  <a:pt x="1059" y="109"/>
                </a:cubicBezTo>
                <a:cubicBezTo>
                  <a:pt x="1240" y="127"/>
                  <a:pt x="1435" y="119"/>
                  <a:pt x="1617" y="124"/>
                </a:cubicBezTo>
                <a:cubicBezTo>
                  <a:pt x="1799" y="129"/>
                  <a:pt x="2040" y="134"/>
                  <a:pt x="2151" y="1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846680" y="6067440"/>
            <a:ext cx="3111480" cy="504720"/>
          </a:xfrm>
          <a:custGeom>
            <a:avLst/>
            <a:gdLst/>
            <a:ahLst/>
            <a:rect l="l" t="t" r="r" b="b"/>
            <a:pathLst>
              <a:path w="1959" h="318">
                <a:moveTo>
                  <a:pt x="0" y="0"/>
                </a:moveTo>
                <a:cubicBezTo>
                  <a:pt x="105" y="13"/>
                  <a:pt x="418" y="39"/>
                  <a:pt x="633" y="78"/>
                </a:cubicBezTo>
                <a:cubicBezTo>
                  <a:pt x="848" y="117"/>
                  <a:pt x="1072" y="197"/>
                  <a:pt x="1293" y="237"/>
                </a:cubicBezTo>
                <a:cubicBezTo>
                  <a:pt x="1514" y="277"/>
                  <a:pt x="1820" y="301"/>
                  <a:pt x="1959" y="31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492760" y="1622520"/>
            <a:ext cx="7138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Garamond"/>
              </a:rPr>
              <a:t>-1,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359920" y="3164040"/>
            <a:ext cx="8265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Garamond"/>
              </a:rPr>
              <a:t>-26,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332200" y="6294600"/>
            <a:ext cx="7138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Garamond"/>
              </a:rPr>
              <a:t>-0,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679840" y="2239560"/>
            <a:ext cx="6008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cc0099"/>
                </a:solidFill>
                <a:latin typeface="Century Schoolbook"/>
              </a:rPr>
              <a:t>Дякую за увагу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xit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08000" y="2160"/>
            <a:ext cx="9397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33cc"/>
                </a:solidFill>
                <a:latin typeface="Georgia"/>
              </a:rPr>
              <a:t>Мета Проекту:</a:t>
            </a: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зниження рівня материнської та малюкової смерт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cc33"/>
                </a:solidFill>
                <a:latin typeface="Georgia"/>
              </a:rPr>
              <a:t>Механізм:</a:t>
            </a: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забезпечення населення доступною висококваліфікованою допомогою шляхом концентрації матеріально-технічних і кадрових ресурсів у мережі перинатальних цент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19560" y="2305080"/>
            <a:ext cx="3022560" cy="584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66"/>
                </a:solidFill>
                <a:latin typeface="Georgia"/>
              </a:rPr>
              <a:t>Операційні цілі</a:t>
            </a:r>
            <a:r>
              <a:rPr b="1" i="1" lang="ru-RU" sz="2400" spc="-1" strike="noStrike">
                <a:solidFill>
                  <a:srgbClr val="ff0066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5080" y="2898720"/>
            <a:ext cx="0" cy="341784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81080" y="4392720"/>
            <a:ext cx="4463640" cy="985320"/>
            <a:chOff x="181080" y="4392720"/>
            <a:chExt cx="4463640" cy="985320"/>
          </a:xfrm>
        </p:grpSpPr>
        <p:sp>
          <p:nvSpPr>
            <p:cNvPr id="162" name=""/>
            <p:cNvSpPr/>
            <p:nvPr/>
          </p:nvSpPr>
          <p:spPr>
            <a:xfrm>
              <a:off x="181080" y="4392720"/>
              <a:ext cx="3816360" cy="98532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ОЦ №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Зміна механізмів фінансуванн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3997080" y="4849560"/>
              <a:ext cx="64764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23920" y="5842080"/>
            <a:ext cx="4421160" cy="927000"/>
            <a:chOff x="223920" y="5842080"/>
            <a:chExt cx="4421160" cy="927000"/>
          </a:xfrm>
        </p:grpSpPr>
        <p:sp>
          <p:nvSpPr>
            <p:cNvPr id="165" name=""/>
            <p:cNvSpPr/>
            <p:nvPr/>
          </p:nvSpPr>
          <p:spPr>
            <a:xfrm>
              <a:off x="223920" y="5842080"/>
              <a:ext cx="3814560" cy="92700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ОЦ №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Підвищення якості та доступ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ності медичної допомог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025880" y="6307200"/>
              <a:ext cx="61920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5076720" y="2889360"/>
            <a:ext cx="0" cy="288108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076720" y="5256360"/>
            <a:ext cx="4321440" cy="1008000"/>
            <a:chOff x="5076720" y="5256360"/>
            <a:chExt cx="4321440" cy="1008000"/>
          </a:xfrm>
        </p:grpSpPr>
        <p:sp>
          <p:nvSpPr>
            <p:cNvPr id="169" name=""/>
            <p:cNvSpPr/>
            <p:nvPr/>
          </p:nvSpPr>
          <p:spPr>
            <a:xfrm>
              <a:off x="5581800" y="5256360"/>
              <a:ext cx="3816360" cy="100800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ОЦ №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Мотивація населення до здоро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вого способу житт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76720" y="5764320"/>
              <a:ext cx="50328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076720" y="3600360"/>
            <a:ext cx="4321440" cy="1177560"/>
            <a:chOff x="5076720" y="3600360"/>
            <a:chExt cx="4321440" cy="1177560"/>
          </a:xfrm>
        </p:grpSpPr>
        <p:sp>
          <p:nvSpPr>
            <p:cNvPr id="172" name=""/>
            <p:cNvSpPr/>
            <p:nvPr/>
          </p:nvSpPr>
          <p:spPr>
            <a:xfrm>
              <a:off x="5580000" y="3600360"/>
              <a:ext cx="3818160" cy="117756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ОЦ №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Вирішення кадрового забезпе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чення служби надання допомог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дітям і матерям</a:t>
              </a:r>
              <a:r>
                <a:rPr b="1" lang="ru-RU" sz="20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76720" y="4143600"/>
              <a:ext cx="50328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52360" y="3178080"/>
            <a:ext cx="4392360" cy="984240"/>
            <a:chOff x="252360" y="3178080"/>
            <a:chExt cx="4392360" cy="984240"/>
          </a:xfrm>
        </p:grpSpPr>
        <p:sp>
          <p:nvSpPr>
            <p:cNvPr id="175" name=""/>
            <p:cNvSpPr/>
            <p:nvPr/>
          </p:nvSpPr>
          <p:spPr>
            <a:xfrm>
              <a:off x="252360" y="3178080"/>
              <a:ext cx="3745080" cy="98424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ОЦ №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Реорганізація системи наданн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перинатальної допомог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997080" y="3646440"/>
              <a:ext cx="64764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9397800" y="6788160"/>
            <a:ext cx="30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908000" y="433440"/>
            <a:ext cx="5905800" cy="1295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ОЦ №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Реорганізація системи над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перинатальної допом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46000" y="3311640"/>
            <a:ext cx="66963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1. Аудит (зовнішній, внутрішній).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46000" y="4140360"/>
            <a:ext cx="669636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2. Розмежування за рівнями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надання медичної допом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46000" y="5156280"/>
            <a:ext cx="6696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3. Створення дійової вертикалі управлі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46000" y="5950080"/>
            <a:ext cx="66963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4. Закриття малопотужних пологових відділ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0880" y="2424240"/>
            <a:ext cx="185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66ff"/>
                </a:solidFill>
                <a:latin typeface="Garamond"/>
              </a:rPr>
              <a:t>Завд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397800" y="6788160"/>
            <a:ext cx="30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85280" y="144000"/>
            <a:ext cx="8750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Garamond"/>
              </a:rPr>
              <a:t>Підсумки діяльності неонатальних центрів</a:t>
            </a:r>
            <a:br>
              <a:rPr sz="3200"/>
            </a:br>
            <a:r>
              <a:rPr b="1" lang="uk-UA" sz="3200" spc="-1" strike="noStrike">
                <a:solidFill>
                  <a:srgbClr val="800080"/>
                </a:solidFill>
                <a:latin typeface="Garamond"/>
              </a:rPr>
              <a:t>у містах обла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119320" y="1370160"/>
            <a:ext cx="5595480" cy="5521320"/>
            <a:chOff x="2119320" y="1370160"/>
            <a:chExt cx="5595480" cy="5521320"/>
          </a:xfrm>
        </p:grpSpPr>
        <p:sp>
          <p:nvSpPr>
            <p:cNvPr id="187" name=""/>
            <p:cNvSpPr/>
            <p:nvPr/>
          </p:nvSpPr>
          <p:spPr>
            <a:xfrm>
              <a:off x="5202000" y="1379520"/>
              <a:ext cx="1998360" cy="1729080"/>
            </a:xfrm>
            <a:custGeom>
              <a:avLst/>
              <a:gdLst/>
              <a:ahLst/>
              <a:rect l="l" t="t" r="r" b="b"/>
              <a:pathLst>
                <a:path w="1259" h="1089">
                  <a:moveTo>
                    <a:pt x="0" y="0"/>
                  </a:moveTo>
                  <a:lnTo>
                    <a:pt x="23" y="0"/>
                  </a:lnTo>
                  <a:lnTo>
                    <a:pt x="53" y="0"/>
                  </a:lnTo>
                  <a:lnTo>
                    <a:pt x="76" y="0"/>
                  </a:lnTo>
                  <a:lnTo>
                    <a:pt x="100" y="0"/>
                  </a:lnTo>
                  <a:lnTo>
                    <a:pt x="123" y="6"/>
                  </a:lnTo>
                  <a:lnTo>
                    <a:pt x="147" y="6"/>
                  </a:lnTo>
                  <a:lnTo>
                    <a:pt x="171" y="12"/>
                  </a:lnTo>
                  <a:lnTo>
                    <a:pt x="200" y="12"/>
                  </a:lnTo>
                  <a:lnTo>
                    <a:pt x="224" y="18"/>
                  </a:lnTo>
                  <a:lnTo>
                    <a:pt x="247" y="18"/>
                  </a:lnTo>
                  <a:lnTo>
                    <a:pt x="271" y="24"/>
                  </a:lnTo>
                  <a:lnTo>
                    <a:pt x="294" y="30"/>
                  </a:lnTo>
                  <a:lnTo>
                    <a:pt x="318" y="36"/>
                  </a:lnTo>
                  <a:lnTo>
                    <a:pt x="341" y="41"/>
                  </a:lnTo>
                  <a:lnTo>
                    <a:pt x="365" y="47"/>
                  </a:lnTo>
                  <a:lnTo>
                    <a:pt x="388" y="53"/>
                  </a:lnTo>
                  <a:lnTo>
                    <a:pt x="412" y="59"/>
                  </a:lnTo>
                  <a:lnTo>
                    <a:pt x="435" y="65"/>
                  </a:lnTo>
                  <a:lnTo>
                    <a:pt x="459" y="77"/>
                  </a:lnTo>
                  <a:lnTo>
                    <a:pt x="482" y="83"/>
                  </a:lnTo>
                  <a:lnTo>
                    <a:pt x="506" y="94"/>
                  </a:lnTo>
                  <a:lnTo>
                    <a:pt x="530" y="100"/>
                  </a:lnTo>
                  <a:lnTo>
                    <a:pt x="553" y="112"/>
                  </a:lnTo>
                  <a:lnTo>
                    <a:pt x="577" y="124"/>
                  </a:lnTo>
                  <a:lnTo>
                    <a:pt x="594" y="130"/>
                  </a:lnTo>
                  <a:lnTo>
                    <a:pt x="618" y="141"/>
                  </a:lnTo>
                  <a:lnTo>
                    <a:pt x="641" y="153"/>
                  </a:lnTo>
                  <a:lnTo>
                    <a:pt x="665" y="165"/>
                  </a:lnTo>
                  <a:lnTo>
                    <a:pt x="683" y="177"/>
                  </a:lnTo>
                  <a:lnTo>
                    <a:pt x="706" y="189"/>
                  </a:lnTo>
                  <a:lnTo>
                    <a:pt x="730" y="200"/>
                  </a:lnTo>
                  <a:lnTo>
                    <a:pt x="747" y="212"/>
                  </a:lnTo>
                  <a:lnTo>
                    <a:pt x="771" y="224"/>
                  </a:lnTo>
                  <a:lnTo>
                    <a:pt x="788" y="241"/>
                  </a:lnTo>
                  <a:lnTo>
                    <a:pt x="812" y="253"/>
                  </a:lnTo>
                  <a:lnTo>
                    <a:pt x="830" y="271"/>
                  </a:lnTo>
                  <a:lnTo>
                    <a:pt x="847" y="283"/>
                  </a:lnTo>
                  <a:lnTo>
                    <a:pt x="871" y="300"/>
                  </a:lnTo>
                  <a:lnTo>
                    <a:pt x="888" y="312"/>
                  </a:lnTo>
                  <a:lnTo>
                    <a:pt x="906" y="330"/>
                  </a:lnTo>
                  <a:lnTo>
                    <a:pt x="924" y="347"/>
                  </a:lnTo>
                  <a:lnTo>
                    <a:pt x="947" y="359"/>
                  </a:lnTo>
                  <a:lnTo>
                    <a:pt x="965" y="377"/>
                  </a:lnTo>
                  <a:lnTo>
                    <a:pt x="983" y="394"/>
                  </a:lnTo>
                  <a:lnTo>
                    <a:pt x="1000" y="412"/>
                  </a:lnTo>
                  <a:lnTo>
                    <a:pt x="1018" y="430"/>
                  </a:lnTo>
                  <a:lnTo>
                    <a:pt x="1030" y="447"/>
                  </a:lnTo>
                  <a:lnTo>
                    <a:pt x="1047" y="465"/>
                  </a:lnTo>
                  <a:lnTo>
                    <a:pt x="1065" y="483"/>
                  </a:lnTo>
                  <a:lnTo>
                    <a:pt x="1083" y="500"/>
                  </a:lnTo>
                  <a:lnTo>
                    <a:pt x="1094" y="524"/>
                  </a:lnTo>
                  <a:lnTo>
                    <a:pt x="1112" y="542"/>
                  </a:lnTo>
                  <a:lnTo>
                    <a:pt x="1130" y="559"/>
                  </a:lnTo>
                  <a:lnTo>
                    <a:pt x="1141" y="583"/>
                  </a:lnTo>
                  <a:lnTo>
                    <a:pt x="1153" y="600"/>
                  </a:lnTo>
                  <a:lnTo>
                    <a:pt x="1171" y="624"/>
                  </a:lnTo>
                  <a:lnTo>
                    <a:pt x="1183" y="642"/>
                  </a:lnTo>
                  <a:lnTo>
                    <a:pt x="1194" y="665"/>
                  </a:lnTo>
                  <a:lnTo>
                    <a:pt x="1212" y="683"/>
                  </a:lnTo>
                  <a:lnTo>
                    <a:pt x="1224" y="706"/>
                  </a:lnTo>
                  <a:lnTo>
                    <a:pt x="1236" y="724"/>
                  </a:lnTo>
                  <a:lnTo>
                    <a:pt x="1247" y="748"/>
                  </a:lnTo>
                  <a:lnTo>
                    <a:pt x="1259" y="771"/>
                  </a:lnTo>
                  <a:lnTo>
                    <a:pt x="630" y="1089"/>
                  </a:lnTo>
                  <a:lnTo>
                    <a:pt x="624" y="1077"/>
                  </a:lnTo>
                  <a:lnTo>
                    <a:pt x="618" y="1071"/>
                  </a:lnTo>
                  <a:lnTo>
                    <a:pt x="612" y="1059"/>
                  </a:lnTo>
                  <a:lnTo>
                    <a:pt x="606" y="1048"/>
                  </a:lnTo>
                  <a:lnTo>
                    <a:pt x="600" y="1036"/>
                  </a:lnTo>
                  <a:lnTo>
                    <a:pt x="588" y="1024"/>
                  </a:lnTo>
                  <a:lnTo>
                    <a:pt x="582" y="1018"/>
                  </a:lnTo>
                  <a:lnTo>
                    <a:pt x="577" y="1006"/>
                  </a:lnTo>
                  <a:lnTo>
                    <a:pt x="571" y="995"/>
                  </a:lnTo>
                  <a:lnTo>
                    <a:pt x="565" y="989"/>
                  </a:lnTo>
                  <a:lnTo>
                    <a:pt x="553" y="977"/>
                  </a:lnTo>
                  <a:lnTo>
                    <a:pt x="547" y="965"/>
                  </a:lnTo>
                  <a:lnTo>
                    <a:pt x="541" y="959"/>
                  </a:lnTo>
                  <a:lnTo>
                    <a:pt x="530" y="948"/>
                  </a:lnTo>
                  <a:lnTo>
                    <a:pt x="524" y="936"/>
                  </a:lnTo>
                  <a:lnTo>
                    <a:pt x="518" y="930"/>
                  </a:lnTo>
                  <a:lnTo>
                    <a:pt x="506" y="918"/>
                  </a:lnTo>
                  <a:lnTo>
                    <a:pt x="500" y="912"/>
                  </a:lnTo>
                  <a:lnTo>
                    <a:pt x="488" y="901"/>
                  </a:lnTo>
                  <a:lnTo>
                    <a:pt x="482" y="895"/>
                  </a:lnTo>
                  <a:lnTo>
                    <a:pt x="471" y="889"/>
                  </a:lnTo>
                  <a:lnTo>
                    <a:pt x="465" y="877"/>
                  </a:lnTo>
                  <a:lnTo>
                    <a:pt x="453" y="871"/>
                  </a:lnTo>
                  <a:lnTo>
                    <a:pt x="441" y="859"/>
                  </a:lnTo>
                  <a:lnTo>
                    <a:pt x="435" y="853"/>
                  </a:lnTo>
                  <a:lnTo>
                    <a:pt x="424" y="848"/>
                  </a:lnTo>
                  <a:lnTo>
                    <a:pt x="412" y="842"/>
                  </a:lnTo>
                  <a:lnTo>
                    <a:pt x="406" y="830"/>
                  </a:lnTo>
                  <a:lnTo>
                    <a:pt x="394" y="824"/>
                  </a:lnTo>
                  <a:lnTo>
                    <a:pt x="382" y="818"/>
                  </a:lnTo>
                  <a:lnTo>
                    <a:pt x="377" y="812"/>
                  </a:lnTo>
                  <a:lnTo>
                    <a:pt x="365" y="806"/>
                  </a:lnTo>
                  <a:lnTo>
                    <a:pt x="353" y="801"/>
                  </a:lnTo>
                  <a:lnTo>
                    <a:pt x="341" y="795"/>
                  </a:lnTo>
                  <a:lnTo>
                    <a:pt x="329" y="789"/>
                  </a:lnTo>
                  <a:lnTo>
                    <a:pt x="324" y="783"/>
                  </a:lnTo>
                  <a:lnTo>
                    <a:pt x="312" y="777"/>
                  </a:lnTo>
                  <a:lnTo>
                    <a:pt x="300" y="771"/>
                  </a:lnTo>
                  <a:lnTo>
                    <a:pt x="288" y="765"/>
                  </a:lnTo>
                  <a:lnTo>
                    <a:pt x="276" y="759"/>
                  </a:lnTo>
                  <a:lnTo>
                    <a:pt x="265" y="753"/>
                  </a:lnTo>
                  <a:lnTo>
                    <a:pt x="253" y="753"/>
                  </a:lnTo>
                  <a:lnTo>
                    <a:pt x="241" y="748"/>
                  </a:lnTo>
                  <a:lnTo>
                    <a:pt x="229" y="742"/>
                  </a:lnTo>
                  <a:lnTo>
                    <a:pt x="218" y="742"/>
                  </a:lnTo>
                  <a:lnTo>
                    <a:pt x="206" y="736"/>
                  </a:lnTo>
                  <a:lnTo>
                    <a:pt x="194" y="730"/>
                  </a:lnTo>
                  <a:lnTo>
                    <a:pt x="182" y="730"/>
                  </a:lnTo>
                  <a:lnTo>
                    <a:pt x="171" y="724"/>
                  </a:lnTo>
                  <a:lnTo>
                    <a:pt x="159" y="724"/>
                  </a:lnTo>
                  <a:lnTo>
                    <a:pt x="147" y="718"/>
                  </a:lnTo>
                  <a:lnTo>
                    <a:pt x="135" y="718"/>
                  </a:lnTo>
                  <a:lnTo>
                    <a:pt x="123" y="718"/>
                  </a:lnTo>
                  <a:lnTo>
                    <a:pt x="112" y="712"/>
                  </a:lnTo>
                  <a:lnTo>
                    <a:pt x="100" y="712"/>
                  </a:lnTo>
                  <a:lnTo>
                    <a:pt x="88" y="712"/>
                  </a:lnTo>
                  <a:lnTo>
                    <a:pt x="76" y="706"/>
                  </a:lnTo>
                  <a:lnTo>
                    <a:pt x="65" y="706"/>
                  </a:lnTo>
                  <a:lnTo>
                    <a:pt x="53" y="706"/>
                  </a:lnTo>
                  <a:lnTo>
                    <a:pt x="41" y="706"/>
                  </a:lnTo>
                  <a:lnTo>
                    <a:pt x="23" y="706"/>
                  </a:lnTo>
                  <a:lnTo>
                    <a:pt x="12" y="706"/>
                  </a:lnTo>
                  <a:lnTo>
                    <a:pt x="0" y="7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72080" y="3043440"/>
              <a:ext cx="1242720" cy="1784160"/>
            </a:xfrm>
            <a:custGeom>
              <a:avLst/>
              <a:gdLst/>
              <a:ahLst/>
              <a:rect l="l" t="t" r="r" b="b"/>
              <a:pathLst>
                <a:path w="783" h="1124">
                  <a:moveTo>
                    <a:pt x="630" y="0"/>
                  </a:moveTo>
                  <a:lnTo>
                    <a:pt x="642" y="23"/>
                  </a:lnTo>
                  <a:lnTo>
                    <a:pt x="647" y="41"/>
                  </a:lnTo>
                  <a:lnTo>
                    <a:pt x="659" y="64"/>
                  </a:lnTo>
                  <a:lnTo>
                    <a:pt x="671" y="88"/>
                  </a:lnTo>
                  <a:lnTo>
                    <a:pt x="677" y="111"/>
                  </a:lnTo>
                  <a:lnTo>
                    <a:pt x="689" y="135"/>
                  </a:lnTo>
                  <a:lnTo>
                    <a:pt x="695" y="159"/>
                  </a:lnTo>
                  <a:lnTo>
                    <a:pt x="706" y="182"/>
                  </a:lnTo>
                  <a:lnTo>
                    <a:pt x="712" y="206"/>
                  </a:lnTo>
                  <a:lnTo>
                    <a:pt x="718" y="229"/>
                  </a:lnTo>
                  <a:lnTo>
                    <a:pt x="724" y="253"/>
                  </a:lnTo>
                  <a:lnTo>
                    <a:pt x="736" y="276"/>
                  </a:lnTo>
                  <a:lnTo>
                    <a:pt x="742" y="300"/>
                  </a:lnTo>
                  <a:lnTo>
                    <a:pt x="748" y="323"/>
                  </a:lnTo>
                  <a:lnTo>
                    <a:pt x="753" y="347"/>
                  </a:lnTo>
                  <a:lnTo>
                    <a:pt x="753" y="370"/>
                  </a:lnTo>
                  <a:lnTo>
                    <a:pt x="759" y="394"/>
                  </a:lnTo>
                  <a:lnTo>
                    <a:pt x="765" y="417"/>
                  </a:lnTo>
                  <a:lnTo>
                    <a:pt x="765" y="441"/>
                  </a:lnTo>
                  <a:lnTo>
                    <a:pt x="771" y="470"/>
                  </a:lnTo>
                  <a:lnTo>
                    <a:pt x="771" y="494"/>
                  </a:lnTo>
                  <a:lnTo>
                    <a:pt x="777" y="518"/>
                  </a:lnTo>
                  <a:lnTo>
                    <a:pt x="777" y="541"/>
                  </a:lnTo>
                  <a:lnTo>
                    <a:pt x="777" y="565"/>
                  </a:lnTo>
                  <a:lnTo>
                    <a:pt x="783" y="588"/>
                  </a:lnTo>
                  <a:lnTo>
                    <a:pt x="783" y="618"/>
                  </a:lnTo>
                  <a:lnTo>
                    <a:pt x="783" y="641"/>
                  </a:lnTo>
                  <a:lnTo>
                    <a:pt x="783" y="665"/>
                  </a:lnTo>
                  <a:lnTo>
                    <a:pt x="783" y="688"/>
                  </a:lnTo>
                  <a:lnTo>
                    <a:pt x="777" y="712"/>
                  </a:lnTo>
                  <a:lnTo>
                    <a:pt x="777" y="735"/>
                  </a:lnTo>
                  <a:lnTo>
                    <a:pt x="777" y="765"/>
                  </a:lnTo>
                  <a:lnTo>
                    <a:pt x="771" y="788"/>
                  </a:lnTo>
                  <a:lnTo>
                    <a:pt x="771" y="812"/>
                  </a:lnTo>
                  <a:lnTo>
                    <a:pt x="765" y="835"/>
                  </a:lnTo>
                  <a:lnTo>
                    <a:pt x="765" y="859"/>
                  </a:lnTo>
                  <a:lnTo>
                    <a:pt x="759" y="882"/>
                  </a:lnTo>
                  <a:lnTo>
                    <a:pt x="753" y="912"/>
                  </a:lnTo>
                  <a:lnTo>
                    <a:pt x="753" y="935"/>
                  </a:lnTo>
                  <a:lnTo>
                    <a:pt x="748" y="959"/>
                  </a:lnTo>
                  <a:lnTo>
                    <a:pt x="742" y="982"/>
                  </a:lnTo>
                  <a:lnTo>
                    <a:pt x="736" y="1006"/>
                  </a:lnTo>
                  <a:lnTo>
                    <a:pt x="724" y="1029"/>
                  </a:lnTo>
                  <a:lnTo>
                    <a:pt x="718" y="1053"/>
                  </a:lnTo>
                  <a:lnTo>
                    <a:pt x="712" y="1077"/>
                  </a:lnTo>
                  <a:lnTo>
                    <a:pt x="706" y="1100"/>
                  </a:lnTo>
                  <a:lnTo>
                    <a:pt x="695" y="1124"/>
                  </a:lnTo>
                  <a:lnTo>
                    <a:pt x="36" y="882"/>
                  </a:lnTo>
                  <a:lnTo>
                    <a:pt x="36" y="871"/>
                  </a:lnTo>
                  <a:lnTo>
                    <a:pt x="41" y="859"/>
                  </a:lnTo>
                  <a:lnTo>
                    <a:pt x="47" y="847"/>
                  </a:lnTo>
                  <a:lnTo>
                    <a:pt x="47" y="835"/>
                  </a:lnTo>
                  <a:lnTo>
                    <a:pt x="53" y="824"/>
                  </a:lnTo>
                  <a:lnTo>
                    <a:pt x="53" y="812"/>
                  </a:lnTo>
                  <a:lnTo>
                    <a:pt x="59" y="800"/>
                  </a:lnTo>
                  <a:lnTo>
                    <a:pt x="59" y="788"/>
                  </a:lnTo>
                  <a:lnTo>
                    <a:pt x="65" y="776"/>
                  </a:lnTo>
                  <a:lnTo>
                    <a:pt x="65" y="765"/>
                  </a:lnTo>
                  <a:lnTo>
                    <a:pt x="65" y="753"/>
                  </a:lnTo>
                  <a:lnTo>
                    <a:pt x="71" y="735"/>
                  </a:lnTo>
                  <a:lnTo>
                    <a:pt x="71" y="723"/>
                  </a:lnTo>
                  <a:lnTo>
                    <a:pt x="71" y="712"/>
                  </a:lnTo>
                  <a:lnTo>
                    <a:pt x="71" y="700"/>
                  </a:lnTo>
                  <a:lnTo>
                    <a:pt x="71" y="688"/>
                  </a:lnTo>
                  <a:lnTo>
                    <a:pt x="77" y="676"/>
                  </a:lnTo>
                  <a:lnTo>
                    <a:pt x="77" y="665"/>
                  </a:lnTo>
                  <a:lnTo>
                    <a:pt x="77" y="653"/>
                  </a:lnTo>
                  <a:lnTo>
                    <a:pt x="77" y="641"/>
                  </a:lnTo>
                  <a:lnTo>
                    <a:pt x="77" y="629"/>
                  </a:lnTo>
                  <a:lnTo>
                    <a:pt x="77" y="618"/>
                  </a:lnTo>
                  <a:lnTo>
                    <a:pt x="77" y="600"/>
                  </a:lnTo>
                  <a:lnTo>
                    <a:pt x="71" y="588"/>
                  </a:lnTo>
                  <a:lnTo>
                    <a:pt x="71" y="576"/>
                  </a:lnTo>
                  <a:lnTo>
                    <a:pt x="71" y="565"/>
                  </a:lnTo>
                  <a:lnTo>
                    <a:pt x="71" y="553"/>
                  </a:lnTo>
                  <a:lnTo>
                    <a:pt x="71" y="541"/>
                  </a:lnTo>
                  <a:lnTo>
                    <a:pt x="65" y="529"/>
                  </a:lnTo>
                  <a:lnTo>
                    <a:pt x="65" y="518"/>
                  </a:lnTo>
                  <a:lnTo>
                    <a:pt x="65" y="506"/>
                  </a:lnTo>
                  <a:lnTo>
                    <a:pt x="59" y="494"/>
                  </a:lnTo>
                  <a:lnTo>
                    <a:pt x="59" y="482"/>
                  </a:lnTo>
                  <a:lnTo>
                    <a:pt x="53" y="470"/>
                  </a:lnTo>
                  <a:lnTo>
                    <a:pt x="53" y="459"/>
                  </a:lnTo>
                  <a:lnTo>
                    <a:pt x="47" y="447"/>
                  </a:lnTo>
                  <a:lnTo>
                    <a:pt x="47" y="435"/>
                  </a:lnTo>
                  <a:lnTo>
                    <a:pt x="41" y="423"/>
                  </a:lnTo>
                  <a:lnTo>
                    <a:pt x="36" y="412"/>
                  </a:lnTo>
                  <a:lnTo>
                    <a:pt x="36" y="400"/>
                  </a:lnTo>
                  <a:lnTo>
                    <a:pt x="30" y="388"/>
                  </a:lnTo>
                  <a:lnTo>
                    <a:pt x="24" y="376"/>
                  </a:lnTo>
                  <a:lnTo>
                    <a:pt x="18" y="365"/>
                  </a:lnTo>
                  <a:lnTo>
                    <a:pt x="12" y="353"/>
                  </a:lnTo>
                  <a:lnTo>
                    <a:pt x="12" y="341"/>
                  </a:lnTo>
                  <a:lnTo>
                    <a:pt x="6" y="329"/>
                  </a:lnTo>
                  <a:lnTo>
                    <a:pt x="0" y="317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81600" y="4864320"/>
              <a:ext cx="1642680" cy="1663560"/>
            </a:xfrm>
            <a:custGeom>
              <a:avLst/>
              <a:gdLst/>
              <a:ahLst/>
              <a:rect l="l" t="t" r="r" b="b"/>
              <a:pathLst>
                <a:path w="1035" h="1048">
                  <a:moveTo>
                    <a:pt x="1035" y="241"/>
                  </a:moveTo>
                  <a:lnTo>
                    <a:pt x="1030" y="265"/>
                  </a:lnTo>
                  <a:lnTo>
                    <a:pt x="1018" y="289"/>
                  </a:lnTo>
                  <a:lnTo>
                    <a:pt x="1012" y="312"/>
                  </a:lnTo>
                  <a:lnTo>
                    <a:pt x="1000" y="330"/>
                  </a:lnTo>
                  <a:lnTo>
                    <a:pt x="988" y="353"/>
                  </a:lnTo>
                  <a:lnTo>
                    <a:pt x="982" y="377"/>
                  </a:lnTo>
                  <a:lnTo>
                    <a:pt x="971" y="400"/>
                  </a:lnTo>
                  <a:lnTo>
                    <a:pt x="959" y="418"/>
                  </a:lnTo>
                  <a:lnTo>
                    <a:pt x="947" y="442"/>
                  </a:lnTo>
                  <a:lnTo>
                    <a:pt x="935" y="465"/>
                  </a:lnTo>
                  <a:lnTo>
                    <a:pt x="924" y="483"/>
                  </a:lnTo>
                  <a:lnTo>
                    <a:pt x="906" y="506"/>
                  </a:lnTo>
                  <a:lnTo>
                    <a:pt x="894" y="524"/>
                  </a:lnTo>
                  <a:lnTo>
                    <a:pt x="882" y="547"/>
                  </a:lnTo>
                  <a:lnTo>
                    <a:pt x="865" y="565"/>
                  </a:lnTo>
                  <a:lnTo>
                    <a:pt x="853" y="589"/>
                  </a:lnTo>
                  <a:lnTo>
                    <a:pt x="841" y="606"/>
                  </a:lnTo>
                  <a:lnTo>
                    <a:pt x="824" y="630"/>
                  </a:lnTo>
                  <a:lnTo>
                    <a:pt x="806" y="647"/>
                  </a:lnTo>
                  <a:lnTo>
                    <a:pt x="794" y="665"/>
                  </a:lnTo>
                  <a:lnTo>
                    <a:pt x="776" y="683"/>
                  </a:lnTo>
                  <a:lnTo>
                    <a:pt x="759" y="700"/>
                  </a:lnTo>
                  <a:lnTo>
                    <a:pt x="741" y="718"/>
                  </a:lnTo>
                  <a:lnTo>
                    <a:pt x="729" y="736"/>
                  </a:lnTo>
                  <a:lnTo>
                    <a:pt x="712" y="753"/>
                  </a:lnTo>
                  <a:lnTo>
                    <a:pt x="694" y="771"/>
                  </a:lnTo>
                  <a:lnTo>
                    <a:pt x="676" y="789"/>
                  </a:lnTo>
                  <a:lnTo>
                    <a:pt x="659" y="806"/>
                  </a:lnTo>
                  <a:lnTo>
                    <a:pt x="635" y="824"/>
                  </a:lnTo>
                  <a:lnTo>
                    <a:pt x="618" y="842"/>
                  </a:lnTo>
                  <a:lnTo>
                    <a:pt x="600" y="853"/>
                  </a:lnTo>
                  <a:lnTo>
                    <a:pt x="582" y="871"/>
                  </a:lnTo>
                  <a:lnTo>
                    <a:pt x="559" y="883"/>
                  </a:lnTo>
                  <a:lnTo>
                    <a:pt x="541" y="900"/>
                  </a:lnTo>
                  <a:lnTo>
                    <a:pt x="523" y="912"/>
                  </a:lnTo>
                  <a:lnTo>
                    <a:pt x="500" y="930"/>
                  </a:lnTo>
                  <a:lnTo>
                    <a:pt x="482" y="942"/>
                  </a:lnTo>
                  <a:lnTo>
                    <a:pt x="459" y="953"/>
                  </a:lnTo>
                  <a:lnTo>
                    <a:pt x="441" y="965"/>
                  </a:lnTo>
                  <a:lnTo>
                    <a:pt x="418" y="983"/>
                  </a:lnTo>
                  <a:lnTo>
                    <a:pt x="394" y="995"/>
                  </a:lnTo>
                  <a:lnTo>
                    <a:pt x="376" y="1006"/>
                  </a:lnTo>
                  <a:lnTo>
                    <a:pt x="353" y="1018"/>
                  </a:lnTo>
                  <a:lnTo>
                    <a:pt x="329" y="1024"/>
                  </a:lnTo>
                  <a:lnTo>
                    <a:pt x="306" y="1036"/>
                  </a:lnTo>
                  <a:lnTo>
                    <a:pt x="288" y="1048"/>
                  </a:lnTo>
                  <a:lnTo>
                    <a:pt x="0" y="400"/>
                  </a:lnTo>
                  <a:lnTo>
                    <a:pt x="12" y="400"/>
                  </a:lnTo>
                  <a:lnTo>
                    <a:pt x="23" y="394"/>
                  </a:lnTo>
                  <a:lnTo>
                    <a:pt x="35" y="389"/>
                  </a:lnTo>
                  <a:lnTo>
                    <a:pt x="41" y="383"/>
                  </a:lnTo>
                  <a:lnTo>
                    <a:pt x="53" y="377"/>
                  </a:lnTo>
                  <a:lnTo>
                    <a:pt x="64" y="371"/>
                  </a:lnTo>
                  <a:lnTo>
                    <a:pt x="76" y="365"/>
                  </a:lnTo>
                  <a:lnTo>
                    <a:pt x="88" y="359"/>
                  </a:lnTo>
                  <a:lnTo>
                    <a:pt x="94" y="347"/>
                  </a:lnTo>
                  <a:lnTo>
                    <a:pt x="106" y="341"/>
                  </a:lnTo>
                  <a:lnTo>
                    <a:pt x="117" y="336"/>
                  </a:lnTo>
                  <a:lnTo>
                    <a:pt x="123" y="330"/>
                  </a:lnTo>
                  <a:lnTo>
                    <a:pt x="135" y="324"/>
                  </a:lnTo>
                  <a:lnTo>
                    <a:pt x="147" y="312"/>
                  </a:lnTo>
                  <a:lnTo>
                    <a:pt x="153" y="306"/>
                  </a:lnTo>
                  <a:lnTo>
                    <a:pt x="165" y="300"/>
                  </a:lnTo>
                  <a:lnTo>
                    <a:pt x="176" y="289"/>
                  </a:lnTo>
                  <a:lnTo>
                    <a:pt x="182" y="283"/>
                  </a:lnTo>
                  <a:lnTo>
                    <a:pt x="194" y="277"/>
                  </a:lnTo>
                  <a:lnTo>
                    <a:pt x="200" y="265"/>
                  </a:lnTo>
                  <a:lnTo>
                    <a:pt x="212" y="259"/>
                  </a:lnTo>
                  <a:lnTo>
                    <a:pt x="217" y="247"/>
                  </a:lnTo>
                  <a:lnTo>
                    <a:pt x="229" y="241"/>
                  </a:lnTo>
                  <a:lnTo>
                    <a:pt x="235" y="230"/>
                  </a:lnTo>
                  <a:lnTo>
                    <a:pt x="241" y="218"/>
                  </a:lnTo>
                  <a:lnTo>
                    <a:pt x="253" y="212"/>
                  </a:lnTo>
                  <a:lnTo>
                    <a:pt x="259" y="200"/>
                  </a:lnTo>
                  <a:lnTo>
                    <a:pt x="265" y="194"/>
                  </a:lnTo>
                  <a:lnTo>
                    <a:pt x="276" y="183"/>
                  </a:lnTo>
                  <a:lnTo>
                    <a:pt x="282" y="171"/>
                  </a:lnTo>
                  <a:lnTo>
                    <a:pt x="288" y="165"/>
                  </a:lnTo>
                  <a:lnTo>
                    <a:pt x="294" y="153"/>
                  </a:lnTo>
                  <a:lnTo>
                    <a:pt x="300" y="141"/>
                  </a:lnTo>
                  <a:lnTo>
                    <a:pt x="312" y="130"/>
                  </a:lnTo>
                  <a:lnTo>
                    <a:pt x="318" y="124"/>
                  </a:lnTo>
                  <a:lnTo>
                    <a:pt x="323" y="112"/>
                  </a:lnTo>
                  <a:lnTo>
                    <a:pt x="329" y="100"/>
                  </a:lnTo>
                  <a:lnTo>
                    <a:pt x="335" y="88"/>
                  </a:lnTo>
                  <a:lnTo>
                    <a:pt x="341" y="77"/>
                  </a:lnTo>
                  <a:lnTo>
                    <a:pt x="347" y="65"/>
                  </a:lnTo>
                  <a:lnTo>
                    <a:pt x="353" y="53"/>
                  </a:lnTo>
                  <a:lnTo>
                    <a:pt x="353" y="47"/>
                  </a:lnTo>
                  <a:lnTo>
                    <a:pt x="359" y="35"/>
                  </a:lnTo>
                  <a:lnTo>
                    <a:pt x="365" y="24"/>
                  </a:lnTo>
                  <a:lnTo>
                    <a:pt x="370" y="12"/>
                  </a:lnTo>
                  <a:lnTo>
                    <a:pt x="376" y="0"/>
                  </a:lnTo>
                  <a:lnTo>
                    <a:pt x="1035" y="24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36680" y="5397480"/>
              <a:ext cx="2579400" cy="1494000"/>
            </a:xfrm>
            <a:custGeom>
              <a:avLst/>
              <a:gdLst/>
              <a:ahLst/>
              <a:rect l="l" t="t" r="r" b="b"/>
              <a:pathLst>
                <a:path w="1625" h="941">
                  <a:moveTo>
                    <a:pt x="1625" y="818"/>
                  </a:moveTo>
                  <a:lnTo>
                    <a:pt x="1601" y="829"/>
                  </a:lnTo>
                  <a:lnTo>
                    <a:pt x="1577" y="835"/>
                  </a:lnTo>
                  <a:lnTo>
                    <a:pt x="1554" y="847"/>
                  </a:lnTo>
                  <a:lnTo>
                    <a:pt x="1530" y="853"/>
                  </a:lnTo>
                  <a:lnTo>
                    <a:pt x="1507" y="865"/>
                  </a:lnTo>
                  <a:lnTo>
                    <a:pt x="1483" y="870"/>
                  </a:lnTo>
                  <a:lnTo>
                    <a:pt x="1460" y="876"/>
                  </a:lnTo>
                  <a:lnTo>
                    <a:pt x="1436" y="882"/>
                  </a:lnTo>
                  <a:lnTo>
                    <a:pt x="1413" y="894"/>
                  </a:lnTo>
                  <a:lnTo>
                    <a:pt x="1389" y="900"/>
                  </a:lnTo>
                  <a:lnTo>
                    <a:pt x="1366" y="906"/>
                  </a:lnTo>
                  <a:lnTo>
                    <a:pt x="1342" y="912"/>
                  </a:lnTo>
                  <a:lnTo>
                    <a:pt x="1319" y="912"/>
                  </a:lnTo>
                  <a:lnTo>
                    <a:pt x="1295" y="918"/>
                  </a:lnTo>
                  <a:lnTo>
                    <a:pt x="1271" y="923"/>
                  </a:lnTo>
                  <a:lnTo>
                    <a:pt x="1248" y="923"/>
                  </a:lnTo>
                  <a:lnTo>
                    <a:pt x="1219" y="929"/>
                  </a:lnTo>
                  <a:lnTo>
                    <a:pt x="1195" y="929"/>
                  </a:lnTo>
                  <a:lnTo>
                    <a:pt x="1171" y="935"/>
                  </a:lnTo>
                  <a:lnTo>
                    <a:pt x="1148" y="935"/>
                  </a:lnTo>
                  <a:lnTo>
                    <a:pt x="1124" y="935"/>
                  </a:lnTo>
                  <a:lnTo>
                    <a:pt x="1101" y="941"/>
                  </a:lnTo>
                  <a:lnTo>
                    <a:pt x="1071" y="941"/>
                  </a:lnTo>
                  <a:lnTo>
                    <a:pt x="1048" y="941"/>
                  </a:lnTo>
                  <a:lnTo>
                    <a:pt x="1024" y="941"/>
                  </a:lnTo>
                  <a:lnTo>
                    <a:pt x="1001" y="941"/>
                  </a:lnTo>
                  <a:lnTo>
                    <a:pt x="977" y="935"/>
                  </a:lnTo>
                  <a:lnTo>
                    <a:pt x="954" y="935"/>
                  </a:lnTo>
                  <a:lnTo>
                    <a:pt x="924" y="935"/>
                  </a:lnTo>
                  <a:lnTo>
                    <a:pt x="901" y="929"/>
                  </a:lnTo>
                  <a:lnTo>
                    <a:pt x="877" y="929"/>
                  </a:lnTo>
                  <a:lnTo>
                    <a:pt x="854" y="923"/>
                  </a:lnTo>
                  <a:lnTo>
                    <a:pt x="830" y="923"/>
                  </a:lnTo>
                  <a:lnTo>
                    <a:pt x="807" y="918"/>
                  </a:lnTo>
                  <a:lnTo>
                    <a:pt x="783" y="912"/>
                  </a:lnTo>
                  <a:lnTo>
                    <a:pt x="754" y="912"/>
                  </a:lnTo>
                  <a:lnTo>
                    <a:pt x="730" y="906"/>
                  </a:lnTo>
                  <a:lnTo>
                    <a:pt x="707" y="900"/>
                  </a:lnTo>
                  <a:lnTo>
                    <a:pt x="683" y="894"/>
                  </a:lnTo>
                  <a:lnTo>
                    <a:pt x="659" y="882"/>
                  </a:lnTo>
                  <a:lnTo>
                    <a:pt x="636" y="876"/>
                  </a:lnTo>
                  <a:lnTo>
                    <a:pt x="612" y="870"/>
                  </a:lnTo>
                  <a:lnTo>
                    <a:pt x="589" y="865"/>
                  </a:lnTo>
                  <a:lnTo>
                    <a:pt x="565" y="853"/>
                  </a:lnTo>
                  <a:lnTo>
                    <a:pt x="542" y="847"/>
                  </a:lnTo>
                  <a:lnTo>
                    <a:pt x="524" y="835"/>
                  </a:lnTo>
                  <a:lnTo>
                    <a:pt x="501" y="829"/>
                  </a:lnTo>
                  <a:lnTo>
                    <a:pt x="477" y="818"/>
                  </a:lnTo>
                  <a:lnTo>
                    <a:pt x="454" y="806"/>
                  </a:lnTo>
                  <a:lnTo>
                    <a:pt x="430" y="794"/>
                  </a:lnTo>
                  <a:lnTo>
                    <a:pt x="412" y="788"/>
                  </a:lnTo>
                  <a:lnTo>
                    <a:pt x="389" y="776"/>
                  </a:lnTo>
                  <a:lnTo>
                    <a:pt x="365" y="765"/>
                  </a:lnTo>
                  <a:lnTo>
                    <a:pt x="342" y="753"/>
                  </a:lnTo>
                  <a:lnTo>
                    <a:pt x="324" y="735"/>
                  </a:lnTo>
                  <a:lnTo>
                    <a:pt x="301" y="723"/>
                  </a:lnTo>
                  <a:lnTo>
                    <a:pt x="283" y="712"/>
                  </a:lnTo>
                  <a:lnTo>
                    <a:pt x="259" y="700"/>
                  </a:lnTo>
                  <a:lnTo>
                    <a:pt x="242" y="682"/>
                  </a:lnTo>
                  <a:lnTo>
                    <a:pt x="218" y="670"/>
                  </a:lnTo>
                  <a:lnTo>
                    <a:pt x="200" y="653"/>
                  </a:lnTo>
                  <a:lnTo>
                    <a:pt x="183" y="641"/>
                  </a:lnTo>
                  <a:lnTo>
                    <a:pt x="165" y="623"/>
                  </a:lnTo>
                  <a:lnTo>
                    <a:pt x="142" y="612"/>
                  </a:lnTo>
                  <a:lnTo>
                    <a:pt x="124" y="594"/>
                  </a:lnTo>
                  <a:lnTo>
                    <a:pt x="106" y="576"/>
                  </a:lnTo>
                  <a:lnTo>
                    <a:pt x="89" y="559"/>
                  </a:lnTo>
                  <a:lnTo>
                    <a:pt x="71" y="541"/>
                  </a:lnTo>
                  <a:lnTo>
                    <a:pt x="53" y="523"/>
                  </a:lnTo>
                  <a:lnTo>
                    <a:pt x="36" y="506"/>
                  </a:lnTo>
                  <a:lnTo>
                    <a:pt x="18" y="488"/>
                  </a:lnTo>
                  <a:lnTo>
                    <a:pt x="0" y="470"/>
                  </a:lnTo>
                  <a:lnTo>
                    <a:pt x="524" y="0"/>
                  </a:lnTo>
                  <a:lnTo>
                    <a:pt x="536" y="11"/>
                  </a:lnTo>
                  <a:lnTo>
                    <a:pt x="542" y="17"/>
                  </a:lnTo>
                  <a:lnTo>
                    <a:pt x="554" y="29"/>
                  </a:lnTo>
                  <a:lnTo>
                    <a:pt x="559" y="35"/>
                  </a:lnTo>
                  <a:lnTo>
                    <a:pt x="571" y="47"/>
                  </a:lnTo>
                  <a:lnTo>
                    <a:pt x="577" y="53"/>
                  </a:lnTo>
                  <a:lnTo>
                    <a:pt x="589" y="58"/>
                  </a:lnTo>
                  <a:lnTo>
                    <a:pt x="595" y="70"/>
                  </a:lnTo>
                  <a:lnTo>
                    <a:pt x="607" y="76"/>
                  </a:lnTo>
                  <a:lnTo>
                    <a:pt x="618" y="82"/>
                  </a:lnTo>
                  <a:lnTo>
                    <a:pt x="624" y="94"/>
                  </a:lnTo>
                  <a:lnTo>
                    <a:pt x="636" y="100"/>
                  </a:lnTo>
                  <a:lnTo>
                    <a:pt x="648" y="106"/>
                  </a:lnTo>
                  <a:lnTo>
                    <a:pt x="654" y="111"/>
                  </a:lnTo>
                  <a:lnTo>
                    <a:pt x="665" y="117"/>
                  </a:lnTo>
                  <a:lnTo>
                    <a:pt x="677" y="129"/>
                  </a:lnTo>
                  <a:lnTo>
                    <a:pt x="689" y="135"/>
                  </a:lnTo>
                  <a:lnTo>
                    <a:pt x="695" y="141"/>
                  </a:lnTo>
                  <a:lnTo>
                    <a:pt x="707" y="147"/>
                  </a:lnTo>
                  <a:lnTo>
                    <a:pt x="718" y="153"/>
                  </a:lnTo>
                  <a:lnTo>
                    <a:pt x="730" y="158"/>
                  </a:lnTo>
                  <a:lnTo>
                    <a:pt x="742" y="164"/>
                  </a:lnTo>
                  <a:lnTo>
                    <a:pt x="754" y="170"/>
                  </a:lnTo>
                  <a:lnTo>
                    <a:pt x="765" y="170"/>
                  </a:lnTo>
                  <a:lnTo>
                    <a:pt x="777" y="176"/>
                  </a:lnTo>
                  <a:lnTo>
                    <a:pt x="783" y="182"/>
                  </a:lnTo>
                  <a:lnTo>
                    <a:pt x="795" y="188"/>
                  </a:lnTo>
                  <a:lnTo>
                    <a:pt x="807" y="194"/>
                  </a:lnTo>
                  <a:lnTo>
                    <a:pt x="818" y="194"/>
                  </a:lnTo>
                  <a:lnTo>
                    <a:pt x="830" y="200"/>
                  </a:lnTo>
                  <a:lnTo>
                    <a:pt x="842" y="206"/>
                  </a:lnTo>
                  <a:lnTo>
                    <a:pt x="854" y="206"/>
                  </a:lnTo>
                  <a:lnTo>
                    <a:pt x="865" y="211"/>
                  </a:lnTo>
                  <a:lnTo>
                    <a:pt x="877" y="211"/>
                  </a:lnTo>
                  <a:lnTo>
                    <a:pt x="889" y="217"/>
                  </a:lnTo>
                  <a:lnTo>
                    <a:pt x="901" y="217"/>
                  </a:lnTo>
                  <a:lnTo>
                    <a:pt x="913" y="223"/>
                  </a:lnTo>
                  <a:lnTo>
                    <a:pt x="924" y="223"/>
                  </a:lnTo>
                  <a:lnTo>
                    <a:pt x="942" y="223"/>
                  </a:lnTo>
                  <a:lnTo>
                    <a:pt x="954" y="229"/>
                  </a:lnTo>
                  <a:lnTo>
                    <a:pt x="965" y="229"/>
                  </a:lnTo>
                  <a:lnTo>
                    <a:pt x="977" y="229"/>
                  </a:lnTo>
                  <a:lnTo>
                    <a:pt x="989" y="229"/>
                  </a:lnTo>
                  <a:lnTo>
                    <a:pt x="1001" y="229"/>
                  </a:lnTo>
                  <a:lnTo>
                    <a:pt x="1013" y="235"/>
                  </a:lnTo>
                  <a:lnTo>
                    <a:pt x="1024" y="235"/>
                  </a:lnTo>
                  <a:lnTo>
                    <a:pt x="1036" y="235"/>
                  </a:lnTo>
                  <a:lnTo>
                    <a:pt x="1048" y="235"/>
                  </a:lnTo>
                  <a:lnTo>
                    <a:pt x="1060" y="235"/>
                  </a:lnTo>
                  <a:lnTo>
                    <a:pt x="1071" y="235"/>
                  </a:lnTo>
                  <a:lnTo>
                    <a:pt x="1089" y="235"/>
                  </a:lnTo>
                  <a:lnTo>
                    <a:pt x="1101" y="229"/>
                  </a:lnTo>
                  <a:lnTo>
                    <a:pt x="1113" y="229"/>
                  </a:lnTo>
                  <a:lnTo>
                    <a:pt x="1124" y="229"/>
                  </a:lnTo>
                  <a:lnTo>
                    <a:pt x="1136" y="229"/>
                  </a:lnTo>
                  <a:lnTo>
                    <a:pt x="1148" y="229"/>
                  </a:lnTo>
                  <a:lnTo>
                    <a:pt x="1160" y="223"/>
                  </a:lnTo>
                  <a:lnTo>
                    <a:pt x="1171" y="223"/>
                  </a:lnTo>
                  <a:lnTo>
                    <a:pt x="1183" y="223"/>
                  </a:lnTo>
                  <a:lnTo>
                    <a:pt x="1195" y="217"/>
                  </a:lnTo>
                  <a:lnTo>
                    <a:pt x="1207" y="217"/>
                  </a:lnTo>
                  <a:lnTo>
                    <a:pt x="1219" y="211"/>
                  </a:lnTo>
                  <a:lnTo>
                    <a:pt x="1230" y="211"/>
                  </a:lnTo>
                  <a:lnTo>
                    <a:pt x="1242" y="206"/>
                  </a:lnTo>
                  <a:lnTo>
                    <a:pt x="1254" y="206"/>
                  </a:lnTo>
                  <a:lnTo>
                    <a:pt x="1266" y="200"/>
                  </a:lnTo>
                  <a:lnTo>
                    <a:pt x="1277" y="194"/>
                  </a:lnTo>
                  <a:lnTo>
                    <a:pt x="1289" y="194"/>
                  </a:lnTo>
                  <a:lnTo>
                    <a:pt x="1301" y="188"/>
                  </a:lnTo>
                  <a:lnTo>
                    <a:pt x="1313" y="182"/>
                  </a:lnTo>
                  <a:lnTo>
                    <a:pt x="1324" y="176"/>
                  </a:lnTo>
                  <a:lnTo>
                    <a:pt x="1336" y="170"/>
                  </a:lnTo>
                  <a:lnTo>
                    <a:pt x="1625" y="818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19320" y="2959200"/>
              <a:ext cx="1401480" cy="2681280"/>
            </a:xfrm>
            <a:custGeom>
              <a:avLst/>
              <a:gdLst/>
              <a:ahLst/>
              <a:rect l="l" t="t" r="r" b="b"/>
              <a:pathLst>
                <a:path w="883" h="1689">
                  <a:moveTo>
                    <a:pt x="359" y="1689"/>
                  </a:moveTo>
                  <a:lnTo>
                    <a:pt x="341" y="1671"/>
                  </a:lnTo>
                  <a:lnTo>
                    <a:pt x="330" y="1653"/>
                  </a:lnTo>
                  <a:lnTo>
                    <a:pt x="312" y="1636"/>
                  </a:lnTo>
                  <a:lnTo>
                    <a:pt x="300" y="1618"/>
                  </a:lnTo>
                  <a:lnTo>
                    <a:pt x="282" y="1594"/>
                  </a:lnTo>
                  <a:lnTo>
                    <a:pt x="265" y="1577"/>
                  </a:lnTo>
                  <a:lnTo>
                    <a:pt x="253" y="1553"/>
                  </a:lnTo>
                  <a:lnTo>
                    <a:pt x="241" y="1536"/>
                  </a:lnTo>
                  <a:lnTo>
                    <a:pt x="224" y="1512"/>
                  </a:lnTo>
                  <a:lnTo>
                    <a:pt x="212" y="1494"/>
                  </a:lnTo>
                  <a:lnTo>
                    <a:pt x="200" y="1471"/>
                  </a:lnTo>
                  <a:lnTo>
                    <a:pt x="188" y="1453"/>
                  </a:lnTo>
                  <a:lnTo>
                    <a:pt x="177" y="1430"/>
                  </a:lnTo>
                  <a:lnTo>
                    <a:pt x="165" y="1406"/>
                  </a:lnTo>
                  <a:lnTo>
                    <a:pt x="153" y="1388"/>
                  </a:lnTo>
                  <a:lnTo>
                    <a:pt x="141" y="1365"/>
                  </a:lnTo>
                  <a:lnTo>
                    <a:pt x="129" y="1341"/>
                  </a:lnTo>
                  <a:lnTo>
                    <a:pt x="118" y="1318"/>
                  </a:lnTo>
                  <a:lnTo>
                    <a:pt x="112" y="1300"/>
                  </a:lnTo>
                  <a:lnTo>
                    <a:pt x="100" y="1277"/>
                  </a:lnTo>
                  <a:lnTo>
                    <a:pt x="94" y="1253"/>
                  </a:lnTo>
                  <a:lnTo>
                    <a:pt x="82" y="1230"/>
                  </a:lnTo>
                  <a:lnTo>
                    <a:pt x="76" y="1206"/>
                  </a:lnTo>
                  <a:lnTo>
                    <a:pt x="65" y="1183"/>
                  </a:lnTo>
                  <a:lnTo>
                    <a:pt x="59" y="1159"/>
                  </a:lnTo>
                  <a:lnTo>
                    <a:pt x="53" y="1135"/>
                  </a:lnTo>
                  <a:lnTo>
                    <a:pt x="47" y="1112"/>
                  </a:lnTo>
                  <a:lnTo>
                    <a:pt x="41" y="1088"/>
                  </a:lnTo>
                  <a:lnTo>
                    <a:pt x="35" y="1065"/>
                  </a:lnTo>
                  <a:lnTo>
                    <a:pt x="29" y="1041"/>
                  </a:lnTo>
                  <a:lnTo>
                    <a:pt x="24" y="1018"/>
                  </a:lnTo>
                  <a:lnTo>
                    <a:pt x="18" y="988"/>
                  </a:lnTo>
                  <a:lnTo>
                    <a:pt x="18" y="965"/>
                  </a:lnTo>
                  <a:lnTo>
                    <a:pt x="12" y="941"/>
                  </a:lnTo>
                  <a:lnTo>
                    <a:pt x="12" y="918"/>
                  </a:lnTo>
                  <a:lnTo>
                    <a:pt x="6" y="894"/>
                  </a:lnTo>
                  <a:lnTo>
                    <a:pt x="6" y="871"/>
                  </a:lnTo>
                  <a:lnTo>
                    <a:pt x="0" y="841"/>
                  </a:lnTo>
                  <a:lnTo>
                    <a:pt x="0" y="818"/>
                  </a:lnTo>
                  <a:lnTo>
                    <a:pt x="0" y="794"/>
                  </a:lnTo>
                  <a:lnTo>
                    <a:pt x="0" y="771"/>
                  </a:lnTo>
                  <a:lnTo>
                    <a:pt x="0" y="747"/>
                  </a:lnTo>
                  <a:lnTo>
                    <a:pt x="0" y="724"/>
                  </a:lnTo>
                  <a:lnTo>
                    <a:pt x="0" y="694"/>
                  </a:lnTo>
                  <a:lnTo>
                    <a:pt x="0" y="671"/>
                  </a:lnTo>
                  <a:lnTo>
                    <a:pt x="0" y="647"/>
                  </a:lnTo>
                  <a:lnTo>
                    <a:pt x="6" y="623"/>
                  </a:lnTo>
                  <a:lnTo>
                    <a:pt x="6" y="600"/>
                  </a:lnTo>
                  <a:lnTo>
                    <a:pt x="12" y="576"/>
                  </a:lnTo>
                  <a:lnTo>
                    <a:pt x="12" y="547"/>
                  </a:lnTo>
                  <a:lnTo>
                    <a:pt x="18" y="523"/>
                  </a:lnTo>
                  <a:lnTo>
                    <a:pt x="18" y="500"/>
                  </a:lnTo>
                  <a:lnTo>
                    <a:pt x="24" y="476"/>
                  </a:lnTo>
                  <a:lnTo>
                    <a:pt x="29" y="453"/>
                  </a:lnTo>
                  <a:lnTo>
                    <a:pt x="35" y="429"/>
                  </a:lnTo>
                  <a:lnTo>
                    <a:pt x="41" y="406"/>
                  </a:lnTo>
                  <a:lnTo>
                    <a:pt x="47" y="382"/>
                  </a:lnTo>
                  <a:lnTo>
                    <a:pt x="53" y="359"/>
                  </a:lnTo>
                  <a:lnTo>
                    <a:pt x="59" y="335"/>
                  </a:lnTo>
                  <a:lnTo>
                    <a:pt x="65" y="312"/>
                  </a:lnTo>
                  <a:lnTo>
                    <a:pt x="76" y="288"/>
                  </a:lnTo>
                  <a:lnTo>
                    <a:pt x="82" y="265"/>
                  </a:lnTo>
                  <a:lnTo>
                    <a:pt x="94" y="241"/>
                  </a:lnTo>
                  <a:lnTo>
                    <a:pt x="100" y="217"/>
                  </a:lnTo>
                  <a:lnTo>
                    <a:pt x="112" y="194"/>
                  </a:lnTo>
                  <a:lnTo>
                    <a:pt x="118" y="170"/>
                  </a:lnTo>
                  <a:lnTo>
                    <a:pt x="129" y="147"/>
                  </a:lnTo>
                  <a:lnTo>
                    <a:pt x="141" y="129"/>
                  </a:lnTo>
                  <a:lnTo>
                    <a:pt x="153" y="106"/>
                  </a:lnTo>
                  <a:lnTo>
                    <a:pt x="165" y="82"/>
                  </a:lnTo>
                  <a:lnTo>
                    <a:pt x="177" y="59"/>
                  </a:lnTo>
                  <a:lnTo>
                    <a:pt x="188" y="41"/>
                  </a:lnTo>
                  <a:lnTo>
                    <a:pt x="200" y="17"/>
                  </a:lnTo>
                  <a:lnTo>
                    <a:pt x="212" y="0"/>
                  </a:lnTo>
                  <a:lnTo>
                    <a:pt x="812" y="370"/>
                  </a:lnTo>
                  <a:lnTo>
                    <a:pt x="806" y="382"/>
                  </a:lnTo>
                  <a:lnTo>
                    <a:pt x="800" y="394"/>
                  </a:lnTo>
                  <a:lnTo>
                    <a:pt x="794" y="406"/>
                  </a:lnTo>
                  <a:lnTo>
                    <a:pt x="789" y="412"/>
                  </a:lnTo>
                  <a:lnTo>
                    <a:pt x="783" y="423"/>
                  </a:lnTo>
                  <a:lnTo>
                    <a:pt x="777" y="435"/>
                  </a:lnTo>
                  <a:lnTo>
                    <a:pt x="771" y="447"/>
                  </a:lnTo>
                  <a:lnTo>
                    <a:pt x="765" y="459"/>
                  </a:lnTo>
                  <a:lnTo>
                    <a:pt x="759" y="470"/>
                  </a:lnTo>
                  <a:lnTo>
                    <a:pt x="753" y="482"/>
                  </a:lnTo>
                  <a:lnTo>
                    <a:pt x="753" y="494"/>
                  </a:lnTo>
                  <a:lnTo>
                    <a:pt x="747" y="506"/>
                  </a:lnTo>
                  <a:lnTo>
                    <a:pt x="741" y="518"/>
                  </a:lnTo>
                  <a:lnTo>
                    <a:pt x="741" y="529"/>
                  </a:lnTo>
                  <a:lnTo>
                    <a:pt x="736" y="541"/>
                  </a:lnTo>
                  <a:lnTo>
                    <a:pt x="730" y="553"/>
                  </a:lnTo>
                  <a:lnTo>
                    <a:pt x="730" y="565"/>
                  </a:lnTo>
                  <a:lnTo>
                    <a:pt x="724" y="576"/>
                  </a:lnTo>
                  <a:lnTo>
                    <a:pt x="724" y="588"/>
                  </a:lnTo>
                  <a:lnTo>
                    <a:pt x="718" y="600"/>
                  </a:lnTo>
                  <a:lnTo>
                    <a:pt x="718" y="612"/>
                  </a:lnTo>
                  <a:lnTo>
                    <a:pt x="718" y="623"/>
                  </a:lnTo>
                  <a:lnTo>
                    <a:pt x="712" y="635"/>
                  </a:lnTo>
                  <a:lnTo>
                    <a:pt x="712" y="647"/>
                  </a:lnTo>
                  <a:lnTo>
                    <a:pt x="712" y="659"/>
                  </a:lnTo>
                  <a:lnTo>
                    <a:pt x="706" y="671"/>
                  </a:lnTo>
                  <a:lnTo>
                    <a:pt x="706" y="682"/>
                  </a:lnTo>
                  <a:lnTo>
                    <a:pt x="706" y="694"/>
                  </a:lnTo>
                  <a:lnTo>
                    <a:pt x="706" y="706"/>
                  </a:lnTo>
                  <a:lnTo>
                    <a:pt x="706" y="724"/>
                  </a:lnTo>
                  <a:lnTo>
                    <a:pt x="706" y="735"/>
                  </a:lnTo>
                  <a:lnTo>
                    <a:pt x="706" y="747"/>
                  </a:lnTo>
                  <a:lnTo>
                    <a:pt x="706" y="759"/>
                  </a:lnTo>
                  <a:lnTo>
                    <a:pt x="706" y="771"/>
                  </a:lnTo>
                  <a:lnTo>
                    <a:pt x="706" y="782"/>
                  </a:lnTo>
                  <a:lnTo>
                    <a:pt x="706" y="794"/>
                  </a:lnTo>
                  <a:lnTo>
                    <a:pt x="706" y="806"/>
                  </a:lnTo>
                  <a:lnTo>
                    <a:pt x="706" y="818"/>
                  </a:lnTo>
                  <a:lnTo>
                    <a:pt x="712" y="829"/>
                  </a:lnTo>
                  <a:lnTo>
                    <a:pt x="712" y="841"/>
                  </a:lnTo>
                  <a:lnTo>
                    <a:pt x="712" y="859"/>
                  </a:lnTo>
                  <a:lnTo>
                    <a:pt x="718" y="871"/>
                  </a:lnTo>
                  <a:lnTo>
                    <a:pt x="718" y="882"/>
                  </a:lnTo>
                  <a:lnTo>
                    <a:pt x="718" y="894"/>
                  </a:lnTo>
                  <a:lnTo>
                    <a:pt x="724" y="906"/>
                  </a:lnTo>
                  <a:lnTo>
                    <a:pt x="724" y="918"/>
                  </a:lnTo>
                  <a:lnTo>
                    <a:pt x="730" y="929"/>
                  </a:lnTo>
                  <a:lnTo>
                    <a:pt x="730" y="941"/>
                  </a:lnTo>
                  <a:lnTo>
                    <a:pt x="736" y="953"/>
                  </a:lnTo>
                  <a:lnTo>
                    <a:pt x="741" y="965"/>
                  </a:lnTo>
                  <a:lnTo>
                    <a:pt x="741" y="977"/>
                  </a:lnTo>
                  <a:lnTo>
                    <a:pt x="747" y="988"/>
                  </a:lnTo>
                  <a:lnTo>
                    <a:pt x="753" y="1000"/>
                  </a:lnTo>
                  <a:lnTo>
                    <a:pt x="753" y="1012"/>
                  </a:lnTo>
                  <a:lnTo>
                    <a:pt x="759" y="1024"/>
                  </a:lnTo>
                  <a:lnTo>
                    <a:pt x="765" y="1035"/>
                  </a:lnTo>
                  <a:lnTo>
                    <a:pt x="771" y="1041"/>
                  </a:lnTo>
                  <a:lnTo>
                    <a:pt x="777" y="1053"/>
                  </a:lnTo>
                  <a:lnTo>
                    <a:pt x="783" y="1065"/>
                  </a:lnTo>
                  <a:lnTo>
                    <a:pt x="789" y="1077"/>
                  </a:lnTo>
                  <a:lnTo>
                    <a:pt x="794" y="1088"/>
                  </a:lnTo>
                  <a:lnTo>
                    <a:pt x="800" y="1100"/>
                  </a:lnTo>
                  <a:lnTo>
                    <a:pt x="806" y="1112"/>
                  </a:lnTo>
                  <a:lnTo>
                    <a:pt x="812" y="1118"/>
                  </a:lnTo>
                  <a:lnTo>
                    <a:pt x="818" y="1130"/>
                  </a:lnTo>
                  <a:lnTo>
                    <a:pt x="824" y="1141"/>
                  </a:lnTo>
                  <a:lnTo>
                    <a:pt x="830" y="1153"/>
                  </a:lnTo>
                  <a:lnTo>
                    <a:pt x="841" y="1159"/>
                  </a:lnTo>
                  <a:lnTo>
                    <a:pt x="847" y="1171"/>
                  </a:lnTo>
                  <a:lnTo>
                    <a:pt x="853" y="1183"/>
                  </a:lnTo>
                  <a:lnTo>
                    <a:pt x="859" y="1188"/>
                  </a:lnTo>
                  <a:lnTo>
                    <a:pt x="871" y="1200"/>
                  </a:lnTo>
                  <a:lnTo>
                    <a:pt x="877" y="1206"/>
                  </a:lnTo>
                  <a:lnTo>
                    <a:pt x="883" y="1218"/>
                  </a:lnTo>
                  <a:lnTo>
                    <a:pt x="359" y="1689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44640" y="1370160"/>
              <a:ext cx="1896840" cy="1644480"/>
            </a:xfrm>
            <a:custGeom>
              <a:avLst/>
              <a:gdLst/>
              <a:ahLst/>
              <a:rect l="l" t="t" r="r" b="b"/>
              <a:pathLst>
                <a:path w="1195" h="1036">
                  <a:moveTo>
                    <a:pt x="0" y="665"/>
                  </a:moveTo>
                  <a:lnTo>
                    <a:pt x="12" y="642"/>
                  </a:lnTo>
                  <a:lnTo>
                    <a:pt x="30" y="624"/>
                  </a:lnTo>
                  <a:lnTo>
                    <a:pt x="41" y="601"/>
                  </a:lnTo>
                  <a:lnTo>
                    <a:pt x="53" y="583"/>
                  </a:lnTo>
                  <a:lnTo>
                    <a:pt x="71" y="559"/>
                  </a:lnTo>
                  <a:lnTo>
                    <a:pt x="89" y="542"/>
                  </a:lnTo>
                  <a:lnTo>
                    <a:pt x="100" y="524"/>
                  </a:lnTo>
                  <a:lnTo>
                    <a:pt x="118" y="501"/>
                  </a:lnTo>
                  <a:lnTo>
                    <a:pt x="130" y="483"/>
                  </a:lnTo>
                  <a:lnTo>
                    <a:pt x="147" y="465"/>
                  </a:lnTo>
                  <a:lnTo>
                    <a:pt x="165" y="448"/>
                  </a:lnTo>
                  <a:lnTo>
                    <a:pt x="183" y="430"/>
                  </a:lnTo>
                  <a:lnTo>
                    <a:pt x="200" y="412"/>
                  </a:lnTo>
                  <a:lnTo>
                    <a:pt x="218" y="395"/>
                  </a:lnTo>
                  <a:lnTo>
                    <a:pt x="236" y="377"/>
                  </a:lnTo>
                  <a:lnTo>
                    <a:pt x="253" y="359"/>
                  </a:lnTo>
                  <a:lnTo>
                    <a:pt x="271" y="348"/>
                  </a:lnTo>
                  <a:lnTo>
                    <a:pt x="289" y="330"/>
                  </a:lnTo>
                  <a:lnTo>
                    <a:pt x="312" y="312"/>
                  </a:lnTo>
                  <a:lnTo>
                    <a:pt x="330" y="300"/>
                  </a:lnTo>
                  <a:lnTo>
                    <a:pt x="347" y="283"/>
                  </a:lnTo>
                  <a:lnTo>
                    <a:pt x="365" y="271"/>
                  </a:lnTo>
                  <a:lnTo>
                    <a:pt x="389" y="253"/>
                  </a:lnTo>
                  <a:lnTo>
                    <a:pt x="406" y="242"/>
                  </a:lnTo>
                  <a:lnTo>
                    <a:pt x="430" y="224"/>
                  </a:lnTo>
                  <a:lnTo>
                    <a:pt x="447" y="212"/>
                  </a:lnTo>
                  <a:lnTo>
                    <a:pt x="471" y="200"/>
                  </a:lnTo>
                  <a:lnTo>
                    <a:pt x="489" y="189"/>
                  </a:lnTo>
                  <a:lnTo>
                    <a:pt x="512" y="177"/>
                  </a:lnTo>
                  <a:lnTo>
                    <a:pt x="536" y="165"/>
                  </a:lnTo>
                  <a:lnTo>
                    <a:pt x="559" y="153"/>
                  </a:lnTo>
                  <a:lnTo>
                    <a:pt x="577" y="142"/>
                  </a:lnTo>
                  <a:lnTo>
                    <a:pt x="600" y="130"/>
                  </a:lnTo>
                  <a:lnTo>
                    <a:pt x="624" y="124"/>
                  </a:lnTo>
                  <a:lnTo>
                    <a:pt x="648" y="112"/>
                  </a:lnTo>
                  <a:lnTo>
                    <a:pt x="671" y="100"/>
                  </a:lnTo>
                  <a:lnTo>
                    <a:pt x="689" y="94"/>
                  </a:lnTo>
                  <a:lnTo>
                    <a:pt x="712" y="83"/>
                  </a:lnTo>
                  <a:lnTo>
                    <a:pt x="736" y="77"/>
                  </a:lnTo>
                  <a:lnTo>
                    <a:pt x="759" y="65"/>
                  </a:lnTo>
                  <a:lnTo>
                    <a:pt x="783" y="59"/>
                  </a:lnTo>
                  <a:lnTo>
                    <a:pt x="806" y="53"/>
                  </a:lnTo>
                  <a:lnTo>
                    <a:pt x="830" y="47"/>
                  </a:lnTo>
                  <a:lnTo>
                    <a:pt x="854" y="42"/>
                  </a:lnTo>
                  <a:lnTo>
                    <a:pt x="877" y="36"/>
                  </a:lnTo>
                  <a:lnTo>
                    <a:pt x="901" y="30"/>
                  </a:lnTo>
                  <a:lnTo>
                    <a:pt x="930" y="24"/>
                  </a:lnTo>
                  <a:lnTo>
                    <a:pt x="954" y="18"/>
                  </a:lnTo>
                  <a:lnTo>
                    <a:pt x="977" y="18"/>
                  </a:lnTo>
                  <a:lnTo>
                    <a:pt x="1001" y="12"/>
                  </a:lnTo>
                  <a:lnTo>
                    <a:pt x="1024" y="12"/>
                  </a:lnTo>
                  <a:lnTo>
                    <a:pt x="1048" y="6"/>
                  </a:lnTo>
                  <a:lnTo>
                    <a:pt x="1071" y="6"/>
                  </a:lnTo>
                  <a:lnTo>
                    <a:pt x="1101" y="0"/>
                  </a:lnTo>
                  <a:lnTo>
                    <a:pt x="1124" y="0"/>
                  </a:lnTo>
                  <a:lnTo>
                    <a:pt x="1148" y="0"/>
                  </a:lnTo>
                  <a:lnTo>
                    <a:pt x="1171" y="0"/>
                  </a:lnTo>
                  <a:lnTo>
                    <a:pt x="1195" y="0"/>
                  </a:lnTo>
                  <a:lnTo>
                    <a:pt x="1195" y="706"/>
                  </a:lnTo>
                  <a:lnTo>
                    <a:pt x="1183" y="706"/>
                  </a:lnTo>
                  <a:lnTo>
                    <a:pt x="1171" y="706"/>
                  </a:lnTo>
                  <a:lnTo>
                    <a:pt x="1160" y="706"/>
                  </a:lnTo>
                  <a:lnTo>
                    <a:pt x="1148" y="706"/>
                  </a:lnTo>
                  <a:lnTo>
                    <a:pt x="1136" y="706"/>
                  </a:lnTo>
                  <a:lnTo>
                    <a:pt x="1124" y="706"/>
                  </a:lnTo>
                  <a:lnTo>
                    <a:pt x="1112" y="712"/>
                  </a:lnTo>
                  <a:lnTo>
                    <a:pt x="1101" y="712"/>
                  </a:lnTo>
                  <a:lnTo>
                    <a:pt x="1089" y="712"/>
                  </a:lnTo>
                  <a:lnTo>
                    <a:pt x="1071" y="718"/>
                  </a:lnTo>
                  <a:lnTo>
                    <a:pt x="1059" y="718"/>
                  </a:lnTo>
                  <a:lnTo>
                    <a:pt x="1048" y="718"/>
                  </a:lnTo>
                  <a:lnTo>
                    <a:pt x="1036" y="724"/>
                  </a:lnTo>
                  <a:lnTo>
                    <a:pt x="1024" y="724"/>
                  </a:lnTo>
                  <a:lnTo>
                    <a:pt x="1012" y="730"/>
                  </a:lnTo>
                  <a:lnTo>
                    <a:pt x="1001" y="730"/>
                  </a:lnTo>
                  <a:lnTo>
                    <a:pt x="989" y="736"/>
                  </a:lnTo>
                  <a:lnTo>
                    <a:pt x="977" y="742"/>
                  </a:lnTo>
                  <a:lnTo>
                    <a:pt x="965" y="742"/>
                  </a:lnTo>
                  <a:lnTo>
                    <a:pt x="954" y="748"/>
                  </a:lnTo>
                  <a:lnTo>
                    <a:pt x="942" y="754"/>
                  </a:lnTo>
                  <a:lnTo>
                    <a:pt x="930" y="754"/>
                  </a:lnTo>
                  <a:lnTo>
                    <a:pt x="924" y="759"/>
                  </a:lnTo>
                  <a:lnTo>
                    <a:pt x="912" y="765"/>
                  </a:lnTo>
                  <a:lnTo>
                    <a:pt x="901" y="771"/>
                  </a:lnTo>
                  <a:lnTo>
                    <a:pt x="889" y="777"/>
                  </a:lnTo>
                  <a:lnTo>
                    <a:pt x="877" y="783"/>
                  </a:lnTo>
                  <a:lnTo>
                    <a:pt x="865" y="789"/>
                  </a:lnTo>
                  <a:lnTo>
                    <a:pt x="854" y="795"/>
                  </a:lnTo>
                  <a:lnTo>
                    <a:pt x="842" y="801"/>
                  </a:lnTo>
                  <a:lnTo>
                    <a:pt x="836" y="807"/>
                  </a:lnTo>
                  <a:lnTo>
                    <a:pt x="824" y="812"/>
                  </a:lnTo>
                  <a:lnTo>
                    <a:pt x="812" y="818"/>
                  </a:lnTo>
                  <a:lnTo>
                    <a:pt x="801" y="824"/>
                  </a:lnTo>
                  <a:lnTo>
                    <a:pt x="795" y="830"/>
                  </a:lnTo>
                  <a:lnTo>
                    <a:pt x="783" y="842"/>
                  </a:lnTo>
                  <a:lnTo>
                    <a:pt x="771" y="848"/>
                  </a:lnTo>
                  <a:lnTo>
                    <a:pt x="765" y="854"/>
                  </a:lnTo>
                  <a:lnTo>
                    <a:pt x="753" y="859"/>
                  </a:lnTo>
                  <a:lnTo>
                    <a:pt x="742" y="871"/>
                  </a:lnTo>
                  <a:lnTo>
                    <a:pt x="736" y="877"/>
                  </a:lnTo>
                  <a:lnTo>
                    <a:pt x="724" y="889"/>
                  </a:lnTo>
                  <a:lnTo>
                    <a:pt x="718" y="895"/>
                  </a:lnTo>
                  <a:lnTo>
                    <a:pt x="706" y="901"/>
                  </a:lnTo>
                  <a:lnTo>
                    <a:pt x="701" y="912"/>
                  </a:lnTo>
                  <a:lnTo>
                    <a:pt x="689" y="918"/>
                  </a:lnTo>
                  <a:lnTo>
                    <a:pt x="683" y="930"/>
                  </a:lnTo>
                  <a:lnTo>
                    <a:pt x="671" y="936"/>
                  </a:lnTo>
                  <a:lnTo>
                    <a:pt x="665" y="948"/>
                  </a:lnTo>
                  <a:lnTo>
                    <a:pt x="659" y="960"/>
                  </a:lnTo>
                  <a:lnTo>
                    <a:pt x="648" y="965"/>
                  </a:lnTo>
                  <a:lnTo>
                    <a:pt x="642" y="977"/>
                  </a:lnTo>
                  <a:lnTo>
                    <a:pt x="636" y="989"/>
                  </a:lnTo>
                  <a:lnTo>
                    <a:pt x="630" y="995"/>
                  </a:lnTo>
                  <a:lnTo>
                    <a:pt x="618" y="1007"/>
                  </a:lnTo>
                  <a:lnTo>
                    <a:pt x="612" y="1018"/>
                  </a:lnTo>
                  <a:lnTo>
                    <a:pt x="606" y="1024"/>
                  </a:lnTo>
                  <a:lnTo>
                    <a:pt x="600" y="1036"/>
                  </a:lnTo>
                  <a:lnTo>
                    <a:pt x="0" y="665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224720" y="6480000"/>
            <a:ext cx="2222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Garamond"/>
              </a:rPr>
              <a:t>Макіївка; 10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94360" y="6143760"/>
            <a:ext cx="1523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Торез; 6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-167760" y="3197160"/>
            <a:ext cx="2504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Маріуполь; 10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11080" y="1363680"/>
            <a:ext cx="256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Краматорск; 8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963480" y="1442880"/>
            <a:ext cx="198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Garamond"/>
              </a:rPr>
              <a:t>Донецьк; 9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64480" y="3789360"/>
            <a:ext cx="20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Garamond"/>
              </a:rPr>
              <a:t>Горлівка; 6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69760" y="3743280"/>
            <a:ext cx="123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Обла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74680" y="4118040"/>
            <a:ext cx="53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397800" y="6788160"/>
            <a:ext cx="30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5280" y="188640"/>
            <a:ext cx="875052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Garamond"/>
              </a:rPr>
              <a:t>Нормативне забезпеч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80720" y="1579680"/>
            <a:ext cx="125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80720" y="2408400"/>
            <a:ext cx="125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80720" y="4700520"/>
            <a:ext cx="125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091760" y="1519200"/>
            <a:ext cx="5299560" cy="5104800"/>
            <a:chOff x="4091760" y="1519200"/>
            <a:chExt cx="5299560" cy="5104800"/>
          </a:xfrm>
        </p:grpSpPr>
        <p:sp>
          <p:nvSpPr>
            <p:cNvPr id="207" name=""/>
            <p:cNvSpPr/>
            <p:nvPr/>
          </p:nvSpPr>
          <p:spPr>
            <a:xfrm>
              <a:off x="4123080" y="1519200"/>
              <a:ext cx="117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Доруче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99200" y="1519200"/>
              <a:ext cx="127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резиден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45160" y="1519200"/>
              <a:ext cx="875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Україн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04920" y="1519200"/>
              <a:ext cx="32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ві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06320" y="1519200"/>
              <a:ext cx="1021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19.11.20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28840" y="2347920"/>
              <a:ext cx="114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остано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83360" y="2347920"/>
              <a:ext cx="48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КМ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03280" y="2347920"/>
              <a:ext cx="32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ві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19000" y="2347920"/>
              <a:ext cx="112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08.10.2010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18160" y="2347920"/>
              <a:ext cx="20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30200" y="2347920"/>
              <a:ext cx="505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1255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148600" y="234792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237880" y="2347920"/>
              <a:ext cx="534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«Пр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98960" y="2695680"/>
              <a:ext cx="1552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затвердже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94040" y="2695680"/>
              <a:ext cx="125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оложе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73840" y="2695680"/>
              <a:ext cx="39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р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65880" y="2695680"/>
              <a:ext cx="89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роек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62360" y="2695680"/>
              <a:ext cx="178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і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91760" y="3044880"/>
              <a:ext cx="149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ріоритетни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53720" y="3044880"/>
              <a:ext cx="1027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напрямі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02400" y="3044880"/>
              <a:ext cx="108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соціальн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38120" y="30448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31280" y="3044880"/>
              <a:ext cx="1515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економічн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154440" y="3044880"/>
              <a:ext cx="23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11920" y="3392640"/>
              <a:ext cx="136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культурн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79560" y="3392640"/>
              <a:ext cx="99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розвитк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99080" y="3392640"/>
              <a:ext cx="8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(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17800" y="3392640"/>
              <a:ext cx="1328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національн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831080" y="3392640"/>
              <a:ext cx="89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роек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699400" y="339264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)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28840" y="4640400"/>
              <a:ext cx="114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остано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83360" y="4640400"/>
              <a:ext cx="48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КМ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64480" y="4640400"/>
              <a:ext cx="32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ві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33840" y="4640400"/>
              <a:ext cx="1075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17.03.2011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75680" y="464040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№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21560" y="4640400"/>
              <a:ext cx="39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331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21880" y="4640400"/>
              <a:ext cx="534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«Пр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32080" y="498780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оряд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18400" y="4994280"/>
              <a:ext cx="1541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використ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68200" y="4994280"/>
              <a:ext cx="76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кошті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90360" y="49942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30320" y="4987800"/>
              <a:ext cx="1538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ередбачени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69520" y="533700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280400" y="5337000"/>
              <a:ext cx="136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державном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96920" y="5337000"/>
              <a:ext cx="928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бюджет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520320" y="5337000"/>
              <a:ext cx="262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20200" y="5337000"/>
              <a:ext cx="752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заход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90600" y="5329080"/>
              <a:ext cx="58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щод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162280" y="5329080"/>
              <a:ext cx="1125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створе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11200" y="5683320"/>
              <a:ext cx="797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мереж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66120" y="5683320"/>
              <a:ext cx="1477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регіональни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86320" y="5683320"/>
              <a:ext cx="168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еринатальни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934760" y="5688000"/>
              <a:ext cx="838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центрі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746200" y="56880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08320" y="6031080"/>
              <a:ext cx="1494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забезпечени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574960" y="6031080"/>
              <a:ext cx="167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інноваційни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56440" y="6031080"/>
              <a:ext cx="150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технологія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50440" y="6380280"/>
              <a:ext cx="23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99920" y="6380280"/>
              <a:ext cx="1047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сучасни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15120" y="6380280"/>
              <a:ext cx="158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обладнанням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23920" y="1728720"/>
            <a:ext cx="3228480" cy="4957560"/>
            <a:chOff x="223920" y="1728720"/>
            <a:chExt cx="3228480" cy="4957560"/>
          </a:xfrm>
        </p:grpSpPr>
        <p:sp>
          <p:nvSpPr>
            <p:cNvPr id="268" name=""/>
            <p:cNvSpPr/>
            <p:nvPr/>
          </p:nvSpPr>
          <p:spPr>
            <a:xfrm>
              <a:off x="576360" y="1728720"/>
              <a:ext cx="2658960" cy="168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01480" y="2223720"/>
              <a:ext cx="36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바탕"/>
                  <a:ea typeface="Arial"/>
                </a:rPr>
                <a:t>ЗАКОН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841040" y="2223720"/>
              <a:ext cx="47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바탕"/>
                  <a:ea typeface="Arial"/>
                </a:rPr>
                <a:t>УКРАЇН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1743120" y="1814400"/>
              <a:ext cx="249120" cy="343080"/>
              <a:chOff x="1743120" y="1814400"/>
              <a:chExt cx="249120" cy="343080"/>
            </a:xfrm>
          </p:grpSpPr>
          <p:sp>
            <p:nvSpPr>
              <p:cNvPr id="272" name=""/>
              <p:cNvSpPr/>
              <p:nvPr/>
            </p:nvSpPr>
            <p:spPr>
              <a:xfrm>
                <a:off x="1743120" y="1814400"/>
                <a:ext cx="247320" cy="33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43120" y="1814400"/>
                <a:ext cx="247320" cy="33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752480" y="1823760"/>
                <a:ext cx="239760" cy="333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752480" y="1823760"/>
                <a:ext cx="239760" cy="333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76" name="" descr=""/>
            <p:cNvPicPr/>
            <p:nvPr/>
          </p:nvPicPr>
          <p:blipFill>
            <a:blip r:embed="rId4"/>
            <a:stretch/>
          </p:blipFill>
          <p:spPr>
            <a:xfrm>
              <a:off x="1004760" y="2634840"/>
              <a:ext cx="2447640" cy="33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5"/>
            <a:stretch/>
          </p:blipFill>
          <p:spPr>
            <a:xfrm>
              <a:off x="223920" y="3426480"/>
              <a:ext cx="2529000" cy="325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"/>
          <p:cNvSpPr/>
          <p:nvPr/>
        </p:nvSpPr>
        <p:spPr>
          <a:xfrm>
            <a:off x="9397800" y="6788160"/>
            <a:ext cx="30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769080" y="1017720"/>
            <a:ext cx="28447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uk-UA" sz="3200" spc="-1" strike="noStrike">
                <a:solidFill>
                  <a:srgbClr val="003300"/>
                </a:solidFill>
                <a:latin typeface="Bookman Old Style"/>
              </a:rPr>
              <a:t>Третин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uk-UA" sz="3200" spc="-1" strike="noStrike">
                <a:solidFill>
                  <a:srgbClr val="003300"/>
                </a:solidFill>
                <a:latin typeface="Bookman Old Style"/>
              </a:rPr>
              <a:t>рі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4184640" y="2600280"/>
            <a:ext cx="1770120" cy="27558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0" y="58680"/>
            <a:ext cx="972180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Garamond"/>
              </a:rPr>
              <a:t>Оптимізація ресурсів високоспеціалізовано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Garamond"/>
              </a:rPr>
              <a:t>перинатальної допом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97120" y="1316160"/>
            <a:ext cx="2832120" cy="1285920"/>
          </a:xfrm>
          <a:custGeom>
            <a:avLst/>
            <a:gdLst>
              <a:gd name="textAreaLeft" fmla="*/ 151560 w 2832120"/>
              <a:gd name="textAreaRight" fmla="*/ 2680560 w 2832120"/>
              <a:gd name="textAreaTop" fmla="*/ 151560 h 1285920"/>
              <a:gd name="textAreaBottom" fmla="*/ 1134360 h 1285920"/>
            </a:gdLst>
            <a:ahLst/>
            <a:rect l="textAreaLeft" t="textAreaTop" r="textAreaRight" b="textAreaBottom"/>
            <a:pathLst>
              <a:path w="4756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3965" y="21600"/>
                </a:lnTo>
                <a:arcTo wR="3600" hR="3600" stAng="10800000" swAng="5400000"/>
                <a:lnTo>
                  <a:pt x="47565" y="3600"/>
                </a:lnTo>
                <a:arcTo wR="3600" hR="3600" stAng="5400000" swAng="5400000"/>
                <a:close/>
              </a:path>
            </a:pathLst>
          </a:custGeom>
          <a:solidFill>
            <a:srgbClr val="dfc2bf"/>
          </a:solidFill>
          <a:ln w="22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Bookman Old Style"/>
              </a:rPr>
              <a:t>ДРЦОМ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4520" y="3213000"/>
            <a:ext cx="2832120" cy="1285920"/>
          </a:xfrm>
          <a:custGeom>
            <a:avLst/>
            <a:gdLst>
              <a:gd name="textAreaLeft" fmla="*/ 151560 w 2832120"/>
              <a:gd name="textAreaRight" fmla="*/ 2680560 w 2832120"/>
              <a:gd name="textAreaTop" fmla="*/ 151560 h 1285920"/>
              <a:gd name="textAreaBottom" fmla="*/ 1134360 h 1285920"/>
            </a:gdLst>
            <a:ahLst/>
            <a:rect l="textAreaLeft" t="textAreaTop" r="textAreaRight" b="textAreaBottom"/>
            <a:pathLst>
              <a:path w="4756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3965" y="21600"/>
                </a:lnTo>
                <a:arcTo wR="3600" hR="3600" stAng="10800000" swAng="5400000"/>
                <a:lnTo>
                  <a:pt x="47565" y="3600"/>
                </a:lnTo>
                <a:arcTo wR="3600" hR="3600" stAng="5400000" swAng="5400000"/>
                <a:close/>
              </a:path>
            </a:pathLst>
          </a:custGeom>
          <a:solidFill>
            <a:srgbClr val="dfc2bf"/>
          </a:solidFill>
          <a:ln w="22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Медико-генетич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цент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69960" y="5187960"/>
            <a:ext cx="2832120" cy="1284120"/>
          </a:xfrm>
          <a:custGeom>
            <a:avLst/>
            <a:gdLst>
              <a:gd name="textAreaLeft" fmla="*/ 151200 w 2832120"/>
              <a:gd name="textAreaRight" fmla="*/ 2680920 w 2832120"/>
              <a:gd name="textAreaTop" fmla="*/ 151200 h 1284120"/>
              <a:gd name="textAreaBottom" fmla="*/ 1132920 h 1284120"/>
            </a:gdLst>
            <a:ahLst/>
            <a:rect l="textAreaLeft" t="textAreaTop" r="textAreaRight" b="textAreaBottom"/>
            <a:pathLst>
              <a:path w="4763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4031" y="21600"/>
                </a:lnTo>
                <a:arcTo wR="3600" hR="3600" stAng="10800000" swAng="5400000"/>
                <a:lnTo>
                  <a:pt x="47631" y="3600"/>
                </a:lnTo>
                <a:arcTo wR="3600" hR="3600" stAng="5400000" swAng="5400000"/>
                <a:close/>
              </a:path>
            </a:pathLst>
          </a:custGeom>
          <a:solidFill>
            <a:srgbClr val="dfc2bf"/>
          </a:solidFill>
          <a:ln w="22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Донецьк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національ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медич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університе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699240" y="3094200"/>
            <a:ext cx="2679840" cy="1436400"/>
          </a:xfrm>
          <a:custGeom>
            <a:avLst/>
            <a:gdLst>
              <a:gd name="textAreaLeft" fmla="*/ 169200 w 2679840"/>
              <a:gd name="textAreaRight" fmla="*/ 2510640 w 2679840"/>
              <a:gd name="textAreaTop" fmla="*/ 169200 h 1436400"/>
              <a:gd name="textAreaBottom" fmla="*/ 1267200 h 1436400"/>
            </a:gdLst>
            <a:ahLst/>
            <a:rect l="textAreaLeft" t="textAreaTop" r="textAreaRight" b="textAreaBottom"/>
            <a:pathLst>
              <a:path w="4029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6694" y="21600"/>
                </a:lnTo>
                <a:arcTo wR="3600" hR="3600" stAng="10800000" swAng="5400000"/>
                <a:lnTo>
                  <a:pt x="40294" y="3600"/>
                </a:lnTo>
                <a:arcTo wR="3600" hR="3600" stAng="5400000" swAng="5400000"/>
                <a:close/>
              </a:path>
            </a:pathLst>
          </a:custGeom>
          <a:solidFill>
            <a:srgbClr val="dfc2bf"/>
          </a:solidFill>
          <a:ln w="22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Обласна дитяч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лікарн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97480" y="5022720"/>
            <a:ext cx="2909880" cy="1511280"/>
          </a:xfrm>
          <a:prstGeom prst="hexagon">
            <a:avLst>
              <a:gd name="adj" fmla="val 48136"/>
              <a:gd name="vf" fmla="val 115470"/>
            </a:avLst>
          </a:prstGeom>
          <a:solidFill>
            <a:srgbClr val="dfc2bf"/>
          </a:solidFill>
          <a:ln w="22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Виїзні лікарсько-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к</a:t>
            </a:r>
            <a:r>
              <a:rPr b="1" lang="ru-RU" sz="1900" spc="-1" strike="noStrike">
                <a:solidFill>
                  <a:srgbClr val="000000"/>
                </a:solidFill>
                <a:latin typeface="Bookman Old Style"/>
              </a:rPr>
              <a:t>онсультативн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бригад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396440" y="365400"/>
            <a:ext cx="6903360" cy="6835680"/>
            <a:chOff x="1396440" y="365400"/>
            <a:chExt cx="6903360" cy="6835680"/>
          </a:xfrm>
        </p:grpSpPr>
        <p:sp>
          <p:nvSpPr>
            <p:cNvPr id="288" name=""/>
            <p:cNvSpPr/>
            <p:nvPr/>
          </p:nvSpPr>
          <p:spPr>
            <a:xfrm rot="2700000">
              <a:off x="1892880" y="2606040"/>
              <a:ext cx="2358000" cy="2381760"/>
            </a:xfrm>
            <a:custGeom>
              <a:avLst/>
              <a:gdLst/>
              <a:ahLst/>
              <a:rect l="l" t="t" r="r" b="b"/>
              <a:pathLst>
                <a:path w="235" h="234">
                  <a:moveTo>
                    <a:pt x="0" y="0"/>
                  </a:moveTo>
                  <a:cubicBezTo>
                    <a:pt x="0" y="129"/>
                    <a:pt x="105" y="234"/>
                    <a:pt x="234" y="234"/>
                  </a:cubicBez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2700000">
              <a:off x="5441400" y="2616120"/>
              <a:ext cx="2358720" cy="239004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235" y="235"/>
                  </a:moveTo>
                  <a:cubicBezTo>
                    <a:pt x="235" y="105"/>
                    <a:pt x="129" y="0"/>
                    <a:pt x="0" y="0"/>
                  </a:cubicBezTo>
                  <a:lnTo>
                    <a:pt x="0" y="235"/>
                  </a:lnTo>
                  <a:lnTo>
                    <a:pt x="235" y="235"/>
                  </a:lnTo>
                  <a:close/>
                </a:path>
              </a:pathLst>
            </a:custGeom>
            <a:solidFill>
              <a:srgbClr val="cc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2700000">
              <a:off x="3670200" y="4325040"/>
              <a:ext cx="2358720" cy="239220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cubicBezTo>
                    <a:pt x="129" y="235"/>
                    <a:pt x="235" y="129"/>
                    <a:pt x="235" y="0"/>
                  </a:cubicBezTo>
                  <a:lnTo>
                    <a:pt x="0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2700000">
              <a:off x="3667680" y="848880"/>
              <a:ext cx="2358000" cy="239004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234" y="0"/>
                  </a:moveTo>
                  <a:cubicBezTo>
                    <a:pt x="105" y="0"/>
                    <a:pt x="0" y="105"/>
                    <a:pt x="0" y="234"/>
                  </a:cubicBezTo>
                  <a:lnTo>
                    <a:pt x="235" y="235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80560" y="3480120"/>
              <a:ext cx="1073160" cy="61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ffffff"/>
                  </a:solidFill>
                  <a:latin typeface="Bookman Old Style"/>
                </a:rPr>
                <a:t>Дитяч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ffffff"/>
                  </a:solidFill>
                  <a:latin typeface="Bookman Old Style"/>
                </a:rPr>
                <a:t>лікран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152600" y="2148120"/>
              <a:ext cx="1319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900" spc="-1" strike="noStrike">
                  <a:solidFill>
                    <a:srgbClr val="003300"/>
                  </a:solidFill>
                  <a:latin typeface="Bookman Old Style"/>
                </a:rPr>
                <a:t>ДРЦОМД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17840" y="5225040"/>
              <a:ext cx="2804400" cy="67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900" spc="-1" strike="noStrike">
                  <a:solidFill>
                    <a:srgbClr val="ffffff"/>
                  </a:solidFill>
                  <a:latin typeface="Bookman Old Style"/>
                </a:rPr>
                <a:t>Медико-генетични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900" spc="-1" strike="noStrike">
                  <a:solidFill>
                    <a:srgbClr val="ffffff"/>
                  </a:solidFill>
                  <a:latin typeface="Bookman Old Style"/>
                </a:rPr>
                <a:t>центр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00480" y="3501720"/>
              <a:ext cx="2165760" cy="61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ffffff"/>
                  </a:solidFill>
                  <a:latin typeface="Bookman Old Style"/>
                </a:rPr>
                <a:t>Кардіохіругічни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ffffff"/>
                  </a:solidFill>
                  <a:latin typeface="Bookman Old Style"/>
                </a:rPr>
                <a:t>цент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3390840" y="3086280"/>
            <a:ext cx="2909880" cy="1420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Виїзні лікарськ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к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онсультатив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бриг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397800" y="6788160"/>
            <a:ext cx="30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82239E-006 L 0 0.25717 E">
                                      <p:cBhvr>
                                        <p:cTn id="174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3469E-006 L -0.32691 2.53469E-006 E">
                                      <p:cBhvr>
                                        <p:cTn id="176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80204E-006 L 0.31892 0.00023 E">
                                      <p:cBhvr>
                                        <p:cTn id="178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53284E-007 L 0.19288 -0.27775 E">
                                      <p:cBhvr>
                                        <p:cTn id="180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66512E-006 L -0.20486 -0.27266 E">
                                      <p:cBhvr>
                                        <p:cTn id="182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85280" y="144000"/>
            <a:ext cx="8750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Garamond"/>
              </a:rPr>
              <a:t>Аудит відповідності міжнародним стандар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23920" y="936720"/>
          <a:ext cx="9288360" cy="6080040"/>
        </p:xfrm>
        <a:graphic>
          <a:graphicData uri="http://schemas.openxmlformats.org/drawingml/2006/table">
            <a:tbl>
              <a:tblPr/>
              <a:tblGrid>
                <a:gridCol w="534960"/>
                <a:gridCol w="3151080"/>
                <a:gridCol w="1965240"/>
                <a:gridCol w="3637080"/>
              </a:tblGrid>
              <a:tr h="77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№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з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Характеристика Донецького регіонального центру охорони материнства та дитин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Відповідність до міжнародних стандартів з організації робо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Необхідні заходи для приведення закладу до міжнародних стандарт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26208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Структура лікувального закла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відповіда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Робота підрозділів, завантаженість, кількість полог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відповіда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Кваліфікація лікарів та середнього медичного персонал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відповідає частк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Проведення навчальних тренінгів, особливо з середнім медичним персонал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37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Оснащення необхідним обладнанн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відповідає частк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Потребує  дооснащення дихальною апаратурою відділення реанімації новонароджених (особливо для мало вагових); оновлення обладнання для операційного блоку, наркозно-дихальна та слідкуюча для відділення акушерської реаніма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Виїзна консультативно-транспортна бригада екстреної акушерської та неонатологічної допомо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відповідає частк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Забезпечення медичним транспортом з можливістю транспортування вагітних, роділь, породіль та новонароджених в тяжких стан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Система вентиля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не відповіда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Реконструктивні роботи згідно з проектно-кошторисною документацією, розробленою сумісно з технічними консультантами  Проект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Система повітря та газопостачання в блоках інтенсивної терап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не відповіда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Реконструктивні роботи згідно з проектно-кошторисною документацією, розробленою сумісно з технічними консультантами  Проек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Штатний розкл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не відповіда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Розробка штатного розкладу для перинатального центру ІІІ рівня та погодження з МОЗ Украї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9469800" y="6834240"/>
            <a:ext cx="30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71280"/>
            <a:ext cx="9721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Garamond"/>
              </a:rPr>
              <a:t>Існуюча організація над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Garamond"/>
              </a:rPr>
              <a:t>неонатальної допом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76520" y="2979720"/>
            <a:ext cx="6352920" cy="18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uk-UA" sz="5700" spc="-1" strike="noStrike">
                <a:solidFill>
                  <a:srgbClr val="993300"/>
                </a:solidFill>
                <a:latin typeface="Bookman Old Style"/>
              </a:rPr>
              <a:t>Вторинний 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uk-UA" sz="5700" spc="-1" strike="noStrike">
                <a:solidFill>
                  <a:srgbClr val="993300"/>
                </a:solidFill>
                <a:latin typeface="Bookman Old Style"/>
              </a:rPr>
              <a:t>рівень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3120" y="1297080"/>
            <a:ext cx="2144520" cy="1512720"/>
          </a:xfrm>
          <a:prstGeom prst="octagon">
            <a:avLst>
              <a:gd name="adj" fmla="val 2928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Пологов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відділенн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(ЦМЛ, ЦРЛ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Пологов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будин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89360" y="3157560"/>
            <a:ext cx="2143080" cy="1359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Неонатальн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регіональн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центр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75560" y="5408640"/>
            <a:ext cx="2219040" cy="1360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Жіноч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консультаці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(ЦМЛ, ЦРЛ, МЛ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397800" y="6788160"/>
            <a:ext cx="30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20:56:55Z</dcterms:created>
  <dc:creator>promo</dc:creator>
  <dc:description/>
  <dc:language>en-US</dc:language>
  <cp:lastModifiedBy>MIHP</cp:lastModifiedBy>
  <dcterms:modified xsi:type="dcterms:W3CDTF">2011-08-17T08:07:39Z</dcterms:modified>
  <cp:revision>439</cp:revision>
  <dc:subject/>
  <dc:title>Слайд 1</dc:title>
</cp:coreProperties>
</file>