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31B8-05AC-4C05-B792-19DEFCA1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A6E-CD4D-43AA-83CC-BA69837BD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8ED2-7C67-407B-9DCC-4A66F729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923-22C6-465D-A4BF-47293EDE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97C4-87B2-4F68-A86A-9AED8417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C2C8-184F-45B1-9354-79FC1A1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A5A4-F876-41B3-830B-BCF138C8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3B1E-BC8C-4061-AADA-0230CA0B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CECC-5656-4B9C-8941-4D77D8C5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B271-B3FC-4709-8D28-259E1755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DDC1-F40C-4CC8-BA62-30EA365C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561-689E-4A01-A1D4-F5F52841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3EA0-F7CF-4856-9674-F69888C6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F7D1-FEE7-4A7D-BEF8-AFC21C5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66C5-EE63-4BD7-85B9-35C33189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9C44-7CCF-4495-A25E-28A4974B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6AC1-698C-4696-9769-727C076B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59868-7469-4124-B742-46893470B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D33BA-BCD1-4A4A-B3B3-61B82CAA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3831-9390-4FD5-A6B2-EE7B3B23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8B42-FC57-482A-8BE6-E6633DD9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301D-8D02-4ACB-8012-061F24FA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744-C6E5-41FC-A55E-5C8F94CE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A1A7-E69F-4FC8-A240-E7733518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CEF6-EBFE-4A50-83D5-9CDE20F0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CEFA-713F-4A40-9D93-32B46B20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2B72-8B97-457A-842A-14AC9646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B5C5B-DA26-4321-81F3-EEEDA92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D1204-1180-478F-9AE7-9965917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44376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2600" y="167904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528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44376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2600" y="4161600"/>
            <a:ext cx="28173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88E0-7B9A-4133-A23E-6AAA8144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813-A5CC-4527-8C3E-3212B600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C3F-BE31-4BCF-A75F-73A7849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280" y="288720"/>
            <a:ext cx="87505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987-D4C0-4CF1-AFE7-C27ABD97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007-DB77-4D75-9D3E-3DBECF9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9080" y="416160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94F-3D5E-419A-81A8-1858CAA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2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79040"/>
            <a:ext cx="426996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280" y="4161600"/>
            <a:ext cx="87505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E31B-98AD-47B9-871F-84CA289D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280" y="288720"/>
            <a:ext cx="8750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280" y="1679040"/>
            <a:ext cx="8750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56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22800" y="6557760"/>
            <a:ext cx="30765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67440" y="6557760"/>
            <a:ext cx="22687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B18B-25B5-4F4A-A742-CA4E55454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39840" y="1920960"/>
            <a:ext cx="9381600" cy="5279760"/>
            <a:chOff x="339840" y="1920960"/>
            <a:chExt cx="9381600" cy="5279760"/>
          </a:xfrm>
        </p:grpSpPr>
        <p:sp>
          <p:nvSpPr>
            <p:cNvPr id="42" name=""/>
            <p:cNvSpPr/>
            <p:nvPr/>
          </p:nvSpPr>
          <p:spPr>
            <a:xfrm>
              <a:off x="891360" y="4849200"/>
              <a:ext cx="8829720" cy="23515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54960" y="1920960"/>
              <a:ext cx="9366480" cy="5279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1360" y="4887360"/>
              <a:ext cx="8829720" cy="23133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1360" y="1920960"/>
              <a:ext cx="77752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91360" y="1920960"/>
              <a:ext cx="48960" cy="297468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89920" y="4840920"/>
              <a:ext cx="48960" cy="23598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9840" y="4840920"/>
              <a:ext cx="4858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9840" y="4840920"/>
              <a:ext cx="50760" cy="23598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90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646080" y="6557760"/>
            <a:ext cx="307836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CA224-B083-448B-A5E3-18D80BEB2124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85280" y="257040"/>
            <a:ext cx="8915400" cy="15033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90280" y="2000160"/>
            <a:ext cx="851364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4" marL="2176560" indent="-243000">
              <a:spcBef>
                <a:spcPts val="8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5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6" marL="2176560" indent="-243000">
              <a:spcBef>
                <a:spcPts val="8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39840" y="1839960"/>
            <a:ext cx="9381600" cy="5385960"/>
            <a:chOff x="339840" y="1839960"/>
            <a:chExt cx="9381600" cy="5385960"/>
          </a:xfrm>
        </p:grpSpPr>
        <p:sp>
          <p:nvSpPr>
            <p:cNvPr id="92" name=""/>
            <p:cNvSpPr/>
            <p:nvPr/>
          </p:nvSpPr>
          <p:spPr>
            <a:xfrm>
              <a:off x="354960" y="1839960"/>
              <a:ext cx="9366480" cy="53611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91360" y="4000320"/>
              <a:ext cx="8829720" cy="32007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9840" y="3962160"/>
              <a:ext cx="583092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91360" y="1839960"/>
              <a:ext cx="8259480" cy="4824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9840" y="3962160"/>
              <a:ext cx="50760" cy="326376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91360" y="1839960"/>
              <a:ext cx="48960" cy="537624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52280" y="1999800"/>
            <a:ext cx="8264520" cy="1824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57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105264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687840" y="6557760"/>
            <a:ext cx="307800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7375680" y="6557760"/>
            <a:ext cx="2022480" cy="500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ru-RU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56D94-7B57-4699-B837-4A0F4383F9CB}" type="slidenum">
              <a:rPr b="0" lang="ru-RU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88920" y="189000"/>
          <a:ext cx="814320" cy="113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920" y="189000"/>
                    <a:ext cx="81432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8602560" y="200160"/>
          <a:ext cx="106848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602560" y="200160"/>
                    <a:ext cx="106848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928800" y="546120"/>
            <a:ext cx="784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Головне управління охорони здоров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'</a:t>
            </a:r>
            <a:r>
              <a:rPr b="1" lang="uk-UA" sz="2400" spc="-1" strike="noStrike">
                <a:solidFill>
                  <a:srgbClr val="ffff00"/>
                </a:solidFill>
                <a:latin typeface="Arial"/>
              </a:rPr>
              <a:t>я Донецької облдержадміністр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080" y="3168720"/>
            <a:ext cx="9146520" cy="2376360"/>
            <a:chOff x="289080" y="3168720"/>
            <a:chExt cx="9146520" cy="2376360"/>
          </a:xfrm>
        </p:grpSpPr>
        <p:sp>
          <p:nvSpPr>
            <p:cNvPr id="144" name=""/>
            <p:cNvSpPr/>
            <p:nvPr/>
          </p:nvSpPr>
          <p:spPr>
            <a:xfrm>
              <a:off x="289080" y="3168720"/>
              <a:ext cx="9146520" cy="1222200"/>
            </a:xfrm>
            <a:prstGeom prst="rect">
              <a:avLst/>
            </a:prstGeom>
            <a:solidFill>
              <a:srgbClr val="0000ff">
                <a:alpha val="70000"/>
              </a:srgbClr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ffff00"/>
                  </a:solidFill>
                  <a:latin typeface="Garamond"/>
                </a:rPr>
                <a:t>Концепція удосконалення перинатальної допомоги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080" y="4390920"/>
              <a:ext cx="9146520" cy="115416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700" spc="-1" strike="noStrike">
                  <a:solidFill>
                    <a:srgbClr val="0000ff"/>
                  </a:solidFill>
                  <a:latin typeface="Garamond"/>
                </a:rPr>
                <a:t>в Донецькій області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2720" y="6264360"/>
            <a:ext cx="626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ff"/>
                </a:solidFill>
                <a:latin typeface="Georgia"/>
              </a:rPr>
              <a:t>Заступник начальника головного управління Качур О.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30760" y="4975200"/>
            <a:ext cx="2027160" cy="209700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17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ccecff"/>
                </a:solidFill>
                <a:latin typeface="Bookman Old Style"/>
              </a:rPr>
              <a:t>ЦПМС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76520" y="2682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ff9933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47720" y="5103720"/>
            <a:ext cx="635328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Перв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0066ff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6775560" y="5792760"/>
            <a:ext cx="2218680" cy="680760"/>
            <a:chOff x="6775560" y="5792760"/>
            <a:chExt cx="2218680" cy="680760"/>
          </a:xfrm>
        </p:grpSpPr>
        <p:sp>
          <p:nvSpPr>
            <p:cNvPr id="311" name=""/>
            <p:cNvSpPr/>
            <p:nvPr/>
          </p:nvSpPr>
          <p:spPr>
            <a:xfrm>
              <a:off x="6775560" y="5792760"/>
              <a:ext cx="2218680" cy="6807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14440" y="5985720"/>
              <a:ext cx="212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0000"/>
                  </a:solidFill>
                  <a:latin typeface="Bookman Old Style"/>
                </a:rPr>
                <a:t>лікар-консультан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775560" y="5111640"/>
            <a:ext cx="2219040" cy="831960"/>
          </a:xfrm>
          <a:prstGeom prst="roundRect">
            <a:avLst>
              <a:gd name="adj" fmla="val 16667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Консультатив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діагностичн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75560" y="5111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6516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Розмежування надання 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3120" y="1407960"/>
            <a:ext cx="2144520" cy="1513080"/>
          </a:xfrm>
          <a:prstGeom prst="octagon">
            <a:avLst>
              <a:gd name="adj" fmla="val 2928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73520" y="2828880"/>
            <a:ext cx="2144520" cy="136044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ери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06680" y="936720"/>
            <a:ext cx="2908440" cy="1422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3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6763E-006 L 0.00087 -0.29295 E">
                                      <p:cBhvr>
                                        <p:cTn id="226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000"/>
                            </p:stCondLst>
                            <p:childTnLst>
                              <p:par>
                                <p:cTn id="2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79769E-006 L 0.00399 -0.52948 E">
                                      <p:cBhvr>
                                        <p:cTn id="250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6185E-006 L -0.31094 0.0578 E">
                                      <p:cBhvr>
                                        <p:cTn id="252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584440" y="5761080"/>
            <a:ext cx="4103640" cy="1008000"/>
          </a:xfrm>
          <a:prstGeom prst="ellipse">
            <a:avLst/>
          </a:prstGeom>
          <a:gradFill rotWithShape="0">
            <a:gsLst>
              <a:gs pos="0">
                <a:srgbClr val="cc00cc"/>
              </a:gs>
              <a:gs pos="50000">
                <a:srgbClr val="740074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Garamond"/>
              </a:rPr>
              <a:t>Оптимізація мережі та ресурс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85280" y="72720"/>
            <a:ext cx="8750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Обґрунтування закриття малопотужних пологових</a:t>
            </a:r>
            <a:br>
              <a:rPr sz="2500"/>
            </a:br>
            <a:r>
              <a:rPr b="1" lang="uk-UA" sz="2500" spc="-1" strike="noStrike">
                <a:solidFill>
                  <a:srgbClr val="800080"/>
                </a:solidFill>
                <a:latin typeface="Garamond"/>
              </a:rPr>
              <a:t>відді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8000" y="1224000"/>
            <a:ext cx="503280" cy="43164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00" y="3325680"/>
            <a:ext cx="501480" cy="4320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8000" y="536580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502320" y="5370480"/>
            <a:ext cx="505080" cy="43200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73880" y="3370320"/>
            <a:ext cx="5032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560" y="1231920"/>
            <a:ext cx="28461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таробеше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3960" y="3333600"/>
            <a:ext cx="144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Дебальце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22080" y="5408640"/>
            <a:ext cx="12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Кіровсь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953760" y="1425600"/>
            <a:ext cx="1110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Авдії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32440" y="3379680"/>
            <a:ext cx="30182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В.-Новоселк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54400" y="5398920"/>
            <a:ext cx="28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Олександрівський рай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904840" y="1440000"/>
            <a:ext cx="3362760" cy="4321080"/>
            <a:chOff x="2904840" y="1440000"/>
            <a:chExt cx="3362760" cy="4321080"/>
          </a:xfrm>
        </p:grpSpPr>
        <p:sp>
          <p:nvSpPr>
            <p:cNvPr id="334" name=""/>
            <p:cNvSpPr/>
            <p:nvPr/>
          </p:nvSpPr>
          <p:spPr>
            <a:xfrm>
              <a:off x="3217680" y="1440000"/>
              <a:ext cx="2736360" cy="4321080"/>
            </a:xfrm>
            <a:prstGeom prst="downArrowCallout">
              <a:avLst>
                <a:gd name="adj1" fmla="val 35827"/>
                <a:gd name="adj2" fmla="val 25000"/>
                <a:gd name="adj3" fmla="val 21581"/>
                <a:gd name="adj4" fmla="val 77407"/>
              </a:avLst>
            </a:prstGeom>
            <a:gradFill rotWithShape="0">
              <a:gsLst>
                <a:gs pos="0">
                  <a:srgbClr val="cc00cc">
                    <a:alpha val="81176"/>
                  </a:srgbClr>
                </a:gs>
                <a:gs pos="100000">
                  <a:srgbClr val="f7def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4840" y="1457280"/>
              <a:ext cx="3362760" cy="32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дискваліфікаці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ед. персоналу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належний матеріально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ехнічний стан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порушення принципів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безпечного материнства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- необґрунтовані бюджетні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витрати на утриман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ліжкового фонду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62280" y="165564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4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120" y="3757680"/>
            <a:ext cx="300924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54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9,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неонатолог за сумісництво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цілодобового п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анестезі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640" y="5797440"/>
            <a:ext cx="257004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5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19880" y="1636560"/>
            <a:ext cx="27241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302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5,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423480" y="3794040"/>
            <a:ext cx="250452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210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люков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8,3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53360" y="5786280"/>
            <a:ext cx="27241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кількість пологів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19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материнська смертність </a:t>
            </a:r>
            <a:r>
              <a:rPr b="1" lang="uk-UA" sz="1400" spc="-1" strike="noStrike" u="sng">
                <a:solidFill>
                  <a:srgbClr val="000000"/>
                </a:solidFill>
                <a:uFillTx/>
                <a:latin typeface="Garamond"/>
              </a:rPr>
              <a:t>1</a:t>
            </a: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відсутність неонатолог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aramond"/>
              </a:rPr>
              <a:t>дефіцит акушер-гінекологі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02320" y="1239840"/>
            <a:ext cx="505080" cy="43164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7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7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481880" y="5670720"/>
            <a:ext cx="212580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Облас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еринатальний цен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887480" y="727200"/>
          <a:ext cx="5792760" cy="635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7480" y="727200"/>
                    <a:ext cx="57927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60480" y="727200"/>
          <a:ext cx="5794560" cy="6350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60480" y="727200"/>
                    <a:ext cx="5794560" cy="63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396720" y="46080"/>
            <a:ext cx="88426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700" spc="-1" strike="noStrike">
                <a:solidFill>
                  <a:srgbClr val="800080"/>
                </a:solidFill>
                <a:latin typeface="Georgia"/>
              </a:rPr>
              <a:t>Мережа перинатальних центрі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937040" y="1332000"/>
            <a:ext cx="2601360" cy="2114280"/>
            <a:chOff x="4937040" y="1332000"/>
            <a:chExt cx="2601360" cy="2114280"/>
          </a:xfrm>
        </p:grpSpPr>
        <p:sp>
          <p:nvSpPr>
            <p:cNvPr id="351" name=""/>
            <p:cNvSpPr/>
            <p:nvPr/>
          </p:nvSpPr>
          <p:spPr>
            <a:xfrm>
              <a:off x="4937040" y="3070080"/>
              <a:ext cx="457200" cy="376200"/>
            </a:xfrm>
            <a:custGeom>
              <a:avLst/>
              <a:gdLst>
                <a:gd name="textAreaLeft" fmla="*/ 147600 w 457200"/>
                <a:gd name="textAreaRight" fmla="*/ 309600 w 457200"/>
                <a:gd name="textAreaTop" fmla="*/ 121680 h 376200"/>
                <a:gd name="textAreaBottom" fmla="*/ 25452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983" y="6983"/>
                  </a:lnTo>
                  <a:lnTo>
                    <a:pt x="10800" y="0"/>
                  </a:lnTo>
                  <a:lnTo>
                    <a:pt x="14617" y="6983"/>
                  </a:lnTo>
                  <a:lnTo>
                    <a:pt x="21600" y="10800"/>
                  </a:lnTo>
                  <a:lnTo>
                    <a:pt x="14617" y="14617"/>
                  </a:lnTo>
                  <a:lnTo>
                    <a:pt x="10800" y="21600"/>
                  </a:lnTo>
                  <a:lnTo>
                    <a:pt x="6983" y="1461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85800" y="1332000"/>
              <a:ext cx="1452600" cy="603360"/>
            </a:xfrm>
            <a:prstGeom prst="wedgeRectCallout">
              <a:avLst>
                <a:gd name="adj1" fmla="val -103194"/>
                <a:gd name="adj2" fmla="val 241435"/>
              </a:avLst>
            </a:prstGeom>
            <a:solidFill>
              <a:srgbClr val="ffffff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ТМО “Сім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 і здоров</a:t>
              </a:r>
              <a:r>
                <a:rPr b="1" lang="en-US" sz="1700" spc="-1" strike="noStrike">
                  <a:solidFill>
                    <a:srgbClr val="000000"/>
                  </a:solidFill>
                  <a:latin typeface="Garamond"/>
                </a:rPr>
                <a:t>’</a:t>
              </a: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819680" y="3220920"/>
            <a:ext cx="3103200" cy="884160"/>
            <a:chOff x="4819680" y="3220920"/>
            <a:chExt cx="3103200" cy="884160"/>
          </a:xfrm>
        </p:grpSpPr>
        <p:sp>
          <p:nvSpPr>
            <p:cNvPr id="354" name=""/>
            <p:cNvSpPr/>
            <p:nvPr/>
          </p:nvSpPr>
          <p:spPr>
            <a:xfrm>
              <a:off x="6600960" y="3220920"/>
              <a:ext cx="1321920" cy="379440"/>
            </a:xfrm>
            <a:prstGeom prst="wedgeRectCallout">
              <a:avLst>
                <a:gd name="adj1" fmla="val -162388"/>
                <a:gd name="adj2" fmla="val 132458"/>
              </a:avLst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19680" y="3728880"/>
              <a:ext cx="459360" cy="376200"/>
            </a:xfrm>
            <a:custGeom>
              <a:avLst/>
              <a:gdLst>
                <a:gd name="textAreaLeft" fmla="*/ 155880 w 459360"/>
                <a:gd name="textAreaRight" fmla="*/ 303480 w 45936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473800" y="352584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091120" y="4809960"/>
            <a:ext cx="22860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140360" y="3630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549760" y="2921040"/>
            <a:ext cx="22860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402080" y="3978360"/>
            <a:ext cx="763560" cy="34740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103480" y="1177920"/>
            <a:ext cx="2374200" cy="1096560"/>
            <a:chOff x="2103480" y="1177920"/>
            <a:chExt cx="2374200" cy="1096560"/>
          </a:xfrm>
        </p:grpSpPr>
        <p:sp>
          <p:nvSpPr>
            <p:cNvPr id="362" name=""/>
            <p:cNvSpPr/>
            <p:nvPr/>
          </p:nvSpPr>
          <p:spPr>
            <a:xfrm>
              <a:off x="2103480" y="1177920"/>
              <a:ext cx="1530720" cy="453240"/>
            </a:xfrm>
            <a:prstGeom prst="wedgeRectCallout">
              <a:avLst>
                <a:gd name="adj1" fmla="val 85171"/>
                <a:gd name="adj2" fmla="val 145953"/>
              </a:avLst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МЛ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019040" y="189792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20840" y="2916360"/>
            <a:ext cx="2923560" cy="485280"/>
            <a:chOff x="420840" y="2916360"/>
            <a:chExt cx="2923560" cy="485280"/>
          </a:xfrm>
        </p:grpSpPr>
        <p:sp>
          <p:nvSpPr>
            <p:cNvPr id="365" name=""/>
            <p:cNvSpPr/>
            <p:nvPr/>
          </p:nvSpPr>
          <p:spPr>
            <a:xfrm>
              <a:off x="420840" y="2916360"/>
              <a:ext cx="1757880" cy="455400"/>
            </a:xfrm>
            <a:prstGeom prst="wedgeRectCallout">
              <a:avLst>
                <a:gd name="adj1" fmla="val 103550"/>
                <a:gd name="adj2" fmla="val 21060"/>
              </a:avLst>
            </a:prstGeom>
            <a:solidFill>
              <a:srgbClr val="ffffff"/>
            </a:solidFill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Р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85760" y="3024720"/>
              <a:ext cx="458640" cy="37692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920"/>
                <a:gd name="textAreaBottom" fmla="*/ 249120 h 37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92200" y="3965400"/>
            <a:ext cx="2890440" cy="1147680"/>
            <a:chOff x="1492200" y="3965400"/>
            <a:chExt cx="2890440" cy="1147680"/>
          </a:xfrm>
        </p:grpSpPr>
        <p:sp>
          <p:nvSpPr>
            <p:cNvPr id="368" name=""/>
            <p:cNvSpPr/>
            <p:nvPr/>
          </p:nvSpPr>
          <p:spPr>
            <a:xfrm>
              <a:off x="1492200" y="4658400"/>
              <a:ext cx="1758240" cy="454680"/>
            </a:xfrm>
            <a:prstGeom prst="wedgeRectCallout">
              <a:avLst>
                <a:gd name="adj1" fmla="val 101726"/>
                <a:gd name="adj2" fmla="val -160625"/>
              </a:avLst>
            </a:prstGeom>
            <a:solidFill>
              <a:srgbClr val="ffffff"/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ЦМКЛ № 3 і 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24000" y="3965400"/>
              <a:ext cx="458640" cy="37620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200"/>
                <a:gd name="textAreaBottom" fmla="*/ 24840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021200" y="6035760"/>
            <a:ext cx="3138120" cy="893160"/>
            <a:chOff x="4021200" y="6035760"/>
            <a:chExt cx="3138120" cy="893160"/>
          </a:xfrm>
        </p:grpSpPr>
        <p:sp>
          <p:nvSpPr>
            <p:cNvPr id="371" name=""/>
            <p:cNvSpPr/>
            <p:nvPr/>
          </p:nvSpPr>
          <p:spPr>
            <a:xfrm>
              <a:off x="4785480" y="6322320"/>
              <a:ext cx="2373840" cy="606600"/>
            </a:xfrm>
            <a:prstGeom prst="wedgeRectCallout">
              <a:avLst>
                <a:gd name="adj1" fmla="val -70824"/>
                <a:gd name="adj2" fmla="val -65935"/>
              </a:avLst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000000"/>
                  </a:solidFill>
                  <a:latin typeface="Garamond"/>
                </a:rPr>
                <a:t>Пологовий будинок №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21200" y="6035760"/>
              <a:ext cx="458640" cy="376560"/>
            </a:xfrm>
            <a:custGeom>
              <a:avLst/>
              <a:gdLst>
                <a:gd name="textAreaLeft" fmla="*/ 155520 w 458640"/>
                <a:gd name="textAreaRight" fmla="*/ 303120 w 458640"/>
                <a:gd name="textAreaTop" fmla="*/ 127800 h 376560"/>
                <a:gd name="textAreaBottom" fmla="*/ 248760 h 3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7335" y="7335"/>
                  </a:lnTo>
                  <a:lnTo>
                    <a:pt x="10800" y="0"/>
                  </a:lnTo>
                  <a:lnTo>
                    <a:pt x="14265" y="7335"/>
                  </a:lnTo>
                  <a:lnTo>
                    <a:pt x="21600" y="10800"/>
                  </a:lnTo>
                  <a:lnTo>
                    <a:pt x="14265" y="14265"/>
                  </a:lnTo>
                  <a:lnTo>
                    <a:pt x="10800" y="21600"/>
                  </a:lnTo>
                  <a:lnTo>
                    <a:pt x="7335" y="1426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2563920" y="4357800"/>
            <a:ext cx="230040" cy="2253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84600" y="2136600"/>
            <a:ext cx="23004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54960" y="5629320"/>
            <a:ext cx="763560" cy="345960"/>
          </a:xfrm>
          <a:prstGeom prst="octagon">
            <a:avLst>
              <a:gd name="adj" fmla="val 29287"/>
            </a:avLst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 Antiqua"/>
              </a:rPr>
              <a:t>ОПЦ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02680" y="6523200"/>
            <a:ext cx="219528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Малопотужн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Bookman Old Style"/>
              </a:rPr>
              <a:t>пологові відділен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599240" y="6594480"/>
            <a:ext cx="227160" cy="227160"/>
          </a:xfrm>
          <a:prstGeom prst="pentagon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9336240" y="690552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86" dur="2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9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1908000" y="431640"/>
            <a:ext cx="5905800" cy="1295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Зміна механізмів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46000" y="3498840"/>
            <a:ext cx="6696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ведення фінансування перинатальних цент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 обласний рів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46000" y="45435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ерехід до програмно-цільового методу фінансув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служ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алучення інвестиц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77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2" dur="770" fill="hold"/>
                                        <p:tgtEl>
                                          <p:spTgt spid="3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4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6" dur="77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4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-360" y="91800"/>
            <a:ext cx="9721800" cy="664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Орієнтовна структура джерел фінансування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Bookman Old Style"/>
              </a:rPr>
              <a:t>із залученням інвестиційних кош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-1152720" y="1280520"/>
            <a:ext cx="5244480" cy="5244840"/>
            <a:chOff x="-1152720" y="1280520"/>
            <a:chExt cx="5244480" cy="5244840"/>
          </a:xfrm>
        </p:grpSpPr>
        <p:sp>
          <p:nvSpPr>
            <p:cNvPr id="387" name=""/>
            <p:cNvSpPr/>
            <p:nvPr/>
          </p:nvSpPr>
          <p:spPr>
            <a:xfrm rot="2700000">
              <a:off x="-402840" y="2066760"/>
              <a:ext cx="3745080" cy="367200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120" y="3498840"/>
              <a:ext cx="3051360" cy="88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Дитяча ліка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6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592960" y="1305000"/>
            <a:ext cx="5185080" cy="5184720"/>
            <a:chOff x="5592960" y="1305000"/>
            <a:chExt cx="5185080" cy="5184720"/>
          </a:xfrm>
        </p:grpSpPr>
        <p:sp>
          <p:nvSpPr>
            <p:cNvPr id="390" name=""/>
            <p:cNvSpPr/>
            <p:nvPr/>
          </p:nvSpPr>
          <p:spPr>
            <a:xfrm rot="2700000">
              <a:off x="6366240" y="2050200"/>
              <a:ext cx="3638520" cy="3693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08520" y="2580840"/>
              <a:ext cx="2622960" cy="29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– </a:t>
              </a: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40 млн. грн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Інвестиції - 1,5 млн. </a:t>
              </a:r>
              <a:r>
                <a:rPr b="1" lang="en-US" sz="1700" spc="-1" strike="noStrike">
                  <a:solidFill>
                    <a:srgbClr val="ffffff"/>
                  </a:solidFill>
                  <a:latin typeface="Bookman Old Style"/>
                </a:rPr>
                <a:t>$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Фонд Ріната Ахметов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Група “Норд”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БФ “Український да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життя”, СШ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ОП “Шах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ffffff"/>
                  </a:solidFill>
                  <a:latin typeface="Bookman Old Style"/>
                </a:rPr>
                <a:t>ім. О.Ф. Засядька”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226600" y="3250440"/>
            <a:ext cx="5152320" cy="5152680"/>
            <a:chOff x="2226600" y="3250440"/>
            <a:chExt cx="5152320" cy="5152680"/>
          </a:xfrm>
        </p:grpSpPr>
        <p:sp>
          <p:nvSpPr>
            <p:cNvPr id="393" name=""/>
            <p:cNvSpPr/>
            <p:nvPr/>
          </p:nvSpPr>
          <p:spPr>
            <a:xfrm rot="13500000">
              <a:off x="3009600" y="3976560"/>
              <a:ext cx="35863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21600" y="5303880"/>
              <a:ext cx="427644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 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ержавний бюджет – 532,0 тис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294280" y="-565920"/>
            <a:ext cx="5151240" cy="5151240"/>
            <a:chOff x="2294280" y="-565920"/>
            <a:chExt cx="5151240" cy="5151240"/>
          </a:xfrm>
        </p:grpSpPr>
        <p:sp>
          <p:nvSpPr>
            <p:cNvPr id="396" name=""/>
            <p:cNvSpPr/>
            <p:nvPr/>
          </p:nvSpPr>
          <p:spPr>
            <a:xfrm rot="2700000">
              <a:off x="3077280" y="159480"/>
              <a:ext cx="3584520" cy="37004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8400" y="1261440"/>
              <a:ext cx="3802680" cy="16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Обласний бюджет – 4,9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Інвестиції – 1,9 млн. грн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Фонд Віктора Пінчук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ВООЗ, </a:t>
              </a:r>
              <a:r>
                <a:rPr b="0" lang="en-US" sz="1700" spc="-1" strike="noStrike">
                  <a:solidFill>
                    <a:srgbClr val="003300"/>
                  </a:solidFill>
                  <a:latin typeface="Bookman Old Style"/>
                </a:rPr>
                <a:t>UNICEF, USADI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uk-UA" sz="1700" spc="-1" strike="noStrike">
                  <a:solidFill>
                    <a:srgbClr val="003300"/>
                  </a:solidFill>
                  <a:latin typeface="Bookman Old Style"/>
                </a:rPr>
                <a:t>Швейцарський проек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637080" y="3168720"/>
            <a:ext cx="2376360" cy="151128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ержавни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15,7 млн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844640" y="433440"/>
            <a:ext cx="6046920" cy="1366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ідвищення якості та доступ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едич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провадження протоколів і стандартів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ої допомоги на усіх рівн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46000" y="419112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Застосування нових прогресивних технологій п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і допомоги жінкам і ді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46000" y="52992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Покращення матеріально-технічного осна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инатальних центрів, придбання медич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бладнання відповідно до міжнародн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17560" y="6307200"/>
            <a:ext cx="66960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роботи виїзних лікарсько-консультатив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бриг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781280" y="431640"/>
            <a:ext cx="619272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Вирішення кадрового забезпеч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лужби надання допомоги ді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 матерям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Раціональне використання наявних кадрових ресурсів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ерерозподіл функціональних об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зків “лікар-ме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сестра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46000" y="4500720"/>
            <a:ext cx="6696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Безперервність навчання медичного персоналу акушерськ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гінекологічної служби (цикли перепідготовки, підвищ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кваліфікації, навчання на “робочому місці”, виїзні семінар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46000" y="544356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Збільшення державного замов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Підвищення мотивації до якісної роботи, у т.ч. поліпш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умов праці, забезпечення гідним житлом тощ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4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851120" y="431640"/>
            <a:ext cx="6048360" cy="1511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Мотивація населення до здор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способу жит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46000" y="322272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Активне проведення роз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снювальної санітар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просвітницької роботи з популяризації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 з широким використанням ресурсів ЗМІ, у т.ч. сайт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46000" y="437364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Проведення проф. оглядів і своєчасне виявлення захворю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вань у школярів, студентів, працюючих; організ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оздоровлення вагітних і підліт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46000" y="532440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Розроблення системи стимулів до ведення здорового спос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житт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17560" y="6192720"/>
            <a:ext cx="669600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Організація та проведення тематичних циклів з пи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здорового способу життя та збереження здоров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я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вчальних заклад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77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770" fill="hold"/>
                                        <p:tgtEl>
                                          <p:spTgt spid="4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0"/>
                            </p:stCondLst>
                            <p:childTnLst>
                              <p:par>
                                <p:cTn id="5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6000"/>
                            </p:stCondLst>
                            <p:childTnLst>
                              <p:par>
                                <p:cTn id="5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3"/>
          <p:cNvSpPr/>
          <p:nvPr/>
        </p:nvSpPr>
        <p:spPr>
          <a:xfrm>
            <a:off x="684360" y="1152360"/>
            <a:ext cx="8267400" cy="1727280"/>
          </a:xfrm>
          <a:prstGeom prst="downArrowCallout">
            <a:avLst>
              <a:gd name="adj1" fmla="val -104140"/>
              <a:gd name="adj2" fmla="val 119659"/>
              <a:gd name="adj3" fmla="val 16667"/>
              <a:gd name="adj4" fmla="val 66667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Обласний регіональний перинатальний цент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  </a:t>
            </a: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7 регіональних перинатальних центрі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Bookman Old Style"/>
                <a:ea typeface="Arial"/>
              </a:rPr>
              <a:t>2011-2013 рок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4"/>
          <p:cNvSpPr/>
          <p:nvPr/>
        </p:nvSpPr>
        <p:spPr>
          <a:xfrm>
            <a:off x="279360" y="3197160"/>
            <a:ext cx="1606680" cy="830160"/>
          </a:xfrm>
          <a:prstGeom prst="rightArrowCallout">
            <a:avLst>
              <a:gd name="adj1" fmla="val 25002"/>
              <a:gd name="adj2" fmla="val 25000"/>
              <a:gd name="adj3" fmla="val 29237"/>
              <a:gd name="adj4" fmla="val 6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5"/>
          <p:cNvSpPr/>
          <p:nvPr/>
        </p:nvSpPr>
        <p:spPr>
          <a:xfrm>
            <a:off x="295200" y="4530600"/>
            <a:ext cx="1657440" cy="831960"/>
          </a:xfrm>
          <a:prstGeom prst="rightArrowCallout">
            <a:avLst>
              <a:gd name="adj1" fmla="val 25002"/>
              <a:gd name="adj2" fmla="val 25000"/>
              <a:gd name="adj3" fmla="val 3019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"/>
          <p:cNvSpPr/>
          <p:nvPr/>
        </p:nvSpPr>
        <p:spPr>
          <a:xfrm>
            <a:off x="392040" y="5905440"/>
            <a:ext cx="1589040" cy="858960"/>
          </a:xfrm>
          <a:prstGeom prst="rightArrowCallout">
            <a:avLst>
              <a:gd name="adj1" fmla="val 25002"/>
              <a:gd name="adj2" fmla="val 25000"/>
              <a:gd name="adj3" fmla="val 27167"/>
              <a:gd name="adj4" fmla="val 6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ІІІ ета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2179800" y="3286080"/>
            <a:ext cx="973080" cy="604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8"/>
          <p:cNvSpPr/>
          <p:nvPr/>
        </p:nvSpPr>
        <p:spPr>
          <a:xfrm>
            <a:off x="2236680" y="4626000"/>
            <a:ext cx="973080" cy="60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2219400" y="6058080"/>
            <a:ext cx="995400" cy="52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20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3492360" y="3200400"/>
            <a:ext cx="6048360" cy="7570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обласного перинатального центру ІІІ рівня на базі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Донецького регіонального центру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охорони материнства та дитинств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3492360" y="5737320"/>
            <a:ext cx="5991480" cy="11318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Донецьк (ЦМКЛ №№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3,</a:t>
            </a:r>
            <a:r>
              <a:rPr b="1" lang="uk-UA" sz="1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6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Горлівка (ТМО “Сім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 і здоров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’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я”)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Краматорськ (ЦМЛ №2), м. Красноармійськ (ЦРЛ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3492360" y="4530600"/>
            <a:ext cx="6048360" cy="757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Створення регіональних перинатальних центрів ІІ рівн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в м. Макіївка (ЦМЛ № 3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м. Маріуполь (пологовий  будинок №</a:t>
            </a:r>
            <a:r>
              <a:rPr b="1" lang="en-US" sz="15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500" spc="-1" strike="noStrike">
                <a:solidFill>
                  <a:srgbClr val="000000"/>
                </a:solidFill>
                <a:latin typeface="Garamond"/>
                <a:ea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5640" y="144360"/>
            <a:ext cx="87505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Етапи реалізації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лан-графік створення ОПЦ на  2011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252360" y="776160"/>
          <a:ext cx="9288360" cy="6318360"/>
        </p:xfrm>
        <a:graphic>
          <a:graphicData uri="http://schemas.openxmlformats.org/drawingml/2006/table">
            <a:tbl>
              <a:tblPr/>
              <a:tblGrid>
                <a:gridCol w="436680"/>
                <a:gridCol w="4819680"/>
                <a:gridCol w="360360"/>
                <a:gridCol w="360360"/>
                <a:gridCol w="360360"/>
                <a:gridCol w="287280"/>
                <a:gridCol w="360360"/>
                <a:gridCol w="360360"/>
                <a:gridCol w="287280"/>
                <a:gridCol w="289080"/>
                <a:gridCol w="287280"/>
                <a:gridCol w="360360"/>
                <a:gridCol w="360360"/>
                <a:gridCol w="358560"/>
              </a:tblGrid>
              <a:tr h="474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хо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7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внутрішнього аудиту закладів, що надають медичну допомогу дітям і матеря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зовнішнього аудиту комісією МОЗ Україн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інка технічного стану ДРЦОМД експертами Національного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262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складу робочої групи з підготовки та реалізації Національного проекту «Нове житт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вердження заходів щодо реалізації Проекту розпорядженням голови облдержадміністр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проектно-кошторисної документації щодо ремонтно-реконструктивних робіт у ДРЦОМ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дерні процедури з реалізації Проект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аудиту акушерських закладів, на базі яких планується створення регіональних перинатальних центрів ІІ рів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зробка штатного розкладу перинатального центру та погодження з МОЗ Украї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монтно-реконструктивні роботи згідно з розробленою проектно-кошторисною документацією технічними консуль-тантами Проекту, приведення технічного стану ДРЦОМД у відповідність до вимог ВОО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я навчальних тренінгів із співробітниками ДРЦОМД фахівцями ДонНМУ, представниками ВООЗ, ЮНІСЕФ та ін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світлення теми реорганізації перинатальної допомоги в засобах масової інформ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4086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оснащення ДРЦОМД необхідним обладнанням, встановлення та введення в експлуатаці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ідкриття Обласного перинатального центр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cc"/>
                    </a:solidFill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139680"/>
            <a:ext cx="9036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роблемні питання в системі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медичної допомоги жінкам і діт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7760" y="863640"/>
          <a:ext cx="4241880" cy="292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760" y="863640"/>
                    <a:ext cx="4241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90360" y="4235400"/>
          <a:ext cx="4146840" cy="29037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0360" y="4235400"/>
                    <a:ext cx="4146840" cy="29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559480" y="900000"/>
          <a:ext cx="4178160" cy="2917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59480" y="900000"/>
                    <a:ext cx="41781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56240" y="4281480"/>
          <a:ext cx="4098960" cy="2844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556240" y="4281480"/>
                    <a:ext cx="409896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276720" y="2952720"/>
            <a:ext cx="3168360" cy="223056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</a:t>
            </a:r>
            <a:r>
              <a:rPr b="1" lang="uk-UA" sz="1400" spc="-1" strike="noStrike" u="sng">
                <a:solidFill>
                  <a:srgbClr val="ff33cc"/>
                </a:solidFill>
                <a:uFillTx/>
                <a:latin typeface="Bookman Old Style"/>
              </a:rPr>
              <a:t>Демографічна ситуаці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езадовільний стан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жінок і діт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изький індекс репродуктив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ного   здоров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’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я населення;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зниження народжуванос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депопуляція населення</a:t>
            </a:r>
            <a:r>
              <a:rPr b="0" lang="uk-UA" sz="1400" spc="-1" strike="noStrike">
                <a:solidFill>
                  <a:srgbClr val="333399"/>
                </a:solidFill>
                <a:latin typeface="Bookman Old Style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02840" y="360000"/>
            <a:ext cx="8915400" cy="1058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РЕГИОНАЛЬНЫЙ ПЕРИНАТАЛЬНЫЙ ЦЕНТР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Garamond"/>
              </a:rPr>
              <a:t>(ДРЦОМД)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90640" y="2000160"/>
            <a:ext cx="4178160" cy="4400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7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252360" y="1655640"/>
          <a:ext cx="9217080" cy="5418360"/>
        </p:xfrm>
        <a:graphic>
          <a:graphicData uri="http://schemas.openxmlformats.org/drawingml/2006/table">
            <a:tbl>
              <a:tblPr/>
              <a:tblGrid>
                <a:gridCol w="2305080"/>
                <a:gridCol w="2303640"/>
                <a:gridCol w="2360520"/>
                <a:gridCol w="2247840"/>
              </a:tblGrid>
              <a:tr h="697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МБУЛАТОР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ТАЦІОНА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ЛУЖБ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6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СПЕЦІАЛІЗОВАНА СЛУЖ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8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ДОПОМІЖНА СЛУЖБ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2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пренатальної діагностики та медицини пл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кушерський</a:t>
                      </a: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0 + 5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ікувально-координаційний відді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Лаборатор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а полікліні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анестезіології та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сультативно-транспортна акушерсько-гінекологічна та неонатологічна бриг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Центральне стерилізацій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8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діагностики та лікування безплідного шлюб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новонародже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реанімації новонароджени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гравітаційної хірургії кров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800080"/>
                          </a:solidFill>
                          <a:latin typeface="Arial"/>
                        </a:rPr>
                        <a:t>Адміністративно-господарська служ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зовий цент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інекологічний бл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0 лі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ммологічне відділ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ідділення “Молодіжна клініка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пароскопічна хіру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433680" y="1562040"/>
            <a:ext cx="30243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78800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24000" y="3921120"/>
            <a:ext cx="4463640" cy="985320"/>
            <a:chOff x="324000" y="3921120"/>
            <a:chExt cx="4463640" cy="985320"/>
          </a:xfrm>
        </p:grpSpPr>
        <p:sp>
          <p:nvSpPr>
            <p:cNvPr id="442" name=""/>
            <p:cNvSpPr/>
            <p:nvPr/>
          </p:nvSpPr>
          <p:spPr>
            <a:xfrm>
              <a:off x="324000" y="39211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140000" y="43779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66840" y="5370480"/>
            <a:ext cx="3814560" cy="92700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ідвищення якості та доступ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ності медич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4168800" y="5821200"/>
            <a:ext cx="61920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76640" y="2160720"/>
            <a:ext cx="0" cy="36716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91080" y="5283360"/>
            <a:ext cx="3818160" cy="10094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Мотивація населення до здор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ого способу житт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976640" y="58212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51480" y="3129120"/>
            <a:ext cx="3817800" cy="117792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Вирішення кадрового забезп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чення служби надання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дітям і матерям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71960" y="3672000"/>
            <a:ext cx="50328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5280" y="2706840"/>
            <a:ext cx="3745080" cy="9842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ОЦ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Реорганізація системи над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Garamond"/>
              </a:rPr>
              <a:t>перинаталь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140000" y="3174840"/>
            <a:ext cx="647640" cy="0"/>
          </a:xfrm>
          <a:prstGeom prst="line">
            <a:avLst/>
          </a:prstGeom>
          <a:ln w="19080">
            <a:solidFill>
              <a:srgbClr val="0066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148360" y="2465280"/>
            <a:ext cx="4459320" cy="240372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Підготовка відповідних фахівці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Застосування дистанційних фор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вчанн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3. Цикли підвищення кваліфікації на баз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обласного перинатального центру 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виїзн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4. Підготовка фахівців на робочому місц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5. Перепідготовка фахівців шляхо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еціалізації.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148360" y="5256360"/>
            <a:ext cx="4438440" cy="105084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озробка системи стимулів до здоровог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пособу життя (“стимул +”, “стимул –”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35480" y="1565280"/>
            <a:ext cx="3024000" cy="584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Завдання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5760" y="428760"/>
            <a:ext cx="9325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уковий супровід реформи</a:t>
            </a:r>
            <a:br>
              <a:rPr sz="2800"/>
            </a:br>
            <a:r>
              <a:rPr b="1" lang="uk-UA" sz="2800" spc="-1" strike="noStrike">
                <a:solidFill>
                  <a:srgbClr val="9900cc"/>
                </a:solidFill>
                <a:latin typeface="Garamond"/>
              </a:rPr>
              <a:t>надання перинатальної допом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23840" y="2232000"/>
            <a:ext cx="4449600" cy="220356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укове обґрунтування реорганізаці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перинатальної допомог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шляхом створення мережі перинаталь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их центрів з урахуванням матеріально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хнічних та кадрових ресурс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кваліфікації персоналу, потоків пацієнтів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території обслуговування та закритт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малопотужних пологових стаціонарів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280" y="4883040"/>
            <a:ext cx="4448160" cy="1828800"/>
          </a:xfrm>
          <a:prstGeom prst="rect">
            <a:avLst/>
          </a:prstGeom>
          <a:solidFill>
            <a:srgbClr val="66ff66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творення науково-обґрунтова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управління перинатально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допомоги в області з урахуванням рівні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надання медичної допомоги. Розроб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системи моніторингу та оцін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результатів впровадження Проек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Garamond"/>
              </a:rPr>
              <a:t>«Нове життя»</a:t>
            </a:r>
            <a:r>
              <a:rPr b="0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6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7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ffcc"/>
                                      </p:to>
                                    </p:animClr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5560" y="122400"/>
            <a:ext cx="89154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Очікувані результати</a:t>
            </a:r>
            <a:br>
              <a:rPr sz="2800"/>
            </a:b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впровадження  Проек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49440" y="1422360"/>
            <a:ext cx="214308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демограф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017960" y="1422360"/>
            <a:ext cx="2143080" cy="9590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економіч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57880" y="1395360"/>
            <a:ext cx="2143440" cy="960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Garamond"/>
                <a:ea typeface="Arial"/>
              </a:rPr>
              <a:t>соці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3273480"/>
            <a:ext cx="3103560" cy="3770280"/>
          </a:xfrm>
          <a:custGeom>
            <a:avLst/>
            <a:gdLst>
              <a:gd name="textAreaLeft" fmla="*/ 151200 w 3103560"/>
              <a:gd name="textAreaRight" fmla="*/ 2952360 w 3103560"/>
              <a:gd name="textAreaTop" fmla="*/ 151200 h 3770280"/>
              <a:gd name="textAreaBottom" fmla="*/ 3619080 h 3770280"/>
            </a:gdLst>
            <a:ahLst/>
            <a:rect l="textAreaLeft" t="textAreaTop" r="textAreaRight" b="textAreaBottom"/>
            <a:pathLst>
              <a:path w="21600" h="26240">
                <a:moveTo>
                  <a:pt x="3600" y="0"/>
                </a:moveTo>
                <a:arcTo wR="3600" hR="3600" stAng="16200000" swAng="-5400000"/>
                <a:lnTo>
                  <a:pt x="0" y="22640"/>
                </a:lnTo>
                <a:arcTo wR="3600" hR="3600" stAng="10800000" swAng="-5400000"/>
                <a:lnTo>
                  <a:pt x="18000" y="26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- зниження</a:t>
            </a:r>
            <a:r>
              <a:rPr b="0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рівня малюкової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мертності на 2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инської смертност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 10%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дитяч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інвалід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анньо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еонатальної смертності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ниження рівн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еринатальної смерт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 8 на 1000  новонарод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430440" y="3273480"/>
            <a:ext cx="3264120" cy="3699000"/>
          </a:xfrm>
          <a:custGeom>
            <a:avLst/>
            <a:gdLst>
              <a:gd name="textAreaLeft" fmla="*/ 159120 w 3264120"/>
              <a:gd name="textAreaRight" fmla="*/ 3105000 w 3264120"/>
              <a:gd name="textAreaTop" fmla="*/ 159120 h 3699000"/>
              <a:gd name="textAreaBottom" fmla="*/ 3539880 h 3699000"/>
            </a:gdLst>
            <a:ahLst/>
            <a:rect l="textAreaLeft" t="textAreaTop" r="textAreaRight" b="textAreaBottom"/>
            <a:pathLst>
              <a:path w="21600" h="24477">
                <a:moveTo>
                  <a:pt x="3600" y="0"/>
                </a:moveTo>
                <a:arcTo wR="3600" hR="3600" stAng="16200000" swAng="-5400000"/>
                <a:lnTo>
                  <a:pt x="0" y="20877"/>
                </a:lnTo>
                <a:arcTo wR="3600" hR="3600" stAng="10800000" swAng="-5400000"/>
                <a:lnTo>
                  <a:pt x="18000" y="24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збільшення чисе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ездатного населенн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вільнення місцевих 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ержавних коштів, щ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икористовувалися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утримання малопотужн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ідділен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умов 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матеріально-техніч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стану закладів, що надаю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опомогу матерям та ді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оптимізація терміну перебу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вання на стаціонарно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ліжку породіль і нов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родж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59440" y="3298680"/>
            <a:ext cx="2660760" cy="3673800"/>
          </a:xfrm>
          <a:custGeom>
            <a:avLst/>
            <a:gdLst>
              <a:gd name="textAreaLeft" fmla="*/ 129600 w 2660760"/>
              <a:gd name="textAreaRight" fmla="*/ 2531160 w 2660760"/>
              <a:gd name="textAreaTop" fmla="*/ 129600 h 3673800"/>
              <a:gd name="textAreaBottom" fmla="*/ 3544200 h 3673800"/>
            </a:gdLst>
            <a:ahLst/>
            <a:rect l="textAreaLeft" t="textAreaTop" r="textAreaRight" b="textAreaBottom"/>
            <a:pathLst>
              <a:path w="21600" h="29823">
                <a:moveTo>
                  <a:pt x="3600" y="0"/>
                </a:moveTo>
                <a:arcTo wR="3600" hR="3600" stAng="16200000" swAng="-5400000"/>
                <a:lnTo>
                  <a:pt x="0" y="26223"/>
                </a:lnTo>
                <a:arcTo wR="3600" hR="3600" stAng="10800000" swAng="-5400000"/>
                <a:lnTo>
                  <a:pt x="18000" y="29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як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та доступності пери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тальної допомог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ідвищення престиж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ості праці медич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раців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-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покращення репр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дуктивного здоров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  <a:ea typeface="Arial"/>
              </a:rPr>
              <a:t>‘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  <a:ea typeface="Arial"/>
              </a:rPr>
              <a:t>насел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822920" y="2316240"/>
            <a:ext cx="515880" cy="530280"/>
          </a:xfrm>
          <a:prstGeom prst="downArrow">
            <a:avLst>
              <a:gd name="adj1" fmla="val 50000"/>
              <a:gd name="adj2" fmla="val 256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65200" y="2343240"/>
            <a:ext cx="515880" cy="571320"/>
          </a:xfrm>
          <a:prstGeom prst="downArrow">
            <a:avLst>
              <a:gd name="adj1" fmla="val 50000"/>
              <a:gd name="adj2" fmla="val 276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988400" y="2316240"/>
            <a:ext cx="515880" cy="547560"/>
          </a:xfrm>
          <a:prstGeom prst="downArrow">
            <a:avLst>
              <a:gd name="adj1" fmla="val 50000"/>
              <a:gd name="adj2" fmla="val 2653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85280" y="71280"/>
            <a:ext cx="8750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Прогноз індикаторів впровадження Проек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3016080" y="2592360"/>
          <a:ext cx="6705720" cy="146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16080" y="2592360"/>
                    <a:ext cx="67057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3046320" y="917640"/>
          <a:ext cx="6677280" cy="1606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6320" y="917640"/>
                    <a:ext cx="6677280" cy="16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3233880" y="5665680"/>
          <a:ext cx="6487920" cy="14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33880" y="5665680"/>
                    <a:ext cx="648792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3251160" y="4106880"/>
          <a:ext cx="6488280" cy="159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51160" y="4106880"/>
                    <a:ext cx="648828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"/>
          <p:cNvSpPr/>
          <p:nvPr/>
        </p:nvSpPr>
        <p:spPr>
          <a:xfrm>
            <a:off x="614880" y="1622520"/>
            <a:ext cx="2855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люков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4840" y="3092400"/>
            <a:ext cx="319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материнська смертні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0120" y="4573440"/>
            <a:ext cx="321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хвороби репродуктивно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системи підлітк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19920" y="6186600"/>
            <a:ext cx="2405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інвалідність ді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26160" y="4565520"/>
            <a:ext cx="3251160" cy="457200"/>
          </a:xfrm>
          <a:custGeom>
            <a:avLst/>
            <a:gdLst/>
            <a:ahLst/>
            <a:rect l="l" t="t" r="r" b="b"/>
            <a:pathLst>
              <a:path w="2048" h="288">
                <a:moveTo>
                  <a:pt x="0" y="0"/>
                </a:moveTo>
                <a:cubicBezTo>
                  <a:pt x="112" y="19"/>
                  <a:pt x="446" y="85"/>
                  <a:pt x="672" y="116"/>
                </a:cubicBezTo>
                <a:cubicBezTo>
                  <a:pt x="898" y="147"/>
                  <a:pt x="1127" y="159"/>
                  <a:pt x="1356" y="188"/>
                </a:cubicBezTo>
                <a:cubicBezTo>
                  <a:pt x="1585" y="217"/>
                  <a:pt x="1904" y="267"/>
                  <a:pt x="2048" y="2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449920" y="47768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0,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33840" y="1212840"/>
            <a:ext cx="3629160" cy="625320"/>
          </a:xfrm>
          <a:custGeom>
            <a:avLst/>
            <a:gdLst/>
            <a:ahLst/>
            <a:rect l="l" t="t" r="r" b="b"/>
            <a:pathLst>
              <a:path w="2286" h="394">
                <a:moveTo>
                  <a:pt x="0" y="16"/>
                </a:moveTo>
                <a:cubicBezTo>
                  <a:pt x="99" y="17"/>
                  <a:pt x="400" y="0"/>
                  <a:pt x="588" y="22"/>
                </a:cubicBezTo>
                <a:cubicBezTo>
                  <a:pt x="776" y="44"/>
                  <a:pt x="940" y="107"/>
                  <a:pt x="1128" y="148"/>
                </a:cubicBezTo>
                <a:cubicBezTo>
                  <a:pt x="1316" y="189"/>
                  <a:pt x="1523" y="227"/>
                  <a:pt x="1716" y="268"/>
                </a:cubicBezTo>
                <a:cubicBezTo>
                  <a:pt x="1909" y="309"/>
                  <a:pt x="2167" y="368"/>
                  <a:pt x="2286" y="39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614840" y="2932200"/>
            <a:ext cx="3414600" cy="215640"/>
          </a:xfrm>
          <a:custGeom>
            <a:avLst/>
            <a:gdLst/>
            <a:ahLst/>
            <a:rect l="l" t="t" r="r" b="b"/>
            <a:pathLst>
              <a:path w="2151" h="136">
                <a:moveTo>
                  <a:pt x="0" y="1"/>
                </a:moveTo>
                <a:cubicBezTo>
                  <a:pt x="88" y="4"/>
                  <a:pt x="355" y="0"/>
                  <a:pt x="531" y="18"/>
                </a:cubicBezTo>
                <a:cubicBezTo>
                  <a:pt x="707" y="36"/>
                  <a:pt x="878" y="91"/>
                  <a:pt x="1059" y="109"/>
                </a:cubicBezTo>
                <a:cubicBezTo>
                  <a:pt x="1240" y="127"/>
                  <a:pt x="1435" y="119"/>
                  <a:pt x="1617" y="124"/>
                </a:cubicBezTo>
                <a:cubicBezTo>
                  <a:pt x="1799" y="129"/>
                  <a:pt x="2040" y="134"/>
                  <a:pt x="2151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846680" y="6067440"/>
            <a:ext cx="3111480" cy="504720"/>
          </a:xfrm>
          <a:custGeom>
            <a:avLst/>
            <a:gdLst/>
            <a:ahLst/>
            <a:rect l="l" t="t" r="r" b="b"/>
            <a:pathLst>
              <a:path w="1959" h="318">
                <a:moveTo>
                  <a:pt x="0" y="0"/>
                </a:moveTo>
                <a:cubicBezTo>
                  <a:pt x="105" y="13"/>
                  <a:pt x="418" y="39"/>
                  <a:pt x="633" y="78"/>
                </a:cubicBezTo>
                <a:cubicBezTo>
                  <a:pt x="848" y="117"/>
                  <a:pt x="1072" y="197"/>
                  <a:pt x="1293" y="237"/>
                </a:cubicBezTo>
                <a:cubicBezTo>
                  <a:pt x="1514" y="277"/>
                  <a:pt x="1820" y="301"/>
                  <a:pt x="1959" y="31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492760" y="162252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1,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359920" y="3164040"/>
            <a:ext cx="8265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26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32200" y="6294600"/>
            <a:ext cx="713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Garamond"/>
              </a:rPr>
              <a:t>-0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9336240" y="6788160"/>
            <a:ext cx="43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4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679840" y="2239560"/>
            <a:ext cx="6008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cc0099"/>
                </a:solidFill>
                <a:latin typeface="Century Schoolbook"/>
              </a:rPr>
              <a:t>Дякую за увагу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08000" y="2160"/>
            <a:ext cx="9397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ff33cc"/>
                </a:solidFill>
                <a:latin typeface="Georgia"/>
              </a:rPr>
              <a:t>Мета Проекту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ниження рівня материнської та малюкової смерт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cc33"/>
                </a:solidFill>
                <a:latin typeface="Georgia"/>
              </a:rPr>
              <a:t>Механізм:</a:t>
            </a:r>
            <a:r>
              <a:rPr b="0" lang="uk-UA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Georgia"/>
              </a:rPr>
              <a:t>забезпечення населення доступною висококваліфікованою допомогою шляхом концентрації матеріально-технічних і кадрових ресурсів у мережі перинатальних цент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19560" y="2305080"/>
            <a:ext cx="3022560" cy="5842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66"/>
                </a:solidFill>
                <a:latin typeface="Georgia"/>
              </a:rPr>
              <a:t>Операційні цілі</a:t>
            </a:r>
            <a:r>
              <a:rPr b="1" i="1" lang="ru-RU" sz="2400" spc="-1" strike="noStrike">
                <a:solidFill>
                  <a:srgbClr val="ff0066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5080" y="2898720"/>
            <a:ext cx="0" cy="341784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81080" y="4392720"/>
            <a:ext cx="4463640" cy="985320"/>
            <a:chOff x="181080" y="4392720"/>
            <a:chExt cx="4463640" cy="985320"/>
          </a:xfrm>
        </p:grpSpPr>
        <p:sp>
          <p:nvSpPr>
            <p:cNvPr id="162" name=""/>
            <p:cNvSpPr/>
            <p:nvPr/>
          </p:nvSpPr>
          <p:spPr>
            <a:xfrm>
              <a:off x="181080" y="4392720"/>
              <a:ext cx="3816360" cy="98532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Зміна механізмів фінансув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997080" y="484956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23920" y="5842080"/>
            <a:ext cx="4421160" cy="927000"/>
            <a:chOff x="223920" y="5842080"/>
            <a:chExt cx="4421160" cy="927000"/>
          </a:xfrm>
        </p:grpSpPr>
        <p:sp>
          <p:nvSpPr>
            <p:cNvPr id="165" name=""/>
            <p:cNvSpPr/>
            <p:nvPr/>
          </p:nvSpPr>
          <p:spPr>
            <a:xfrm>
              <a:off x="223920" y="5842080"/>
              <a:ext cx="3814560" cy="927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ідвищення якості та доступ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ності медич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025880" y="6307200"/>
              <a:ext cx="6192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076720" y="2889360"/>
            <a:ext cx="0" cy="288108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076720" y="5256360"/>
            <a:ext cx="4321440" cy="1008000"/>
            <a:chOff x="5076720" y="5256360"/>
            <a:chExt cx="4321440" cy="1008000"/>
          </a:xfrm>
        </p:grpSpPr>
        <p:sp>
          <p:nvSpPr>
            <p:cNvPr id="169" name=""/>
            <p:cNvSpPr/>
            <p:nvPr/>
          </p:nvSpPr>
          <p:spPr>
            <a:xfrm>
              <a:off x="5581800" y="5256360"/>
              <a:ext cx="3816360" cy="100800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Мотивація населення до здоро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ого способу житт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76720" y="576432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076720" y="3600360"/>
            <a:ext cx="4321440" cy="1177560"/>
            <a:chOff x="5076720" y="3600360"/>
            <a:chExt cx="4321440" cy="1177560"/>
          </a:xfrm>
        </p:grpSpPr>
        <p:sp>
          <p:nvSpPr>
            <p:cNvPr id="172" name=""/>
            <p:cNvSpPr/>
            <p:nvPr/>
          </p:nvSpPr>
          <p:spPr>
            <a:xfrm>
              <a:off x="5580000" y="3600360"/>
              <a:ext cx="3818160" cy="117756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Вирішення кадрового забезпе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чення служби надання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дітям і матерям</a:t>
              </a:r>
              <a:r>
                <a:rPr b="1" lang="ru-RU" sz="20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76720" y="4143600"/>
              <a:ext cx="50328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52360" y="3178080"/>
            <a:ext cx="4392360" cy="984240"/>
            <a:chOff x="252360" y="3178080"/>
            <a:chExt cx="4392360" cy="984240"/>
          </a:xfrm>
        </p:grpSpPr>
        <p:sp>
          <p:nvSpPr>
            <p:cNvPr id="175" name=""/>
            <p:cNvSpPr/>
            <p:nvPr/>
          </p:nvSpPr>
          <p:spPr>
            <a:xfrm>
              <a:off x="252360" y="3178080"/>
              <a:ext cx="3745080" cy="9842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66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ОЦ №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Реорганізація системи нада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Garamond"/>
                </a:rPr>
                <a:t>перинатальної допомог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997080" y="3646440"/>
              <a:ext cx="6476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8000" y="433440"/>
            <a:ext cx="5905800" cy="1295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ОЦ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Реорганізація системи нада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перинатальної допом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46000" y="3311640"/>
            <a:ext cx="66963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1. Аудит (зовнішній, внутрішній).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46000" y="4140360"/>
            <a:ext cx="669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2. Розмежування за рівням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надання медичної допом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6000" y="5156280"/>
            <a:ext cx="6696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3. Створення дійової вертикалі управлі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46000" y="5950080"/>
            <a:ext cx="66963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Garamond"/>
              </a:rPr>
              <a:t>4. Закриття малопотужних пологових відділ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0880" y="2424240"/>
            <a:ext cx="185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66ff"/>
                </a:solidFill>
                <a:latin typeface="Garamond"/>
              </a:rPr>
              <a:t>Завд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ідсумки діяльності неонатальних центрів</a:t>
            </a:r>
            <a:br>
              <a:rPr sz="3200"/>
            </a:b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у містах обла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119320" y="1370160"/>
            <a:ext cx="5595480" cy="5521320"/>
            <a:chOff x="2119320" y="1370160"/>
            <a:chExt cx="5595480" cy="5521320"/>
          </a:xfrm>
        </p:grpSpPr>
        <p:sp>
          <p:nvSpPr>
            <p:cNvPr id="187" name=""/>
            <p:cNvSpPr/>
            <p:nvPr/>
          </p:nvSpPr>
          <p:spPr>
            <a:xfrm>
              <a:off x="5202000" y="1379520"/>
              <a:ext cx="1998360" cy="1729080"/>
            </a:xfrm>
            <a:custGeom>
              <a:avLst/>
              <a:gdLst/>
              <a:ahLst/>
              <a:rect l="l" t="t" r="r" b="b"/>
              <a:pathLst>
                <a:path w="1259" h="1089">
                  <a:moveTo>
                    <a:pt x="0" y="0"/>
                  </a:moveTo>
                  <a:lnTo>
                    <a:pt x="23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100" y="0"/>
                  </a:lnTo>
                  <a:lnTo>
                    <a:pt x="123" y="6"/>
                  </a:lnTo>
                  <a:lnTo>
                    <a:pt x="147" y="6"/>
                  </a:lnTo>
                  <a:lnTo>
                    <a:pt x="171" y="12"/>
                  </a:lnTo>
                  <a:lnTo>
                    <a:pt x="200" y="12"/>
                  </a:lnTo>
                  <a:lnTo>
                    <a:pt x="224" y="18"/>
                  </a:lnTo>
                  <a:lnTo>
                    <a:pt x="247" y="18"/>
                  </a:lnTo>
                  <a:lnTo>
                    <a:pt x="271" y="24"/>
                  </a:lnTo>
                  <a:lnTo>
                    <a:pt x="294" y="30"/>
                  </a:lnTo>
                  <a:lnTo>
                    <a:pt x="318" y="36"/>
                  </a:lnTo>
                  <a:lnTo>
                    <a:pt x="341" y="41"/>
                  </a:lnTo>
                  <a:lnTo>
                    <a:pt x="365" y="47"/>
                  </a:lnTo>
                  <a:lnTo>
                    <a:pt x="388" y="53"/>
                  </a:lnTo>
                  <a:lnTo>
                    <a:pt x="412" y="59"/>
                  </a:lnTo>
                  <a:lnTo>
                    <a:pt x="435" y="65"/>
                  </a:lnTo>
                  <a:lnTo>
                    <a:pt x="459" y="77"/>
                  </a:lnTo>
                  <a:lnTo>
                    <a:pt x="482" y="83"/>
                  </a:lnTo>
                  <a:lnTo>
                    <a:pt x="506" y="94"/>
                  </a:lnTo>
                  <a:lnTo>
                    <a:pt x="530" y="100"/>
                  </a:lnTo>
                  <a:lnTo>
                    <a:pt x="553" y="112"/>
                  </a:lnTo>
                  <a:lnTo>
                    <a:pt x="577" y="124"/>
                  </a:lnTo>
                  <a:lnTo>
                    <a:pt x="594" y="130"/>
                  </a:lnTo>
                  <a:lnTo>
                    <a:pt x="618" y="141"/>
                  </a:lnTo>
                  <a:lnTo>
                    <a:pt x="641" y="153"/>
                  </a:lnTo>
                  <a:lnTo>
                    <a:pt x="665" y="165"/>
                  </a:lnTo>
                  <a:lnTo>
                    <a:pt x="683" y="177"/>
                  </a:lnTo>
                  <a:lnTo>
                    <a:pt x="706" y="189"/>
                  </a:lnTo>
                  <a:lnTo>
                    <a:pt x="730" y="200"/>
                  </a:lnTo>
                  <a:lnTo>
                    <a:pt x="747" y="212"/>
                  </a:lnTo>
                  <a:lnTo>
                    <a:pt x="771" y="224"/>
                  </a:lnTo>
                  <a:lnTo>
                    <a:pt x="788" y="241"/>
                  </a:lnTo>
                  <a:lnTo>
                    <a:pt x="812" y="253"/>
                  </a:lnTo>
                  <a:lnTo>
                    <a:pt x="830" y="271"/>
                  </a:lnTo>
                  <a:lnTo>
                    <a:pt x="847" y="283"/>
                  </a:lnTo>
                  <a:lnTo>
                    <a:pt x="871" y="300"/>
                  </a:lnTo>
                  <a:lnTo>
                    <a:pt x="888" y="312"/>
                  </a:lnTo>
                  <a:lnTo>
                    <a:pt x="906" y="330"/>
                  </a:lnTo>
                  <a:lnTo>
                    <a:pt x="924" y="347"/>
                  </a:lnTo>
                  <a:lnTo>
                    <a:pt x="947" y="359"/>
                  </a:lnTo>
                  <a:lnTo>
                    <a:pt x="965" y="377"/>
                  </a:lnTo>
                  <a:lnTo>
                    <a:pt x="983" y="394"/>
                  </a:lnTo>
                  <a:lnTo>
                    <a:pt x="1000" y="412"/>
                  </a:lnTo>
                  <a:lnTo>
                    <a:pt x="1018" y="430"/>
                  </a:lnTo>
                  <a:lnTo>
                    <a:pt x="1030" y="447"/>
                  </a:lnTo>
                  <a:lnTo>
                    <a:pt x="1047" y="465"/>
                  </a:lnTo>
                  <a:lnTo>
                    <a:pt x="1065" y="483"/>
                  </a:lnTo>
                  <a:lnTo>
                    <a:pt x="1083" y="500"/>
                  </a:lnTo>
                  <a:lnTo>
                    <a:pt x="1094" y="524"/>
                  </a:lnTo>
                  <a:lnTo>
                    <a:pt x="1112" y="542"/>
                  </a:lnTo>
                  <a:lnTo>
                    <a:pt x="1130" y="559"/>
                  </a:lnTo>
                  <a:lnTo>
                    <a:pt x="1141" y="583"/>
                  </a:lnTo>
                  <a:lnTo>
                    <a:pt x="1153" y="600"/>
                  </a:lnTo>
                  <a:lnTo>
                    <a:pt x="1171" y="624"/>
                  </a:lnTo>
                  <a:lnTo>
                    <a:pt x="1183" y="642"/>
                  </a:lnTo>
                  <a:lnTo>
                    <a:pt x="1194" y="665"/>
                  </a:lnTo>
                  <a:lnTo>
                    <a:pt x="1212" y="683"/>
                  </a:lnTo>
                  <a:lnTo>
                    <a:pt x="1224" y="706"/>
                  </a:lnTo>
                  <a:lnTo>
                    <a:pt x="1236" y="724"/>
                  </a:lnTo>
                  <a:lnTo>
                    <a:pt x="1247" y="748"/>
                  </a:lnTo>
                  <a:lnTo>
                    <a:pt x="1259" y="771"/>
                  </a:lnTo>
                  <a:lnTo>
                    <a:pt x="630" y="1089"/>
                  </a:lnTo>
                  <a:lnTo>
                    <a:pt x="624" y="1077"/>
                  </a:lnTo>
                  <a:lnTo>
                    <a:pt x="618" y="1071"/>
                  </a:lnTo>
                  <a:lnTo>
                    <a:pt x="612" y="1059"/>
                  </a:lnTo>
                  <a:lnTo>
                    <a:pt x="606" y="1048"/>
                  </a:lnTo>
                  <a:lnTo>
                    <a:pt x="600" y="1036"/>
                  </a:lnTo>
                  <a:lnTo>
                    <a:pt x="588" y="1024"/>
                  </a:lnTo>
                  <a:lnTo>
                    <a:pt x="582" y="1018"/>
                  </a:lnTo>
                  <a:lnTo>
                    <a:pt x="577" y="1006"/>
                  </a:lnTo>
                  <a:lnTo>
                    <a:pt x="571" y="995"/>
                  </a:lnTo>
                  <a:lnTo>
                    <a:pt x="565" y="989"/>
                  </a:lnTo>
                  <a:lnTo>
                    <a:pt x="553" y="977"/>
                  </a:lnTo>
                  <a:lnTo>
                    <a:pt x="547" y="965"/>
                  </a:lnTo>
                  <a:lnTo>
                    <a:pt x="541" y="959"/>
                  </a:lnTo>
                  <a:lnTo>
                    <a:pt x="530" y="948"/>
                  </a:lnTo>
                  <a:lnTo>
                    <a:pt x="524" y="936"/>
                  </a:lnTo>
                  <a:lnTo>
                    <a:pt x="518" y="930"/>
                  </a:lnTo>
                  <a:lnTo>
                    <a:pt x="506" y="918"/>
                  </a:lnTo>
                  <a:lnTo>
                    <a:pt x="500" y="912"/>
                  </a:lnTo>
                  <a:lnTo>
                    <a:pt x="488" y="901"/>
                  </a:lnTo>
                  <a:lnTo>
                    <a:pt x="482" y="895"/>
                  </a:lnTo>
                  <a:lnTo>
                    <a:pt x="471" y="889"/>
                  </a:lnTo>
                  <a:lnTo>
                    <a:pt x="465" y="877"/>
                  </a:lnTo>
                  <a:lnTo>
                    <a:pt x="453" y="871"/>
                  </a:lnTo>
                  <a:lnTo>
                    <a:pt x="441" y="859"/>
                  </a:lnTo>
                  <a:lnTo>
                    <a:pt x="435" y="853"/>
                  </a:lnTo>
                  <a:lnTo>
                    <a:pt x="424" y="848"/>
                  </a:lnTo>
                  <a:lnTo>
                    <a:pt x="412" y="842"/>
                  </a:lnTo>
                  <a:lnTo>
                    <a:pt x="406" y="830"/>
                  </a:lnTo>
                  <a:lnTo>
                    <a:pt x="394" y="824"/>
                  </a:lnTo>
                  <a:lnTo>
                    <a:pt x="382" y="818"/>
                  </a:lnTo>
                  <a:lnTo>
                    <a:pt x="377" y="812"/>
                  </a:lnTo>
                  <a:lnTo>
                    <a:pt x="365" y="806"/>
                  </a:lnTo>
                  <a:lnTo>
                    <a:pt x="353" y="801"/>
                  </a:lnTo>
                  <a:lnTo>
                    <a:pt x="341" y="795"/>
                  </a:lnTo>
                  <a:lnTo>
                    <a:pt x="329" y="789"/>
                  </a:lnTo>
                  <a:lnTo>
                    <a:pt x="324" y="783"/>
                  </a:lnTo>
                  <a:lnTo>
                    <a:pt x="312" y="777"/>
                  </a:lnTo>
                  <a:lnTo>
                    <a:pt x="300" y="771"/>
                  </a:lnTo>
                  <a:lnTo>
                    <a:pt x="288" y="765"/>
                  </a:lnTo>
                  <a:lnTo>
                    <a:pt x="276" y="759"/>
                  </a:lnTo>
                  <a:lnTo>
                    <a:pt x="265" y="753"/>
                  </a:lnTo>
                  <a:lnTo>
                    <a:pt x="253" y="753"/>
                  </a:lnTo>
                  <a:lnTo>
                    <a:pt x="241" y="748"/>
                  </a:lnTo>
                  <a:lnTo>
                    <a:pt x="229" y="742"/>
                  </a:lnTo>
                  <a:lnTo>
                    <a:pt x="218" y="742"/>
                  </a:lnTo>
                  <a:lnTo>
                    <a:pt x="206" y="736"/>
                  </a:lnTo>
                  <a:lnTo>
                    <a:pt x="194" y="730"/>
                  </a:lnTo>
                  <a:lnTo>
                    <a:pt x="182" y="730"/>
                  </a:lnTo>
                  <a:lnTo>
                    <a:pt x="171" y="724"/>
                  </a:lnTo>
                  <a:lnTo>
                    <a:pt x="159" y="724"/>
                  </a:lnTo>
                  <a:lnTo>
                    <a:pt x="147" y="718"/>
                  </a:lnTo>
                  <a:lnTo>
                    <a:pt x="135" y="718"/>
                  </a:lnTo>
                  <a:lnTo>
                    <a:pt x="123" y="718"/>
                  </a:lnTo>
                  <a:lnTo>
                    <a:pt x="112" y="712"/>
                  </a:lnTo>
                  <a:lnTo>
                    <a:pt x="100" y="712"/>
                  </a:lnTo>
                  <a:lnTo>
                    <a:pt x="88" y="712"/>
                  </a:lnTo>
                  <a:lnTo>
                    <a:pt x="76" y="706"/>
                  </a:lnTo>
                  <a:lnTo>
                    <a:pt x="65" y="706"/>
                  </a:lnTo>
                  <a:lnTo>
                    <a:pt x="53" y="706"/>
                  </a:lnTo>
                  <a:lnTo>
                    <a:pt x="41" y="706"/>
                  </a:lnTo>
                  <a:lnTo>
                    <a:pt x="23" y="706"/>
                  </a:lnTo>
                  <a:lnTo>
                    <a:pt x="12" y="706"/>
                  </a:lnTo>
                  <a:lnTo>
                    <a:pt x="0" y="7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72080" y="3043440"/>
              <a:ext cx="1242720" cy="1784160"/>
            </a:xfrm>
            <a:custGeom>
              <a:avLst/>
              <a:gdLst/>
              <a:ahLst/>
              <a:rect l="l" t="t" r="r" b="b"/>
              <a:pathLst>
                <a:path w="783" h="1124">
                  <a:moveTo>
                    <a:pt x="630" y="0"/>
                  </a:moveTo>
                  <a:lnTo>
                    <a:pt x="642" y="23"/>
                  </a:lnTo>
                  <a:lnTo>
                    <a:pt x="647" y="41"/>
                  </a:lnTo>
                  <a:lnTo>
                    <a:pt x="659" y="64"/>
                  </a:lnTo>
                  <a:lnTo>
                    <a:pt x="671" y="88"/>
                  </a:lnTo>
                  <a:lnTo>
                    <a:pt x="677" y="111"/>
                  </a:lnTo>
                  <a:lnTo>
                    <a:pt x="689" y="135"/>
                  </a:lnTo>
                  <a:lnTo>
                    <a:pt x="695" y="159"/>
                  </a:lnTo>
                  <a:lnTo>
                    <a:pt x="706" y="182"/>
                  </a:lnTo>
                  <a:lnTo>
                    <a:pt x="712" y="206"/>
                  </a:lnTo>
                  <a:lnTo>
                    <a:pt x="718" y="229"/>
                  </a:lnTo>
                  <a:lnTo>
                    <a:pt x="724" y="253"/>
                  </a:lnTo>
                  <a:lnTo>
                    <a:pt x="736" y="276"/>
                  </a:lnTo>
                  <a:lnTo>
                    <a:pt x="742" y="300"/>
                  </a:lnTo>
                  <a:lnTo>
                    <a:pt x="748" y="323"/>
                  </a:lnTo>
                  <a:lnTo>
                    <a:pt x="753" y="347"/>
                  </a:lnTo>
                  <a:lnTo>
                    <a:pt x="753" y="370"/>
                  </a:lnTo>
                  <a:lnTo>
                    <a:pt x="759" y="394"/>
                  </a:lnTo>
                  <a:lnTo>
                    <a:pt x="765" y="417"/>
                  </a:lnTo>
                  <a:lnTo>
                    <a:pt x="765" y="441"/>
                  </a:lnTo>
                  <a:lnTo>
                    <a:pt x="771" y="470"/>
                  </a:lnTo>
                  <a:lnTo>
                    <a:pt x="771" y="494"/>
                  </a:lnTo>
                  <a:lnTo>
                    <a:pt x="777" y="518"/>
                  </a:lnTo>
                  <a:lnTo>
                    <a:pt x="777" y="541"/>
                  </a:lnTo>
                  <a:lnTo>
                    <a:pt x="777" y="565"/>
                  </a:lnTo>
                  <a:lnTo>
                    <a:pt x="783" y="588"/>
                  </a:lnTo>
                  <a:lnTo>
                    <a:pt x="783" y="618"/>
                  </a:lnTo>
                  <a:lnTo>
                    <a:pt x="783" y="641"/>
                  </a:lnTo>
                  <a:lnTo>
                    <a:pt x="783" y="665"/>
                  </a:lnTo>
                  <a:lnTo>
                    <a:pt x="783" y="688"/>
                  </a:lnTo>
                  <a:lnTo>
                    <a:pt x="777" y="712"/>
                  </a:lnTo>
                  <a:lnTo>
                    <a:pt x="777" y="735"/>
                  </a:lnTo>
                  <a:lnTo>
                    <a:pt x="777" y="765"/>
                  </a:lnTo>
                  <a:lnTo>
                    <a:pt x="771" y="788"/>
                  </a:lnTo>
                  <a:lnTo>
                    <a:pt x="771" y="812"/>
                  </a:lnTo>
                  <a:lnTo>
                    <a:pt x="765" y="835"/>
                  </a:lnTo>
                  <a:lnTo>
                    <a:pt x="765" y="859"/>
                  </a:lnTo>
                  <a:lnTo>
                    <a:pt x="759" y="882"/>
                  </a:lnTo>
                  <a:lnTo>
                    <a:pt x="753" y="912"/>
                  </a:lnTo>
                  <a:lnTo>
                    <a:pt x="753" y="935"/>
                  </a:lnTo>
                  <a:lnTo>
                    <a:pt x="748" y="959"/>
                  </a:lnTo>
                  <a:lnTo>
                    <a:pt x="742" y="982"/>
                  </a:lnTo>
                  <a:lnTo>
                    <a:pt x="736" y="1006"/>
                  </a:lnTo>
                  <a:lnTo>
                    <a:pt x="724" y="1029"/>
                  </a:lnTo>
                  <a:lnTo>
                    <a:pt x="718" y="1053"/>
                  </a:lnTo>
                  <a:lnTo>
                    <a:pt x="712" y="1077"/>
                  </a:lnTo>
                  <a:lnTo>
                    <a:pt x="706" y="1100"/>
                  </a:lnTo>
                  <a:lnTo>
                    <a:pt x="695" y="1124"/>
                  </a:lnTo>
                  <a:lnTo>
                    <a:pt x="36" y="882"/>
                  </a:lnTo>
                  <a:lnTo>
                    <a:pt x="36" y="871"/>
                  </a:lnTo>
                  <a:lnTo>
                    <a:pt x="41" y="859"/>
                  </a:lnTo>
                  <a:lnTo>
                    <a:pt x="47" y="847"/>
                  </a:lnTo>
                  <a:lnTo>
                    <a:pt x="47" y="835"/>
                  </a:lnTo>
                  <a:lnTo>
                    <a:pt x="53" y="824"/>
                  </a:lnTo>
                  <a:lnTo>
                    <a:pt x="53" y="812"/>
                  </a:lnTo>
                  <a:lnTo>
                    <a:pt x="59" y="800"/>
                  </a:lnTo>
                  <a:lnTo>
                    <a:pt x="59" y="788"/>
                  </a:lnTo>
                  <a:lnTo>
                    <a:pt x="65" y="776"/>
                  </a:lnTo>
                  <a:lnTo>
                    <a:pt x="65" y="765"/>
                  </a:lnTo>
                  <a:lnTo>
                    <a:pt x="65" y="753"/>
                  </a:lnTo>
                  <a:lnTo>
                    <a:pt x="71" y="735"/>
                  </a:lnTo>
                  <a:lnTo>
                    <a:pt x="71" y="723"/>
                  </a:lnTo>
                  <a:lnTo>
                    <a:pt x="71" y="712"/>
                  </a:lnTo>
                  <a:lnTo>
                    <a:pt x="71" y="700"/>
                  </a:lnTo>
                  <a:lnTo>
                    <a:pt x="71" y="688"/>
                  </a:lnTo>
                  <a:lnTo>
                    <a:pt x="77" y="676"/>
                  </a:lnTo>
                  <a:lnTo>
                    <a:pt x="77" y="665"/>
                  </a:lnTo>
                  <a:lnTo>
                    <a:pt x="77" y="653"/>
                  </a:lnTo>
                  <a:lnTo>
                    <a:pt x="77" y="641"/>
                  </a:lnTo>
                  <a:lnTo>
                    <a:pt x="77" y="629"/>
                  </a:lnTo>
                  <a:lnTo>
                    <a:pt x="77" y="618"/>
                  </a:lnTo>
                  <a:lnTo>
                    <a:pt x="77" y="600"/>
                  </a:lnTo>
                  <a:lnTo>
                    <a:pt x="71" y="588"/>
                  </a:lnTo>
                  <a:lnTo>
                    <a:pt x="71" y="576"/>
                  </a:lnTo>
                  <a:lnTo>
                    <a:pt x="71" y="565"/>
                  </a:lnTo>
                  <a:lnTo>
                    <a:pt x="71" y="553"/>
                  </a:lnTo>
                  <a:lnTo>
                    <a:pt x="71" y="541"/>
                  </a:lnTo>
                  <a:lnTo>
                    <a:pt x="65" y="529"/>
                  </a:lnTo>
                  <a:lnTo>
                    <a:pt x="65" y="518"/>
                  </a:lnTo>
                  <a:lnTo>
                    <a:pt x="65" y="506"/>
                  </a:lnTo>
                  <a:lnTo>
                    <a:pt x="59" y="494"/>
                  </a:lnTo>
                  <a:lnTo>
                    <a:pt x="59" y="482"/>
                  </a:lnTo>
                  <a:lnTo>
                    <a:pt x="53" y="470"/>
                  </a:lnTo>
                  <a:lnTo>
                    <a:pt x="53" y="459"/>
                  </a:lnTo>
                  <a:lnTo>
                    <a:pt x="47" y="447"/>
                  </a:lnTo>
                  <a:lnTo>
                    <a:pt x="47" y="435"/>
                  </a:lnTo>
                  <a:lnTo>
                    <a:pt x="41" y="423"/>
                  </a:lnTo>
                  <a:lnTo>
                    <a:pt x="36" y="412"/>
                  </a:lnTo>
                  <a:lnTo>
                    <a:pt x="36" y="400"/>
                  </a:lnTo>
                  <a:lnTo>
                    <a:pt x="30" y="388"/>
                  </a:lnTo>
                  <a:lnTo>
                    <a:pt x="24" y="376"/>
                  </a:lnTo>
                  <a:lnTo>
                    <a:pt x="18" y="365"/>
                  </a:lnTo>
                  <a:lnTo>
                    <a:pt x="12" y="353"/>
                  </a:lnTo>
                  <a:lnTo>
                    <a:pt x="12" y="341"/>
                  </a:lnTo>
                  <a:lnTo>
                    <a:pt x="6" y="329"/>
                  </a:lnTo>
                  <a:lnTo>
                    <a:pt x="0" y="317"/>
                  </a:lnTo>
                  <a:lnTo>
                    <a:pt x="630" y="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81600" y="4864320"/>
              <a:ext cx="1642680" cy="1663560"/>
            </a:xfrm>
            <a:custGeom>
              <a:avLst/>
              <a:gdLst/>
              <a:ahLst/>
              <a:rect l="l" t="t" r="r" b="b"/>
              <a:pathLst>
                <a:path w="1035" h="1048">
                  <a:moveTo>
                    <a:pt x="1035" y="241"/>
                  </a:moveTo>
                  <a:lnTo>
                    <a:pt x="1030" y="265"/>
                  </a:lnTo>
                  <a:lnTo>
                    <a:pt x="1018" y="289"/>
                  </a:lnTo>
                  <a:lnTo>
                    <a:pt x="1012" y="312"/>
                  </a:lnTo>
                  <a:lnTo>
                    <a:pt x="1000" y="330"/>
                  </a:lnTo>
                  <a:lnTo>
                    <a:pt x="988" y="353"/>
                  </a:lnTo>
                  <a:lnTo>
                    <a:pt x="982" y="377"/>
                  </a:lnTo>
                  <a:lnTo>
                    <a:pt x="971" y="400"/>
                  </a:lnTo>
                  <a:lnTo>
                    <a:pt x="959" y="418"/>
                  </a:lnTo>
                  <a:lnTo>
                    <a:pt x="947" y="442"/>
                  </a:lnTo>
                  <a:lnTo>
                    <a:pt x="935" y="465"/>
                  </a:lnTo>
                  <a:lnTo>
                    <a:pt x="924" y="483"/>
                  </a:lnTo>
                  <a:lnTo>
                    <a:pt x="906" y="506"/>
                  </a:lnTo>
                  <a:lnTo>
                    <a:pt x="894" y="524"/>
                  </a:lnTo>
                  <a:lnTo>
                    <a:pt x="882" y="547"/>
                  </a:lnTo>
                  <a:lnTo>
                    <a:pt x="865" y="565"/>
                  </a:lnTo>
                  <a:lnTo>
                    <a:pt x="853" y="589"/>
                  </a:lnTo>
                  <a:lnTo>
                    <a:pt x="841" y="606"/>
                  </a:lnTo>
                  <a:lnTo>
                    <a:pt x="824" y="630"/>
                  </a:lnTo>
                  <a:lnTo>
                    <a:pt x="806" y="647"/>
                  </a:lnTo>
                  <a:lnTo>
                    <a:pt x="794" y="665"/>
                  </a:lnTo>
                  <a:lnTo>
                    <a:pt x="776" y="683"/>
                  </a:lnTo>
                  <a:lnTo>
                    <a:pt x="759" y="700"/>
                  </a:lnTo>
                  <a:lnTo>
                    <a:pt x="741" y="718"/>
                  </a:lnTo>
                  <a:lnTo>
                    <a:pt x="729" y="736"/>
                  </a:lnTo>
                  <a:lnTo>
                    <a:pt x="712" y="753"/>
                  </a:lnTo>
                  <a:lnTo>
                    <a:pt x="694" y="771"/>
                  </a:lnTo>
                  <a:lnTo>
                    <a:pt x="676" y="789"/>
                  </a:lnTo>
                  <a:lnTo>
                    <a:pt x="659" y="806"/>
                  </a:lnTo>
                  <a:lnTo>
                    <a:pt x="635" y="824"/>
                  </a:lnTo>
                  <a:lnTo>
                    <a:pt x="618" y="842"/>
                  </a:lnTo>
                  <a:lnTo>
                    <a:pt x="600" y="853"/>
                  </a:lnTo>
                  <a:lnTo>
                    <a:pt x="582" y="871"/>
                  </a:lnTo>
                  <a:lnTo>
                    <a:pt x="559" y="883"/>
                  </a:lnTo>
                  <a:lnTo>
                    <a:pt x="541" y="900"/>
                  </a:lnTo>
                  <a:lnTo>
                    <a:pt x="523" y="912"/>
                  </a:lnTo>
                  <a:lnTo>
                    <a:pt x="500" y="930"/>
                  </a:lnTo>
                  <a:lnTo>
                    <a:pt x="482" y="942"/>
                  </a:lnTo>
                  <a:lnTo>
                    <a:pt x="459" y="953"/>
                  </a:lnTo>
                  <a:lnTo>
                    <a:pt x="441" y="965"/>
                  </a:lnTo>
                  <a:lnTo>
                    <a:pt x="418" y="983"/>
                  </a:lnTo>
                  <a:lnTo>
                    <a:pt x="394" y="995"/>
                  </a:lnTo>
                  <a:lnTo>
                    <a:pt x="376" y="1006"/>
                  </a:lnTo>
                  <a:lnTo>
                    <a:pt x="353" y="1018"/>
                  </a:lnTo>
                  <a:lnTo>
                    <a:pt x="329" y="1024"/>
                  </a:lnTo>
                  <a:lnTo>
                    <a:pt x="306" y="1036"/>
                  </a:lnTo>
                  <a:lnTo>
                    <a:pt x="288" y="1048"/>
                  </a:lnTo>
                  <a:lnTo>
                    <a:pt x="0" y="400"/>
                  </a:lnTo>
                  <a:lnTo>
                    <a:pt x="12" y="400"/>
                  </a:lnTo>
                  <a:lnTo>
                    <a:pt x="23" y="394"/>
                  </a:lnTo>
                  <a:lnTo>
                    <a:pt x="35" y="389"/>
                  </a:lnTo>
                  <a:lnTo>
                    <a:pt x="41" y="383"/>
                  </a:lnTo>
                  <a:lnTo>
                    <a:pt x="53" y="377"/>
                  </a:lnTo>
                  <a:lnTo>
                    <a:pt x="64" y="371"/>
                  </a:lnTo>
                  <a:lnTo>
                    <a:pt x="76" y="365"/>
                  </a:lnTo>
                  <a:lnTo>
                    <a:pt x="88" y="359"/>
                  </a:lnTo>
                  <a:lnTo>
                    <a:pt x="94" y="347"/>
                  </a:lnTo>
                  <a:lnTo>
                    <a:pt x="106" y="341"/>
                  </a:lnTo>
                  <a:lnTo>
                    <a:pt x="117" y="336"/>
                  </a:lnTo>
                  <a:lnTo>
                    <a:pt x="123" y="330"/>
                  </a:lnTo>
                  <a:lnTo>
                    <a:pt x="135" y="324"/>
                  </a:lnTo>
                  <a:lnTo>
                    <a:pt x="147" y="312"/>
                  </a:lnTo>
                  <a:lnTo>
                    <a:pt x="153" y="306"/>
                  </a:lnTo>
                  <a:lnTo>
                    <a:pt x="165" y="300"/>
                  </a:lnTo>
                  <a:lnTo>
                    <a:pt x="176" y="289"/>
                  </a:lnTo>
                  <a:lnTo>
                    <a:pt x="182" y="283"/>
                  </a:lnTo>
                  <a:lnTo>
                    <a:pt x="194" y="277"/>
                  </a:lnTo>
                  <a:lnTo>
                    <a:pt x="200" y="265"/>
                  </a:lnTo>
                  <a:lnTo>
                    <a:pt x="212" y="259"/>
                  </a:lnTo>
                  <a:lnTo>
                    <a:pt x="217" y="247"/>
                  </a:lnTo>
                  <a:lnTo>
                    <a:pt x="229" y="241"/>
                  </a:lnTo>
                  <a:lnTo>
                    <a:pt x="235" y="230"/>
                  </a:lnTo>
                  <a:lnTo>
                    <a:pt x="241" y="218"/>
                  </a:lnTo>
                  <a:lnTo>
                    <a:pt x="253" y="212"/>
                  </a:lnTo>
                  <a:lnTo>
                    <a:pt x="259" y="200"/>
                  </a:lnTo>
                  <a:lnTo>
                    <a:pt x="265" y="194"/>
                  </a:lnTo>
                  <a:lnTo>
                    <a:pt x="276" y="183"/>
                  </a:lnTo>
                  <a:lnTo>
                    <a:pt x="282" y="171"/>
                  </a:lnTo>
                  <a:lnTo>
                    <a:pt x="288" y="165"/>
                  </a:lnTo>
                  <a:lnTo>
                    <a:pt x="294" y="153"/>
                  </a:lnTo>
                  <a:lnTo>
                    <a:pt x="300" y="141"/>
                  </a:lnTo>
                  <a:lnTo>
                    <a:pt x="312" y="130"/>
                  </a:lnTo>
                  <a:lnTo>
                    <a:pt x="318" y="124"/>
                  </a:lnTo>
                  <a:lnTo>
                    <a:pt x="323" y="112"/>
                  </a:lnTo>
                  <a:lnTo>
                    <a:pt x="329" y="100"/>
                  </a:lnTo>
                  <a:lnTo>
                    <a:pt x="335" y="88"/>
                  </a:lnTo>
                  <a:lnTo>
                    <a:pt x="341" y="77"/>
                  </a:lnTo>
                  <a:lnTo>
                    <a:pt x="347" y="65"/>
                  </a:lnTo>
                  <a:lnTo>
                    <a:pt x="353" y="53"/>
                  </a:lnTo>
                  <a:lnTo>
                    <a:pt x="353" y="47"/>
                  </a:lnTo>
                  <a:lnTo>
                    <a:pt x="359" y="35"/>
                  </a:lnTo>
                  <a:lnTo>
                    <a:pt x="365" y="24"/>
                  </a:lnTo>
                  <a:lnTo>
                    <a:pt x="370" y="12"/>
                  </a:lnTo>
                  <a:lnTo>
                    <a:pt x="376" y="0"/>
                  </a:lnTo>
                  <a:lnTo>
                    <a:pt x="1035" y="24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36680" y="5397480"/>
              <a:ext cx="2579400" cy="1494000"/>
            </a:xfrm>
            <a:custGeom>
              <a:avLst/>
              <a:gdLst/>
              <a:ahLst/>
              <a:rect l="l" t="t" r="r" b="b"/>
              <a:pathLst>
                <a:path w="1625" h="941">
                  <a:moveTo>
                    <a:pt x="1625" y="818"/>
                  </a:moveTo>
                  <a:lnTo>
                    <a:pt x="1601" y="829"/>
                  </a:lnTo>
                  <a:lnTo>
                    <a:pt x="1577" y="835"/>
                  </a:lnTo>
                  <a:lnTo>
                    <a:pt x="1554" y="847"/>
                  </a:lnTo>
                  <a:lnTo>
                    <a:pt x="1530" y="853"/>
                  </a:lnTo>
                  <a:lnTo>
                    <a:pt x="1507" y="865"/>
                  </a:lnTo>
                  <a:lnTo>
                    <a:pt x="1483" y="870"/>
                  </a:lnTo>
                  <a:lnTo>
                    <a:pt x="1460" y="876"/>
                  </a:lnTo>
                  <a:lnTo>
                    <a:pt x="1436" y="882"/>
                  </a:lnTo>
                  <a:lnTo>
                    <a:pt x="1413" y="894"/>
                  </a:lnTo>
                  <a:lnTo>
                    <a:pt x="1389" y="900"/>
                  </a:lnTo>
                  <a:lnTo>
                    <a:pt x="1366" y="906"/>
                  </a:lnTo>
                  <a:lnTo>
                    <a:pt x="1342" y="912"/>
                  </a:lnTo>
                  <a:lnTo>
                    <a:pt x="1319" y="912"/>
                  </a:lnTo>
                  <a:lnTo>
                    <a:pt x="1295" y="918"/>
                  </a:lnTo>
                  <a:lnTo>
                    <a:pt x="1271" y="923"/>
                  </a:lnTo>
                  <a:lnTo>
                    <a:pt x="1248" y="923"/>
                  </a:lnTo>
                  <a:lnTo>
                    <a:pt x="1219" y="929"/>
                  </a:lnTo>
                  <a:lnTo>
                    <a:pt x="1195" y="929"/>
                  </a:lnTo>
                  <a:lnTo>
                    <a:pt x="1171" y="935"/>
                  </a:lnTo>
                  <a:lnTo>
                    <a:pt x="1148" y="935"/>
                  </a:lnTo>
                  <a:lnTo>
                    <a:pt x="1124" y="935"/>
                  </a:lnTo>
                  <a:lnTo>
                    <a:pt x="1101" y="941"/>
                  </a:lnTo>
                  <a:lnTo>
                    <a:pt x="1071" y="941"/>
                  </a:lnTo>
                  <a:lnTo>
                    <a:pt x="1048" y="941"/>
                  </a:lnTo>
                  <a:lnTo>
                    <a:pt x="1024" y="941"/>
                  </a:lnTo>
                  <a:lnTo>
                    <a:pt x="1001" y="941"/>
                  </a:lnTo>
                  <a:lnTo>
                    <a:pt x="977" y="935"/>
                  </a:lnTo>
                  <a:lnTo>
                    <a:pt x="954" y="935"/>
                  </a:lnTo>
                  <a:lnTo>
                    <a:pt x="924" y="935"/>
                  </a:lnTo>
                  <a:lnTo>
                    <a:pt x="901" y="929"/>
                  </a:lnTo>
                  <a:lnTo>
                    <a:pt x="877" y="929"/>
                  </a:lnTo>
                  <a:lnTo>
                    <a:pt x="854" y="923"/>
                  </a:lnTo>
                  <a:lnTo>
                    <a:pt x="830" y="923"/>
                  </a:lnTo>
                  <a:lnTo>
                    <a:pt x="807" y="918"/>
                  </a:lnTo>
                  <a:lnTo>
                    <a:pt x="783" y="912"/>
                  </a:lnTo>
                  <a:lnTo>
                    <a:pt x="754" y="912"/>
                  </a:lnTo>
                  <a:lnTo>
                    <a:pt x="730" y="906"/>
                  </a:lnTo>
                  <a:lnTo>
                    <a:pt x="707" y="900"/>
                  </a:lnTo>
                  <a:lnTo>
                    <a:pt x="683" y="894"/>
                  </a:lnTo>
                  <a:lnTo>
                    <a:pt x="659" y="882"/>
                  </a:lnTo>
                  <a:lnTo>
                    <a:pt x="636" y="876"/>
                  </a:lnTo>
                  <a:lnTo>
                    <a:pt x="612" y="870"/>
                  </a:lnTo>
                  <a:lnTo>
                    <a:pt x="589" y="865"/>
                  </a:lnTo>
                  <a:lnTo>
                    <a:pt x="565" y="853"/>
                  </a:lnTo>
                  <a:lnTo>
                    <a:pt x="542" y="847"/>
                  </a:lnTo>
                  <a:lnTo>
                    <a:pt x="524" y="835"/>
                  </a:lnTo>
                  <a:lnTo>
                    <a:pt x="501" y="829"/>
                  </a:lnTo>
                  <a:lnTo>
                    <a:pt x="477" y="818"/>
                  </a:lnTo>
                  <a:lnTo>
                    <a:pt x="454" y="806"/>
                  </a:lnTo>
                  <a:lnTo>
                    <a:pt x="430" y="794"/>
                  </a:lnTo>
                  <a:lnTo>
                    <a:pt x="412" y="788"/>
                  </a:lnTo>
                  <a:lnTo>
                    <a:pt x="389" y="776"/>
                  </a:lnTo>
                  <a:lnTo>
                    <a:pt x="365" y="765"/>
                  </a:lnTo>
                  <a:lnTo>
                    <a:pt x="342" y="753"/>
                  </a:lnTo>
                  <a:lnTo>
                    <a:pt x="324" y="735"/>
                  </a:lnTo>
                  <a:lnTo>
                    <a:pt x="301" y="723"/>
                  </a:lnTo>
                  <a:lnTo>
                    <a:pt x="283" y="712"/>
                  </a:lnTo>
                  <a:lnTo>
                    <a:pt x="259" y="700"/>
                  </a:lnTo>
                  <a:lnTo>
                    <a:pt x="242" y="682"/>
                  </a:lnTo>
                  <a:lnTo>
                    <a:pt x="218" y="670"/>
                  </a:lnTo>
                  <a:lnTo>
                    <a:pt x="200" y="653"/>
                  </a:lnTo>
                  <a:lnTo>
                    <a:pt x="183" y="641"/>
                  </a:lnTo>
                  <a:lnTo>
                    <a:pt x="165" y="623"/>
                  </a:lnTo>
                  <a:lnTo>
                    <a:pt x="142" y="612"/>
                  </a:lnTo>
                  <a:lnTo>
                    <a:pt x="124" y="594"/>
                  </a:lnTo>
                  <a:lnTo>
                    <a:pt x="106" y="576"/>
                  </a:lnTo>
                  <a:lnTo>
                    <a:pt x="89" y="559"/>
                  </a:lnTo>
                  <a:lnTo>
                    <a:pt x="71" y="541"/>
                  </a:lnTo>
                  <a:lnTo>
                    <a:pt x="53" y="523"/>
                  </a:lnTo>
                  <a:lnTo>
                    <a:pt x="36" y="506"/>
                  </a:lnTo>
                  <a:lnTo>
                    <a:pt x="18" y="488"/>
                  </a:lnTo>
                  <a:lnTo>
                    <a:pt x="0" y="470"/>
                  </a:lnTo>
                  <a:lnTo>
                    <a:pt x="524" y="0"/>
                  </a:lnTo>
                  <a:lnTo>
                    <a:pt x="536" y="11"/>
                  </a:lnTo>
                  <a:lnTo>
                    <a:pt x="542" y="17"/>
                  </a:lnTo>
                  <a:lnTo>
                    <a:pt x="554" y="29"/>
                  </a:lnTo>
                  <a:lnTo>
                    <a:pt x="559" y="35"/>
                  </a:lnTo>
                  <a:lnTo>
                    <a:pt x="571" y="47"/>
                  </a:lnTo>
                  <a:lnTo>
                    <a:pt x="577" y="53"/>
                  </a:lnTo>
                  <a:lnTo>
                    <a:pt x="589" y="58"/>
                  </a:lnTo>
                  <a:lnTo>
                    <a:pt x="595" y="70"/>
                  </a:lnTo>
                  <a:lnTo>
                    <a:pt x="607" y="76"/>
                  </a:lnTo>
                  <a:lnTo>
                    <a:pt x="618" y="82"/>
                  </a:lnTo>
                  <a:lnTo>
                    <a:pt x="624" y="94"/>
                  </a:lnTo>
                  <a:lnTo>
                    <a:pt x="636" y="100"/>
                  </a:lnTo>
                  <a:lnTo>
                    <a:pt x="648" y="106"/>
                  </a:lnTo>
                  <a:lnTo>
                    <a:pt x="654" y="111"/>
                  </a:lnTo>
                  <a:lnTo>
                    <a:pt x="665" y="117"/>
                  </a:lnTo>
                  <a:lnTo>
                    <a:pt x="677" y="129"/>
                  </a:lnTo>
                  <a:lnTo>
                    <a:pt x="689" y="135"/>
                  </a:lnTo>
                  <a:lnTo>
                    <a:pt x="695" y="141"/>
                  </a:lnTo>
                  <a:lnTo>
                    <a:pt x="707" y="147"/>
                  </a:lnTo>
                  <a:lnTo>
                    <a:pt x="718" y="153"/>
                  </a:lnTo>
                  <a:lnTo>
                    <a:pt x="730" y="158"/>
                  </a:lnTo>
                  <a:lnTo>
                    <a:pt x="742" y="164"/>
                  </a:lnTo>
                  <a:lnTo>
                    <a:pt x="754" y="170"/>
                  </a:lnTo>
                  <a:lnTo>
                    <a:pt x="765" y="170"/>
                  </a:lnTo>
                  <a:lnTo>
                    <a:pt x="777" y="176"/>
                  </a:lnTo>
                  <a:lnTo>
                    <a:pt x="783" y="182"/>
                  </a:lnTo>
                  <a:lnTo>
                    <a:pt x="795" y="188"/>
                  </a:lnTo>
                  <a:lnTo>
                    <a:pt x="807" y="194"/>
                  </a:lnTo>
                  <a:lnTo>
                    <a:pt x="818" y="194"/>
                  </a:lnTo>
                  <a:lnTo>
                    <a:pt x="830" y="200"/>
                  </a:lnTo>
                  <a:lnTo>
                    <a:pt x="842" y="206"/>
                  </a:lnTo>
                  <a:lnTo>
                    <a:pt x="854" y="206"/>
                  </a:lnTo>
                  <a:lnTo>
                    <a:pt x="865" y="211"/>
                  </a:lnTo>
                  <a:lnTo>
                    <a:pt x="877" y="211"/>
                  </a:lnTo>
                  <a:lnTo>
                    <a:pt x="889" y="217"/>
                  </a:lnTo>
                  <a:lnTo>
                    <a:pt x="901" y="217"/>
                  </a:lnTo>
                  <a:lnTo>
                    <a:pt x="913" y="223"/>
                  </a:lnTo>
                  <a:lnTo>
                    <a:pt x="924" y="223"/>
                  </a:lnTo>
                  <a:lnTo>
                    <a:pt x="942" y="223"/>
                  </a:lnTo>
                  <a:lnTo>
                    <a:pt x="954" y="229"/>
                  </a:lnTo>
                  <a:lnTo>
                    <a:pt x="965" y="229"/>
                  </a:lnTo>
                  <a:lnTo>
                    <a:pt x="977" y="229"/>
                  </a:lnTo>
                  <a:lnTo>
                    <a:pt x="989" y="229"/>
                  </a:lnTo>
                  <a:lnTo>
                    <a:pt x="1001" y="229"/>
                  </a:lnTo>
                  <a:lnTo>
                    <a:pt x="1013" y="235"/>
                  </a:lnTo>
                  <a:lnTo>
                    <a:pt x="1024" y="235"/>
                  </a:lnTo>
                  <a:lnTo>
                    <a:pt x="1036" y="235"/>
                  </a:lnTo>
                  <a:lnTo>
                    <a:pt x="1048" y="235"/>
                  </a:lnTo>
                  <a:lnTo>
                    <a:pt x="1060" y="235"/>
                  </a:lnTo>
                  <a:lnTo>
                    <a:pt x="1071" y="235"/>
                  </a:lnTo>
                  <a:lnTo>
                    <a:pt x="1089" y="235"/>
                  </a:lnTo>
                  <a:lnTo>
                    <a:pt x="1101" y="229"/>
                  </a:lnTo>
                  <a:lnTo>
                    <a:pt x="1113" y="229"/>
                  </a:lnTo>
                  <a:lnTo>
                    <a:pt x="1124" y="229"/>
                  </a:lnTo>
                  <a:lnTo>
                    <a:pt x="1136" y="229"/>
                  </a:lnTo>
                  <a:lnTo>
                    <a:pt x="1148" y="229"/>
                  </a:lnTo>
                  <a:lnTo>
                    <a:pt x="1160" y="223"/>
                  </a:lnTo>
                  <a:lnTo>
                    <a:pt x="1171" y="223"/>
                  </a:lnTo>
                  <a:lnTo>
                    <a:pt x="1183" y="223"/>
                  </a:lnTo>
                  <a:lnTo>
                    <a:pt x="1195" y="217"/>
                  </a:lnTo>
                  <a:lnTo>
                    <a:pt x="1207" y="217"/>
                  </a:lnTo>
                  <a:lnTo>
                    <a:pt x="1219" y="211"/>
                  </a:lnTo>
                  <a:lnTo>
                    <a:pt x="1230" y="211"/>
                  </a:lnTo>
                  <a:lnTo>
                    <a:pt x="1242" y="206"/>
                  </a:lnTo>
                  <a:lnTo>
                    <a:pt x="1254" y="206"/>
                  </a:lnTo>
                  <a:lnTo>
                    <a:pt x="1266" y="200"/>
                  </a:lnTo>
                  <a:lnTo>
                    <a:pt x="1277" y="194"/>
                  </a:lnTo>
                  <a:lnTo>
                    <a:pt x="1289" y="194"/>
                  </a:lnTo>
                  <a:lnTo>
                    <a:pt x="1301" y="188"/>
                  </a:lnTo>
                  <a:lnTo>
                    <a:pt x="1313" y="182"/>
                  </a:lnTo>
                  <a:lnTo>
                    <a:pt x="1324" y="176"/>
                  </a:lnTo>
                  <a:lnTo>
                    <a:pt x="1336" y="170"/>
                  </a:lnTo>
                  <a:lnTo>
                    <a:pt x="1625" y="818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19320" y="2959200"/>
              <a:ext cx="1401480" cy="2681280"/>
            </a:xfrm>
            <a:custGeom>
              <a:avLst/>
              <a:gdLst/>
              <a:ahLst/>
              <a:rect l="l" t="t" r="r" b="b"/>
              <a:pathLst>
                <a:path w="883" h="1689">
                  <a:moveTo>
                    <a:pt x="359" y="1689"/>
                  </a:moveTo>
                  <a:lnTo>
                    <a:pt x="341" y="1671"/>
                  </a:lnTo>
                  <a:lnTo>
                    <a:pt x="330" y="1653"/>
                  </a:lnTo>
                  <a:lnTo>
                    <a:pt x="312" y="1636"/>
                  </a:lnTo>
                  <a:lnTo>
                    <a:pt x="300" y="1618"/>
                  </a:lnTo>
                  <a:lnTo>
                    <a:pt x="282" y="1594"/>
                  </a:lnTo>
                  <a:lnTo>
                    <a:pt x="265" y="1577"/>
                  </a:lnTo>
                  <a:lnTo>
                    <a:pt x="253" y="1553"/>
                  </a:lnTo>
                  <a:lnTo>
                    <a:pt x="241" y="1536"/>
                  </a:lnTo>
                  <a:lnTo>
                    <a:pt x="224" y="1512"/>
                  </a:lnTo>
                  <a:lnTo>
                    <a:pt x="212" y="1494"/>
                  </a:lnTo>
                  <a:lnTo>
                    <a:pt x="200" y="1471"/>
                  </a:lnTo>
                  <a:lnTo>
                    <a:pt x="188" y="1453"/>
                  </a:lnTo>
                  <a:lnTo>
                    <a:pt x="177" y="1430"/>
                  </a:lnTo>
                  <a:lnTo>
                    <a:pt x="165" y="1406"/>
                  </a:lnTo>
                  <a:lnTo>
                    <a:pt x="153" y="1388"/>
                  </a:lnTo>
                  <a:lnTo>
                    <a:pt x="141" y="1365"/>
                  </a:lnTo>
                  <a:lnTo>
                    <a:pt x="129" y="1341"/>
                  </a:lnTo>
                  <a:lnTo>
                    <a:pt x="118" y="1318"/>
                  </a:lnTo>
                  <a:lnTo>
                    <a:pt x="112" y="1300"/>
                  </a:lnTo>
                  <a:lnTo>
                    <a:pt x="100" y="1277"/>
                  </a:lnTo>
                  <a:lnTo>
                    <a:pt x="94" y="1253"/>
                  </a:lnTo>
                  <a:lnTo>
                    <a:pt x="82" y="1230"/>
                  </a:lnTo>
                  <a:lnTo>
                    <a:pt x="76" y="1206"/>
                  </a:lnTo>
                  <a:lnTo>
                    <a:pt x="65" y="1183"/>
                  </a:lnTo>
                  <a:lnTo>
                    <a:pt x="59" y="1159"/>
                  </a:lnTo>
                  <a:lnTo>
                    <a:pt x="53" y="1135"/>
                  </a:lnTo>
                  <a:lnTo>
                    <a:pt x="47" y="1112"/>
                  </a:lnTo>
                  <a:lnTo>
                    <a:pt x="41" y="1088"/>
                  </a:lnTo>
                  <a:lnTo>
                    <a:pt x="35" y="1065"/>
                  </a:lnTo>
                  <a:lnTo>
                    <a:pt x="29" y="1041"/>
                  </a:lnTo>
                  <a:lnTo>
                    <a:pt x="24" y="1018"/>
                  </a:lnTo>
                  <a:lnTo>
                    <a:pt x="18" y="988"/>
                  </a:lnTo>
                  <a:lnTo>
                    <a:pt x="18" y="965"/>
                  </a:lnTo>
                  <a:lnTo>
                    <a:pt x="12" y="941"/>
                  </a:lnTo>
                  <a:lnTo>
                    <a:pt x="12" y="918"/>
                  </a:lnTo>
                  <a:lnTo>
                    <a:pt x="6" y="894"/>
                  </a:lnTo>
                  <a:lnTo>
                    <a:pt x="6" y="871"/>
                  </a:lnTo>
                  <a:lnTo>
                    <a:pt x="0" y="841"/>
                  </a:lnTo>
                  <a:lnTo>
                    <a:pt x="0" y="818"/>
                  </a:lnTo>
                  <a:lnTo>
                    <a:pt x="0" y="794"/>
                  </a:lnTo>
                  <a:lnTo>
                    <a:pt x="0" y="771"/>
                  </a:lnTo>
                  <a:lnTo>
                    <a:pt x="0" y="747"/>
                  </a:lnTo>
                  <a:lnTo>
                    <a:pt x="0" y="724"/>
                  </a:lnTo>
                  <a:lnTo>
                    <a:pt x="0" y="694"/>
                  </a:lnTo>
                  <a:lnTo>
                    <a:pt x="0" y="671"/>
                  </a:lnTo>
                  <a:lnTo>
                    <a:pt x="0" y="647"/>
                  </a:lnTo>
                  <a:lnTo>
                    <a:pt x="6" y="623"/>
                  </a:lnTo>
                  <a:lnTo>
                    <a:pt x="6" y="600"/>
                  </a:lnTo>
                  <a:lnTo>
                    <a:pt x="12" y="576"/>
                  </a:lnTo>
                  <a:lnTo>
                    <a:pt x="12" y="547"/>
                  </a:lnTo>
                  <a:lnTo>
                    <a:pt x="18" y="523"/>
                  </a:lnTo>
                  <a:lnTo>
                    <a:pt x="18" y="500"/>
                  </a:lnTo>
                  <a:lnTo>
                    <a:pt x="24" y="476"/>
                  </a:lnTo>
                  <a:lnTo>
                    <a:pt x="29" y="453"/>
                  </a:lnTo>
                  <a:lnTo>
                    <a:pt x="35" y="429"/>
                  </a:lnTo>
                  <a:lnTo>
                    <a:pt x="41" y="406"/>
                  </a:lnTo>
                  <a:lnTo>
                    <a:pt x="47" y="382"/>
                  </a:lnTo>
                  <a:lnTo>
                    <a:pt x="53" y="359"/>
                  </a:lnTo>
                  <a:lnTo>
                    <a:pt x="59" y="335"/>
                  </a:lnTo>
                  <a:lnTo>
                    <a:pt x="65" y="312"/>
                  </a:lnTo>
                  <a:lnTo>
                    <a:pt x="76" y="288"/>
                  </a:lnTo>
                  <a:lnTo>
                    <a:pt x="82" y="265"/>
                  </a:lnTo>
                  <a:lnTo>
                    <a:pt x="94" y="241"/>
                  </a:lnTo>
                  <a:lnTo>
                    <a:pt x="100" y="217"/>
                  </a:lnTo>
                  <a:lnTo>
                    <a:pt x="112" y="194"/>
                  </a:lnTo>
                  <a:lnTo>
                    <a:pt x="118" y="170"/>
                  </a:lnTo>
                  <a:lnTo>
                    <a:pt x="129" y="147"/>
                  </a:lnTo>
                  <a:lnTo>
                    <a:pt x="141" y="129"/>
                  </a:lnTo>
                  <a:lnTo>
                    <a:pt x="153" y="106"/>
                  </a:lnTo>
                  <a:lnTo>
                    <a:pt x="165" y="82"/>
                  </a:lnTo>
                  <a:lnTo>
                    <a:pt x="177" y="59"/>
                  </a:lnTo>
                  <a:lnTo>
                    <a:pt x="188" y="41"/>
                  </a:lnTo>
                  <a:lnTo>
                    <a:pt x="200" y="17"/>
                  </a:lnTo>
                  <a:lnTo>
                    <a:pt x="212" y="0"/>
                  </a:lnTo>
                  <a:lnTo>
                    <a:pt x="812" y="370"/>
                  </a:lnTo>
                  <a:lnTo>
                    <a:pt x="806" y="382"/>
                  </a:lnTo>
                  <a:lnTo>
                    <a:pt x="800" y="394"/>
                  </a:lnTo>
                  <a:lnTo>
                    <a:pt x="794" y="406"/>
                  </a:lnTo>
                  <a:lnTo>
                    <a:pt x="789" y="412"/>
                  </a:lnTo>
                  <a:lnTo>
                    <a:pt x="783" y="423"/>
                  </a:lnTo>
                  <a:lnTo>
                    <a:pt x="777" y="435"/>
                  </a:lnTo>
                  <a:lnTo>
                    <a:pt x="771" y="447"/>
                  </a:lnTo>
                  <a:lnTo>
                    <a:pt x="765" y="459"/>
                  </a:lnTo>
                  <a:lnTo>
                    <a:pt x="759" y="470"/>
                  </a:lnTo>
                  <a:lnTo>
                    <a:pt x="753" y="482"/>
                  </a:lnTo>
                  <a:lnTo>
                    <a:pt x="753" y="494"/>
                  </a:lnTo>
                  <a:lnTo>
                    <a:pt x="747" y="506"/>
                  </a:lnTo>
                  <a:lnTo>
                    <a:pt x="741" y="518"/>
                  </a:lnTo>
                  <a:lnTo>
                    <a:pt x="741" y="529"/>
                  </a:lnTo>
                  <a:lnTo>
                    <a:pt x="736" y="541"/>
                  </a:lnTo>
                  <a:lnTo>
                    <a:pt x="730" y="553"/>
                  </a:lnTo>
                  <a:lnTo>
                    <a:pt x="730" y="565"/>
                  </a:lnTo>
                  <a:lnTo>
                    <a:pt x="724" y="576"/>
                  </a:lnTo>
                  <a:lnTo>
                    <a:pt x="724" y="588"/>
                  </a:lnTo>
                  <a:lnTo>
                    <a:pt x="718" y="600"/>
                  </a:lnTo>
                  <a:lnTo>
                    <a:pt x="718" y="612"/>
                  </a:lnTo>
                  <a:lnTo>
                    <a:pt x="718" y="623"/>
                  </a:lnTo>
                  <a:lnTo>
                    <a:pt x="712" y="635"/>
                  </a:lnTo>
                  <a:lnTo>
                    <a:pt x="712" y="647"/>
                  </a:lnTo>
                  <a:lnTo>
                    <a:pt x="712" y="659"/>
                  </a:lnTo>
                  <a:lnTo>
                    <a:pt x="706" y="671"/>
                  </a:lnTo>
                  <a:lnTo>
                    <a:pt x="706" y="682"/>
                  </a:lnTo>
                  <a:lnTo>
                    <a:pt x="706" y="694"/>
                  </a:lnTo>
                  <a:lnTo>
                    <a:pt x="706" y="706"/>
                  </a:lnTo>
                  <a:lnTo>
                    <a:pt x="706" y="724"/>
                  </a:lnTo>
                  <a:lnTo>
                    <a:pt x="706" y="735"/>
                  </a:lnTo>
                  <a:lnTo>
                    <a:pt x="706" y="747"/>
                  </a:lnTo>
                  <a:lnTo>
                    <a:pt x="706" y="759"/>
                  </a:lnTo>
                  <a:lnTo>
                    <a:pt x="706" y="771"/>
                  </a:lnTo>
                  <a:lnTo>
                    <a:pt x="706" y="782"/>
                  </a:lnTo>
                  <a:lnTo>
                    <a:pt x="706" y="794"/>
                  </a:lnTo>
                  <a:lnTo>
                    <a:pt x="706" y="806"/>
                  </a:lnTo>
                  <a:lnTo>
                    <a:pt x="706" y="818"/>
                  </a:lnTo>
                  <a:lnTo>
                    <a:pt x="712" y="829"/>
                  </a:lnTo>
                  <a:lnTo>
                    <a:pt x="712" y="841"/>
                  </a:lnTo>
                  <a:lnTo>
                    <a:pt x="712" y="859"/>
                  </a:lnTo>
                  <a:lnTo>
                    <a:pt x="718" y="871"/>
                  </a:lnTo>
                  <a:lnTo>
                    <a:pt x="718" y="882"/>
                  </a:lnTo>
                  <a:lnTo>
                    <a:pt x="718" y="894"/>
                  </a:lnTo>
                  <a:lnTo>
                    <a:pt x="724" y="906"/>
                  </a:lnTo>
                  <a:lnTo>
                    <a:pt x="724" y="918"/>
                  </a:lnTo>
                  <a:lnTo>
                    <a:pt x="730" y="929"/>
                  </a:lnTo>
                  <a:lnTo>
                    <a:pt x="730" y="941"/>
                  </a:lnTo>
                  <a:lnTo>
                    <a:pt x="736" y="953"/>
                  </a:lnTo>
                  <a:lnTo>
                    <a:pt x="741" y="965"/>
                  </a:lnTo>
                  <a:lnTo>
                    <a:pt x="741" y="977"/>
                  </a:lnTo>
                  <a:lnTo>
                    <a:pt x="747" y="988"/>
                  </a:lnTo>
                  <a:lnTo>
                    <a:pt x="753" y="1000"/>
                  </a:lnTo>
                  <a:lnTo>
                    <a:pt x="753" y="1012"/>
                  </a:lnTo>
                  <a:lnTo>
                    <a:pt x="759" y="1024"/>
                  </a:lnTo>
                  <a:lnTo>
                    <a:pt x="765" y="1035"/>
                  </a:lnTo>
                  <a:lnTo>
                    <a:pt x="771" y="1041"/>
                  </a:lnTo>
                  <a:lnTo>
                    <a:pt x="777" y="1053"/>
                  </a:lnTo>
                  <a:lnTo>
                    <a:pt x="783" y="1065"/>
                  </a:lnTo>
                  <a:lnTo>
                    <a:pt x="789" y="1077"/>
                  </a:lnTo>
                  <a:lnTo>
                    <a:pt x="794" y="1088"/>
                  </a:lnTo>
                  <a:lnTo>
                    <a:pt x="800" y="1100"/>
                  </a:lnTo>
                  <a:lnTo>
                    <a:pt x="806" y="1112"/>
                  </a:lnTo>
                  <a:lnTo>
                    <a:pt x="812" y="1118"/>
                  </a:lnTo>
                  <a:lnTo>
                    <a:pt x="818" y="1130"/>
                  </a:lnTo>
                  <a:lnTo>
                    <a:pt x="824" y="1141"/>
                  </a:lnTo>
                  <a:lnTo>
                    <a:pt x="830" y="1153"/>
                  </a:lnTo>
                  <a:lnTo>
                    <a:pt x="841" y="1159"/>
                  </a:lnTo>
                  <a:lnTo>
                    <a:pt x="847" y="1171"/>
                  </a:lnTo>
                  <a:lnTo>
                    <a:pt x="853" y="1183"/>
                  </a:lnTo>
                  <a:lnTo>
                    <a:pt x="859" y="1188"/>
                  </a:lnTo>
                  <a:lnTo>
                    <a:pt x="871" y="1200"/>
                  </a:lnTo>
                  <a:lnTo>
                    <a:pt x="877" y="1206"/>
                  </a:lnTo>
                  <a:lnTo>
                    <a:pt x="883" y="1218"/>
                  </a:lnTo>
                  <a:lnTo>
                    <a:pt x="359" y="1689"/>
                  </a:lnTo>
                  <a:close/>
                </a:path>
              </a:pathLst>
            </a:custGeom>
            <a:solidFill>
              <a:srgbClr val="33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44640" y="1370160"/>
              <a:ext cx="1896840" cy="1644480"/>
            </a:xfrm>
            <a:custGeom>
              <a:avLst/>
              <a:gdLst/>
              <a:ahLst/>
              <a:rect l="l" t="t" r="r" b="b"/>
              <a:pathLst>
                <a:path w="1195" h="1036">
                  <a:moveTo>
                    <a:pt x="0" y="665"/>
                  </a:moveTo>
                  <a:lnTo>
                    <a:pt x="12" y="642"/>
                  </a:lnTo>
                  <a:lnTo>
                    <a:pt x="30" y="624"/>
                  </a:lnTo>
                  <a:lnTo>
                    <a:pt x="41" y="601"/>
                  </a:lnTo>
                  <a:lnTo>
                    <a:pt x="53" y="583"/>
                  </a:lnTo>
                  <a:lnTo>
                    <a:pt x="71" y="559"/>
                  </a:lnTo>
                  <a:lnTo>
                    <a:pt x="89" y="542"/>
                  </a:lnTo>
                  <a:lnTo>
                    <a:pt x="100" y="524"/>
                  </a:lnTo>
                  <a:lnTo>
                    <a:pt x="118" y="501"/>
                  </a:lnTo>
                  <a:lnTo>
                    <a:pt x="130" y="483"/>
                  </a:lnTo>
                  <a:lnTo>
                    <a:pt x="147" y="465"/>
                  </a:lnTo>
                  <a:lnTo>
                    <a:pt x="165" y="448"/>
                  </a:lnTo>
                  <a:lnTo>
                    <a:pt x="183" y="430"/>
                  </a:lnTo>
                  <a:lnTo>
                    <a:pt x="200" y="412"/>
                  </a:lnTo>
                  <a:lnTo>
                    <a:pt x="218" y="395"/>
                  </a:lnTo>
                  <a:lnTo>
                    <a:pt x="236" y="377"/>
                  </a:lnTo>
                  <a:lnTo>
                    <a:pt x="253" y="359"/>
                  </a:lnTo>
                  <a:lnTo>
                    <a:pt x="271" y="348"/>
                  </a:lnTo>
                  <a:lnTo>
                    <a:pt x="289" y="330"/>
                  </a:lnTo>
                  <a:lnTo>
                    <a:pt x="312" y="312"/>
                  </a:lnTo>
                  <a:lnTo>
                    <a:pt x="330" y="300"/>
                  </a:lnTo>
                  <a:lnTo>
                    <a:pt x="347" y="283"/>
                  </a:lnTo>
                  <a:lnTo>
                    <a:pt x="365" y="271"/>
                  </a:lnTo>
                  <a:lnTo>
                    <a:pt x="389" y="253"/>
                  </a:lnTo>
                  <a:lnTo>
                    <a:pt x="406" y="242"/>
                  </a:lnTo>
                  <a:lnTo>
                    <a:pt x="430" y="224"/>
                  </a:lnTo>
                  <a:lnTo>
                    <a:pt x="447" y="212"/>
                  </a:lnTo>
                  <a:lnTo>
                    <a:pt x="471" y="200"/>
                  </a:lnTo>
                  <a:lnTo>
                    <a:pt x="489" y="189"/>
                  </a:lnTo>
                  <a:lnTo>
                    <a:pt x="512" y="177"/>
                  </a:lnTo>
                  <a:lnTo>
                    <a:pt x="536" y="165"/>
                  </a:lnTo>
                  <a:lnTo>
                    <a:pt x="559" y="153"/>
                  </a:lnTo>
                  <a:lnTo>
                    <a:pt x="577" y="142"/>
                  </a:lnTo>
                  <a:lnTo>
                    <a:pt x="600" y="130"/>
                  </a:lnTo>
                  <a:lnTo>
                    <a:pt x="624" y="124"/>
                  </a:lnTo>
                  <a:lnTo>
                    <a:pt x="648" y="112"/>
                  </a:lnTo>
                  <a:lnTo>
                    <a:pt x="671" y="100"/>
                  </a:lnTo>
                  <a:lnTo>
                    <a:pt x="689" y="94"/>
                  </a:lnTo>
                  <a:lnTo>
                    <a:pt x="712" y="83"/>
                  </a:lnTo>
                  <a:lnTo>
                    <a:pt x="736" y="77"/>
                  </a:lnTo>
                  <a:lnTo>
                    <a:pt x="759" y="65"/>
                  </a:lnTo>
                  <a:lnTo>
                    <a:pt x="783" y="59"/>
                  </a:lnTo>
                  <a:lnTo>
                    <a:pt x="806" y="53"/>
                  </a:lnTo>
                  <a:lnTo>
                    <a:pt x="830" y="47"/>
                  </a:lnTo>
                  <a:lnTo>
                    <a:pt x="854" y="42"/>
                  </a:lnTo>
                  <a:lnTo>
                    <a:pt x="877" y="36"/>
                  </a:lnTo>
                  <a:lnTo>
                    <a:pt x="901" y="30"/>
                  </a:lnTo>
                  <a:lnTo>
                    <a:pt x="930" y="24"/>
                  </a:lnTo>
                  <a:lnTo>
                    <a:pt x="954" y="18"/>
                  </a:lnTo>
                  <a:lnTo>
                    <a:pt x="977" y="18"/>
                  </a:lnTo>
                  <a:lnTo>
                    <a:pt x="1001" y="12"/>
                  </a:lnTo>
                  <a:lnTo>
                    <a:pt x="1024" y="12"/>
                  </a:lnTo>
                  <a:lnTo>
                    <a:pt x="1048" y="6"/>
                  </a:lnTo>
                  <a:lnTo>
                    <a:pt x="1071" y="6"/>
                  </a:lnTo>
                  <a:lnTo>
                    <a:pt x="1101" y="0"/>
                  </a:lnTo>
                  <a:lnTo>
                    <a:pt x="1124" y="0"/>
                  </a:lnTo>
                  <a:lnTo>
                    <a:pt x="1148" y="0"/>
                  </a:lnTo>
                  <a:lnTo>
                    <a:pt x="1171" y="0"/>
                  </a:lnTo>
                  <a:lnTo>
                    <a:pt x="1195" y="0"/>
                  </a:lnTo>
                  <a:lnTo>
                    <a:pt x="1195" y="706"/>
                  </a:lnTo>
                  <a:lnTo>
                    <a:pt x="1183" y="706"/>
                  </a:lnTo>
                  <a:lnTo>
                    <a:pt x="1171" y="706"/>
                  </a:lnTo>
                  <a:lnTo>
                    <a:pt x="1160" y="706"/>
                  </a:lnTo>
                  <a:lnTo>
                    <a:pt x="1148" y="706"/>
                  </a:lnTo>
                  <a:lnTo>
                    <a:pt x="1136" y="706"/>
                  </a:lnTo>
                  <a:lnTo>
                    <a:pt x="1124" y="706"/>
                  </a:lnTo>
                  <a:lnTo>
                    <a:pt x="1112" y="712"/>
                  </a:lnTo>
                  <a:lnTo>
                    <a:pt x="1101" y="712"/>
                  </a:lnTo>
                  <a:lnTo>
                    <a:pt x="1089" y="712"/>
                  </a:lnTo>
                  <a:lnTo>
                    <a:pt x="1071" y="718"/>
                  </a:lnTo>
                  <a:lnTo>
                    <a:pt x="1059" y="718"/>
                  </a:lnTo>
                  <a:lnTo>
                    <a:pt x="1048" y="718"/>
                  </a:lnTo>
                  <a:lnTo>
                    <a:pt x="1036" y="724"/>
                  </a:lnTo>
                  <a:lnTo>
                    <a:pt x="1024" y="724"/>
                  </a:lnTo>
                  <a:lnTo>
                    <a:pt x="1012" y="730"/>
                  </a:lnTo>
                  <a:lnTo>
                    <a:pt x="1001" y="730"/>
                  </a:lnTo>
                  <a:lnTo>
                    <a:pt x="989" y="736"/>
                  </a:lnTo>
                  <a:lnTo>
                    <a:pt x="977" y="742"/>
                  </a:lnTo>
                  <a:lnTo>
                    <a:pt x="965" y="742"/>
                  </a:lnTo>
                  <a:lnTo>
                    <a:pt x="954" y="748"/>
                  </a:lnTo>
                  <a:lnTo>
                    <a:pt x="942" y="754"/>
                  </a:lnTo>
                  <a:lnTo>
                    <a:pt x="930" y="754"/>
                  </a:lnTo>
                  <a:lnTo>
                    <a:pt x="924" y="759"/>
                  </a:lnTo>
                  <a:lnTo>
                    <a:pt x="912" y="765"/>
                  </a:lnTo>
                  <a:lnTo>
                    <a:pt x="901" y="771"/>
                  </a:lnTo>
                  <a:lnTo>
                    <a:pt x="889" y="777"/>
                  </a:lnTo>
                  <a:lnTo>
                    <a:pt x="877" y="783"/>
                  </a:lnTo>
                  <a:lnTo>
                    <a:pt x="865" y="789"/>
                  </a:lnTo>
                  <a:lnTo>
                    <a:pt x="854" y="795"/>
                  </a:lnTo>
                  <a:lnTo>
                    <a:pt x="842" y="801"/>
                  </a:lnTo>
                  <a:lnTo>
                    <a:pt x="836" y="807"/>
                  </a:lnTo>
                  <a:lnTo>
                    <a:pt x="824" y="812"/>
                  </a:lnTo>
                  <a:lnTo>
                    <a:pt x="812" y="818"/>
                  </a:lnTo>
                  <a:lnTo>
                    <a:pt x="801" y="824"/>
                  </a:lnTo>
                  <a:lnTo>
                    <a:pt x="795" y="830"/>
                  </a:lnTo>
                  <a:lnTo>
                    <a:pt x="783" y="842"/>
                  </a:lnTo>
                  <a:lnTo>
                    <a:pt x="771" y="848"/>
                  </a:lnTo>
                  <a:lnTo>
                    <a:pt x="765" y="854"/>
                  </a:lnTo>
                  <a:lnTo>
                    <a:pt x="753" y="859"/>
                  </a:lnTo>
                  <a:lnTo>
                    <a:pt x="742" y="871"/>
                  </a:lnTo>
                  <a:lnTo>
                    <a:pt x="736" y="877"/>
                  </a:lnTo>
                  <a:lnTo>
                    <a:pt x="724" y="889"/>
                  </a:lnTo>
                  <a:lnTo>
                    <a:pt x="718" y="895"/>
                  </a:lnTo>
                  <a:lnTo>
                    <a:pt x="706" y="901"/>
                  </a:lnTo>
                  <a:lnTo>
                    <a:pt x="701" y="912"/>
                  </a:lnTo>
                  <a:lnTo>
                    <a:pt x="689" y="918"/>
                  </a:lnTo>
                  <a:lnTo>
                    <a:pt x="683" y="930"/>
                  </a:lnTo>
                  <a:lnTo>
                    <a:pt x="671" y="936"/>
                  </a:lnTo>
                  <a:lnTo>
                    <a:pt x="665" y="948"/>
                  </a:lnTo>
                  <a:lnTo>
                    <a:pt x="659" y="960"/>
                  </a:lnTo>
                  <a:lnTo>
                    <a:pt x="648" y="965"/>
                  </a:lnTo>
                  <a:lnTo>
                    <a:pt x="642" y="977"/>
                  </a:lnTo>
                  <a:lnTo>
                    <a:pt x="636" y="989"/>
                  </a:lnTo>
                  <a:lnTo>
                    <a:pt x="630" y="995"/>
                  </a:lnTo>
                  <a:lnTo>
                    <a:pt x="618" y="1007"/>
                  </a:lnTo>
                  <a:lnTo>
                    <a:pt x="612" y="1018"/>
                  </a:lnTo>
                  <a:lnTo>
                    <a:pt x="606" y="1024"/>
                  </a:lnTo>
                  <a:lnTo>
                    <a:pt x="600" y="1036"/>
                  </a:lnTo>
                  <a:lnTo>
                    <a:pt x="0" y="665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24720" y="6480000"/>
            <a:ext cx="222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Garamond"/>
              </a:rPr>
              <a:t>Макіївка; 10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94360" y="6143760"/>
            <a:ext cx="1523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Торез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167760" y="3197160"/>
            <a:ext cx="250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aramond"/>
              </a:rPr>
              <a:t>Маріуполь; 10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1080" y="1363680"/>
            <a:ext cx="256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Garamond"/>
              </a:rPr>
              <a:t>Краматорск; 8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963480" y="1442880"/>
            <a:ext cx="198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Garamond"/>
              </a:rPr>
              <a:t>Донецьк; 9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64480" y="3789360"/>
            <a:ext cx="2043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Garamond"/>
              </a:rPr>
              <a:t>Горлівка; 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469760" y="3743280"/>
            <a:ext cx="1236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Обла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74680" y="4118040"/>
            <a:ext cx="53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,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5280" y="188640"/>
            <a:ext cx="8750520" cy="5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ормативне забезпеч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720" y="157968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720" y="240840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80720" y="4700520"/>
            <a:ext cx="125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091760" y="1519200"/>
            <a:ext cx="5299560" cy="5104800"/>
            <a:chOff x="4091760" y="1519200"/>
            <a:chExt cx="5299560" cy="5104800"/>
          </a:xfrm>
        </p:grpSpPr>
        <p:sp>
          <p:nvSpPr>
            <p:cNvPr id="207" name=""/>
            <p:cNvSpPr/>
            <p:nvPr/>
          </p:nvSpPr>
          <p:spPr>
            <a:xfrm>
              <a:off x="4123080" y="1519200"/>
              <a:ext cx="117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оруч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99200" y="1519200"/>
              <a:ext cx="127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езиден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45160" y="1519200"/>
              <a:ext cx="875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краї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04920" y="15192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06320" y="1519200"/>
              <a:ext cx="1021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9.11.20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28840" y="234792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283360" y="234792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03280" y="234792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19000" y="2347920"/>
              <a:ext cx="112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08.10.2010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18160" y="2347920"/>
              <a:ext cx="20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30200" y="2347920"/>
              <a:ext cx="505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255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48600" y="2347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7880" y="234792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98960" y="2695680"/>
              <a:ext cx="155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тверд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94040" y="269568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лож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3840" y="269568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65880" y="269568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62360" y="2695680"/>
              <a:ext cx="178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3044880"/>
              <a:ext cx="149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іоритет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53720" y="3044880"/>
              <a:ext cx="102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прям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02400" y="3044880"/>
              <a:ext cx="108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оціаль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38120" y="3044880"/>
              <a:ext cx="63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31280" y="3044880"/>
              <a:ext cx="1515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економіч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154440" y="30448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11920" y="339264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ультурн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479560" y="3392640"/>
              <a:ext cx="99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озвитк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99080" y="3392640"/>
              <a:ext cx="8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(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17800" y="3392640"/>
              <a:ext cx="1328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ціональн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831080" y="3392640"/>
              <a:ext cx="89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роек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99400" y="3392640"/>
              <a:ext cx="19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)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28840" y="464040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стано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83360" y="4640400"/>
              <a:ext cx="48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4480" y="4640400"/>
              <a:ext cx="32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і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33840" y="4640400"/>
              <a:ext cx="1075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17.03.201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75680" y="4640400"/>
              <a:ext cx="26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№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21560" y="4640400"/>
              <a:ext cx="39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331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21880" y="4640400"/>
              <a:ext cx="534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«Пр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32080" y="498780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орядо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18400" y="4994280"/>
              <a:ext cx="1541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використ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68200" y="4994280"/>
              <a:ext cx="76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кошт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90360" y="4994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30320" y="4987800"/>
              <a:ext cx="1538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едба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69520" y="5337000"/>
              <a:ext cx="118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80400" y="5337000"/>
              <a:ext cx="1367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державном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96920" y="5337000"/>
              <a:ext cx="92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бюджет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520320" y="5337000"/>
              <a:ext cx="262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20200" y="5337000"/>
              <a:ext cx="752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ход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90600" y="5329080"/>
              <a:ext cx="58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щод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162280" y="5329080"/>
              <a:ext cx="1125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творе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11200" y="5683320"/>
              <a:ext cx="797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мереж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66120" y="5683320"/>
              <a:ext cx="1477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регіон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86320" y="5683320"/>
              <a:ext cx="168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перинаталь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34760" y="5688000"/>
              <a:ext cx="83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центрі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46200" y="56880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08320" y="6031080"/>
              <a:ext cx="1494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забезпечени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574960" y="603108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інноваційни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56440" y="6031080"/>
              <a:ext cx="1501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ехнологі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50440" y="6380280"/>
              <a:ext cx="23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99920" y="6380280"/>
              <a:ext cx="104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сучасн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15120" y="6380280"/>
              <a:ext cx="158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aramond"/>
                  <a:ea typeface="Arial"/>
                </a:rPr>
                <a:t>обладнанням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23920" y="1728720"/>
            <a:ext cx="3228480" cy="4957560"/>
            <a:chOff x="223920" y="1728720"/>
            <a:chExt cx="3228480" cy="4957560"/>
          </a:xfrm>
        </p:grpSpPr>
        <p:sp>
          <p:nvSpPr>
            <p:cNvPr id="268" name=""/>
            <p:cNvSpPr/>
            <p:nvPr/>
          </p:nvSpPr>
          <p:spPr>
            <a:xfrm>
              <a:off x="576360" y="1728720"/>
              <a:ext cx="2658960" cy="168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01480" y="2223720"/>
              <a:ext cx="363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ЗАКОН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1040" y="2223720"/>
              <a:ext cx="47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바탕"/>
                  <a:ea typeface="Arial"/>
                </a:rPr>
                <a:t>УКРАЇН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1743120" y="1814400"/>
              <a:ext cx="249120" cy="343080"/>
              <a:chOff x="1743120" y="1814400"/>
              <a:chExt cx="249120" cy="343080"/>
            </a:xfrm>
          </p:grpSpPr>
          <p:sp>
            <p:nvSpPr>
              <p:cNvPr id="272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43120" y="1814400"/>
                <a:ext cx="24732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2480" y="1823760"/>
                <a:ext cx="239760" cy="333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6" name="" descr=""/>
            <p:cNvPicPr/>
            <p:nvPr/>
          </p:nvPicPr>
          <p:blipFill>
            <a:blip r:embed="rId4"/>
            <a:stretch/>
          </p:blipFill>
          <p:spPr>
            <a:xfrm>
              <a:off x="1004760" y="2634840"/>
              <a:ext cx="2447640" cy="337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5"/>
            <a:stretch/>
          </p:blipFill>
          <p:spPr>
            <a:xfrm>
              <a:off x="223920" y="3426480"/>
              <a:ext cx="2529000" cy="325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769080" y="1017720"/>
            <a:ext cx="28447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Третин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3200" spc="-1" strike="noStrike">
                <a:solidFill>
                  <a:srgbClr val="003300"/>
                </a:solidFill>
                <a:latin typeface="Bookman Old Style"/>
              </a:rPr>
              <a:t>рів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184640" y="2600280"/>
            <a:ext cx="1770120" cy="2755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58680"/>
            <a:ext cx="972180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Оптимізація ресурсів високоспеціалізовано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пери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97120" y="131616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man Old Style"/>
              </a:rPr>
              <a:t>ДРЦОМ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3213000"/>
            <a:ext cx="2832120" cy="1285920"/>
          </a:xfrm>
          <a:custGeom>
            <a:avLst/>
            <a:gdLst>
              <a:gd name="textAreaLeft" fmla="*/ 151560 w 2832120"/>
              <a:gd name="textAreaRight" fmla="*/ 2680560 w 2832120"/>
              <a:gd name="textAreaTop" fmla="*/ 151560 h 1285920"/>
              <a:gd name="textAreaBottom" fmla="*/ 1134360 h 1285920"/>
            </a:gdLst>
            <a:ahLst/>
            <a:rect l="textAreaLeft" t="textAreaTop" r="textAreaRight" b="textAreaBottom"/>
            <a:pathLst>
              <a:path w="475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3965" y="21600"/>
                </a:lnTo>
                <a:arcTo wR="3600" hR="3600" stAng="10800000" swAng="5400000"/>
                <a:lnTo>
                  <a:pt x="47565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ко-генет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69960" y="5187960"/>
            <a:ext cx="2832120" cy="1284120"/>
          </a:xfrm>
          <a:custGeom>
            <a:avLst/>
            <a:gdLst>
              <a:gd name="textAreaLeft" fmla="*/ 151200 w 2832120"/>
              <a:gd name="textAreaRight" fmla="*/ 2680920 w 2832120"/>
              <a:gd name="textAreaTop" fmla="*/ 151200 h 1284120"/>
              <a:gd name="textAreaBottom" fmla="*/ 1132920 h 1284120"/>
            </a:gdLst>
            <a:ahLst/>
            <a:rect l="textAreaLeft" t="textAreaTop" r="textAreaRight" b="textAreaBottom"/>
            <a:pathLst>
              <a:path w="4763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4031" y="21600"/>
                </a:lnTo>
                <a:arcTo wR="3600" hR="3600" stAng="10800000" swAng="5400000"/>
                <a:lnTo>
                  <a:pt x="47631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Донецьк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аціональ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медич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університ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99240" y="3094200"/>
            <a:ext cx="2679840" cy="1436400"/>
          </a:xfrm>
          <a:custGeom>
            <a:avLst/>
            <a:gdLst>
              <a:gd name="textAreaLeft" fmla="*/ 169200 w 2679840"/>
              <a:gd name="textAreaRight" fmla="*/ 2510640 w 2679840"/>
              <a:gd name="textAreaTop" fmla="*/ 169200 h 1436400"/>
              <a:gd name="textAreaBottom" fmla="*/ 1267200 h 1436400"/>
            </a:gdLst>
            <a:ahLst/>
            <a:rect l="textAreaLeft" t="textAreaTop" r="textAreaRight" b="textAreaBottom"/>
            <a:pathLst>
              <a:path w="402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694" y="21600"/>
                </a:lnTo>
                <a:arcTo wR="3600" hR="3600" stAng="10800000" swAng="5400000"/>
                <a:lnTo>
                  <a:pt x="40294" y="3600"/>
                </a:lnTo>
                <a:arcTo wR="3600" hR="3600" stAng="5400000" swAng="5400000"/>
                <a:close/>
              </a:path>
            </a:pathLst>
          </a:cu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Обласна дитяч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лікар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7480" y="5022720"/>
            <a:ext cx="2909880" cy="1511280"/>
          </a:xfrm>
          <a:prstGeom prst="hexagon">
            <a:avLst>
              <a:gd name="adj" fmla="val 48136"/>
              <a:gd name="vf" fmla="val 115470"/>
            </a:avLst>
          </a:prstGeom>
          <a:solidFill>
            <a:srgbClr val="dfc2bf"/>
          </a:solidFill>
          <a:ln w="22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9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396440" y="365400"/>
            <a:ext cx="6903360" cy="6835680"/>
            <a:chOff x="1396440" y="365400"/>
            <a:chExt cx="6903360" cy="6835680"/>
          </a:xfrm>
        </p:grpSpPr>
        <p:sp>
          <p:nvSpPr>
            <p:cNvPr id="288" name=""/>
            <p:cNvSpPr/>
            <p:nvPr/>
          </p:nvSpPr>
          <p:spPr>
            <a:xfrm rot="2700000">
              <a:off x="1892880" y="2606040"/>
              <a:ext cx="2358000" cy="2381760"/>
            </a:xfrm>
            <a:custGeom>
              <a:avLst/>
              <a:gdLst/>
              <a:ahLst/>
              <a:rect l="l" t="t" r="r" b="b"/>
              <a:pathLst>
                <a:path w="235" h="234">
                  <a:moveTo>
                    <a:pt x="0" y="0"/>
                  </a:moveTo>
                  <a:cubicBezTo>
                    <a:pt x="0" y="129"/>
                    <a:pt x="105" y="234"/>
                    <a:pt x="234" y="234"/>
                  </a:cubicBez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2700000">
              <a:off x="5441400" y="2616120"/>
              <a:ext cx="235872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5" y="235"/>
                  </a:moveTo>
                  <a:cubicBezTo>
                    <a:pt x="235" y="105"/>
                    <a:pt x="129" y="0"/>
                    <a:pt x="0" y="0"/>
                  </a:cubicBezTo>
                  <a:lnTo>
                    <a:pt x="0" y="235"/>
                  </a:lnTo>
                  <a:lnTo>
                    <a:pt x="235" y="235"/>
                  </a:lnTo>
                  <a:close/>
                </a:path>
              </a:pathLst>
            </a:custGeom>
            <a:solidFill>
              <a:srgbClr val="cc0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2700000">
              <a:off x="3670200" y="4325040"/>
              <a:ext cx="2358720" cy="239220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4"/>
                  </a:moveTo>
                  <a:cubicBezTo>
                    <a:pt x="129" y="235"/>
                    <a:pt x="235" y="129"/>
                    <a:pt x="235" y="0"/>
                  </a:cubicBezTo>
                  <a:lnTo>
                    <a:pt x="0" y="0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3333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2700000">
              <a:off x="3667680" y="848880"/>
              <a:ext cx="2358000" cy="239004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cubicBezTo>
                    <a:pt x="105" y="0"/>
                    <a:pt x="0" y="105"/>
                    <a:pt x="0" y="234"/>
                  </a:cubicBezTo>
                  <a:lnTo>
                    <a:pt x="235" y="235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80560" y="3480120"/>
              <a:ext cx="10731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Дитяч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лікран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52600" y="2148120"/>
              <a:ext cx="1319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003300"/>
                  </a:solidFill>
                  <a:latin typeface="Bookman Old Style"/>
                </a:rPr>
                <a:t>ДРЦОМД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17840" y="5225040"/>
              <a:ext cx="28044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Медико-генетичний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9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0480" y="3501720"/>
              <a:ext cx="216576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480" rIns="96480" tIns="48240" bIns="4824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Кардіохіругіч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uk-UA" sz="1700" spc="-1" strike="noStrike">
                  <a:solidFill>
                    <a:srgbClr val="ffffff"/>
                  </a:solidFill>
                  <a:latin typeface="Bookman Old Style"/>
                </a:rPr>
                <a:t>центр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3390840" y="3086280"/>
            <a:ext cx="2909880" cy="1420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Виїзні лікарсь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онсультатив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брига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82239E-006 L 0 0.25717 E">
                                      <p:cBhvr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3469E-006 L -0.32691 2.53469E-006 E">
                                      <p:cBhvr>
                                        <p:cTn id="17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80204E-006 L 0.31892 0.00023 E">
                                      <p:cBhvr>
                                        <p:cTn id="17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53284E-007 L 0.19288 -0.27775 E">
                                      <p:cBhvr>
                                        <p:cTn id="180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66512E-006 L -0.20486 -0.27266 E">
                                      <p:cBhvr>
                                        <p:cTn id="182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5280" y="144000"/>
            <a:ext cx="87505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800080"/>
                </a:solidFill>
                <a:latin typeface="Garamond"/>
              </a:rPr>
              <a:t>Аудит відповідності міжнародним стандар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23920" y="936720"/>
          <a:ext cx="9288360" cy="6080040"/>
        </p:xfrm>
        <a:graphic>
          <a:graphicData uri="http://schemas.openxmlformats.org/drawingml/2006/table">
            <a:tbl>
              <a:tblPr/>
              <a:tblGrid>
                <a:gridCol w="534960"/>
                <a:gridCol w="3151080"/>
                <a:gridCol w="1965240"/>
                <a:gridCol w="3637080"/>
              </a:tblGrid>
              <a:tr h="77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№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Характеристика Донецького регіонального центру охорони материнства та дитин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ність до міжнародних стандартів з організації робо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обхідні заходи для приведення закладу до міжнародних стандар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26208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труктура лікувального закла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бота підрозділів, завантаженість, кількість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Кваліфікація лікарів та середнього медичного персон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роведення навчальних тренінгів, особливо з середнім медичним персонал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37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Оснащення необхідним обладнанн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Потребує  дооснащення дихальною апаратурою відділення реанімації новонароджених (особливо для мало вагових); оновлення обладнання для операційного блоку, наркозно-дихальна та слідкуюча для відділення акушерської реаніма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иїзна консультативно-транспортна бригада екстреної акушерської та неонатологіч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відповідає частко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Забезпечення медичним транспортом з можливістю транспортування вагітних, роділь, породіль та новонароджених в тяжких ста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вентиляц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Система повітря та газопостачання в блоках інтенсивної терапі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еконструктивні роботи згідно з проектно-кошторисною документацією, розробленою сумісно з технічними консультантами  Проек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Штатний розкл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не відповідає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Garamond"/>
                          <a:ea typeface="Times New Roman"/>
                        </a:rPr>
                        <a:t>Розробка штатного розкладу для перинатального центру ІІІ рівня та погодження з МОЗ Украї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9469800" y="683424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71280"/>
            <a:ext cx="9721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Існуюча організація на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3200" spc="-1" strike="noStrike">
                <a:solidFill>
                  <a:srgbClr val="800080"/>
                </a:solidFill>
                <a:latin typeface="Garamond"/>
              </a:rPr>
              <a:t>неонатальної допом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2979720"/>
            <a:ext cx="6352920" cy="18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Вторинний 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uk-UA" sz="5700" spc="-1" strike="noStrike">
                <a:solidFill>
                  <a:srgbClr val="993300"/>
                </a:solidFill>
                <a:latin typeface="Bookman Old Style"/>
              </a:rPr>
              <a:t>рівень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3120" y="1297080"/>
            <a:ext cx="2144520" cy="1512720"/>
          </a:xfrm>
          <a:prstGeom prst="octagon">
            <a:avLst>
              <a:gd name="adj" fmla="val 2928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відділенн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Пологов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буди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789360" y="3157560"/>
            <a:ext cx="2143080" cy="1359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Неонат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регіональн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центр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75560" y="5408640"/>
            <a:ext cx="2219040" cy="13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Жіночі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консультації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Bookman Old Style"/>
              </a:rPr>
              <a:t>(ЦМЛ, ЦРЛ, М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397800" y="6788160"/>
            <a:ext cx="309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20:56:55Z</dcterms:created>
  <dc:creator>promo</dc:creator>
  <dc:description/>
  <dc:language>en-US</dc:language>
  <cp:lastModifiedBy>MIHP</cp:lastModifiedBy>
  <dcterms:modified xsi:type="dcterms:W3CDTF">2011-08-17T08:07:39Z</dcterms:modified>
  <cp:revision>439</cp:revision>
  <dc:subject/>
  <dc:title>Слайд 1</dc:title>
</cp:coreProperties>
</file>