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169-1292-4FBB-80D8-E77784E9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69C-024D-470F-A182-86EB5CB1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38F-1E34-49B7-8602-4D90B088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0C5-E9B0-4D7A-9288-AB0878E1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69FE-92B3-41AD-8508-FDF50C49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C7E4-C477-49E6-B040-E4C624F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F2BC-DDDF-4CD3-BE53-3FE60EAE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02AF-8B98-4D6C-8B7A-2018D318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9D19-94CC-41C7-A48B-44D9A420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505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4B50-8544-4B7C-8776-23EEAD83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D5CE-6432-4A47-B9E7-E7BF87E8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909-F24A-45AD-B588-0902F316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2DAE-0B4E-48EA-BDD8-EC16A77C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90E3-2C13-4759-BE6C-580FF5DD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CCF2-C4C8-49B7-A124-496A24D7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83BB-E51B-4886-80C2-5C15AB23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4376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0260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528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4376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0260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D5AF-079F-49B2-94D9-087DAB08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44E4-141B-451A-97D2-A25E3EDC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B604-6EB0-4529-BB40-945935D8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162E-25BA-4175-8CFE-9139C6A7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0EB8-BDFE-4183-9476-5F4AC4CD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898B-F563-4D78-9F4A-24011F5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CD7-242B-478B-B71D-CC0E00B3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505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5C83-AE08-4C24-B79E-66344870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42A0-371F-4998-9A58-C5420AFB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0527-5EE0-429B-AE08-A26BCC3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2FC6-6EA3-4868-AF9D-641A8DFF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AC0B-F498-4137-AB7B-E846600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58A2-E8ED-4574-B56B-C01752B7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4376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260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528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4376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260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211A-6B66-48C1-AC0D-4A1AEAAD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AC8-662E-4A6D-A1BF-47BF9AD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7CD-16D5-48D5-A0EE-57610841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505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719-68A7-4467-B43D-E81A48F3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F3F-4E8B-4C57-B475-CC5BD033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C78-E790-44ED-8916-4807534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DE7-8E0B-405F-A409-751432A0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27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27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27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55776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2800" y="6557760"/>
            <a:ext cx="30765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55776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4918-06D1-45F8-868D-E737AA983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9840" y="1920960"/>
            <a:ext cx="9381600" cy="5279760"/>
            <a:chOff x="339840" y="1920960"/>
            <a:chExt cx="9381600" cy="5279760"/>
          </a:xfrm>
        </p:grpSpPr>
        <p:sp>
          <p:nvSpPr>
            <p:cNvPr id="42" name=""/>
            <p:cNvSpPr/>
            <p:nvPr/>
          </p:nvSpPr>
          <p:spPr>
            <a:xfrm>
              <a:off x="891360" y="4849200"/>
              <a:ext cx="8829720" cy="23515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54960" y="1920960"/>
              <a:ext cx="9366480" cy="5279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91360" y="4887360"/>
              <a:ext cx="8829720" cy="23133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91360" y="1920960"/>
              <a:ext cx="777528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91360" y="1920960"/>
              <a:ext cx="48960" cy="29746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9920" y="4840920"/>
              <a:ext cx="48960" cy="23598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9840" y="4840920"/>
              <a:ext cx="485892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9840" y="4840920"/>
              <a:ext cx="50760" cy="23598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9064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646080" y="6557760"/>
            <a:ext cx="307836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737568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23A24-B157-4748-AEA7-D0511E56ED59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85280" y="257040"/>
            <a:ext cx="8915400" cy="1503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7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90280" y="2000160"/>
            <a:ext cx="8513640" cy="4400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301680">
              <a:spcBef>
                <a:spcPts val="85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92360" indent="-241560">
              <a:spcBef>
                <a:spcPts val="85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176560" indent="-243000"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176560" indent="-243000"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176560" indent="-243000"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39840" y="1839960"/>
            <a:ext cx="9381600" cy="5385960"/>
            <a:chOff x="339840" y="1839960"/>
            <a:chExt cx="9381600" cy="5385960"/>
          </a:xfrm>
        </p:grpSpPr>
        <p:sp>
          <p:nvSpPr>
            <p:cNvPr id="92" name=""/>
            <p:cNvSpPr/>
            <p:nvPr/>
          </p:nvSpPr>
          <p:spPr>
            <a:xfrm>
              <a:off x="354960" y="1839960"/>
              <a:ext cx="9366480" cy="53611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91360" y="4000320"/>
              <a:ext cx="8829720" cy="32007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9840" y="3962160"/>
              <a:ext cx="583092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91360" y="1839960"/>
              <a:ext cx="825948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9840" y="3962160"/>
              <a:ext cx="50760" cy="32637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1360" y="1839960"/>
              <a:ext cx="48960" cy="537624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52280" y="1999800"/>
            <a:ext cx="8264520" cy="182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57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105264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687840" y="6557760"/>
            <a:ext cx="307800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737568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4F497-A32C-4E2F-81A7-A1A6C5142D53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88920" y="189000"/>
          <a:ext cx="814320" cy="113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89000"/>
                    <a:ext cx="8143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8602560" y="200160"/>
          <a:ext cx="1068480" cy="12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02560" y="200160"/>
                    <a:ext cx="106848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928800" y="546120"/>
            <a:ext cx="784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Головне управління охорони здоро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'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я Донецької облдержадміністр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9080" y="3168720"/>
            <a:ext cx="9146520" cy="2376360"/>
            <a:chOff x="289080" y="3168720"/>
            <a:chExt cx="9146520" cy="2376360"/>
          </a:xfrm>
        </p:grpSpPr>
        <p:sp>
          <p:nvSpPr>
            <p:cNvPr id="144" name=""/>
            <p:cNvSpPr/>
            <p:nvPr/>
          </p:nvSpPr>
          <p:spPr>
            <a:xfrm>
              <a:off x="289080" y="3168720"/>
              <a:ext cx="9146520" cy="1222200"/>
            </a:xfrm>
            <a:prstGeom prst="rect">
              <a:avLst/>
            </a:prstGeom>
            <a:solidFill>
              <a:srgbClr val="0000ff">
                <a:alpha val="70000"/>
              </a:srgbClr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ffff00"/>
                  </a:solidFill>
                  <a:latin typeface="Garamond"/>
                </a:rPr>
                <a:t>Концепція удосконалення перинатальної допомог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9080" y="4390920"/>
              <a:ext cx="9146520" cy="115416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0000ff"/>
                  </a:solidFill>
                  <a:latin typeface="Garamond"/>
                </a:rPr>
                <a:t>в Донецькій області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2720" y="6264360"/>
            <a:ext cx="626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Georgia"/>
              </a:rPr>
              <a:t>Заступник начальника головного управління Качур О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30760" y="4975200"/>
            <a:ext cx="2027160" cy="20970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ccecff"/>
                </a:solidFill>
                <a:latin typeface="Bookman Old Style"/>
              </a:rPr>
              <a:t>ЦПМС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2682720"/>
            <a:ext cx="635292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ff9933"/>
                </a:solidFill>
                <a:latin typeface="Bookman Old Style"/>
              </a:rPr>
              <a:t>Вторинни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ff9933"/>
                </a:solidFill>
                <a:latin typeface="Bookman Old Style"/>
              </a:rPr>
              <a:t>рівень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47720" y="5103720"/>
            <a:ext cx="635328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0066ff"/>
                </a:solidFill>
                <a:latin typeface="Bookman Old Style"/>
              </a:rPr>
              <a:t>Первинни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0066ff"/>
                </a:solidFill>
                <a:latin typeface="Bookman Old Style"/>
              </a:rPr>
              <a:t>рівень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775560" y="5792760"/>
            <a:ext cx="2218680" cy="680760"/>
            <a:chOff x="6775560" y="5792760"/>
            <a:chExt cx="2218680" cy="680760"/>
          </a:xfrm>
        </p:grpSpPr>
        <p:sp>
          <p:nvSpPr>
            <p:cNvPr id="311" name=""/>
            <p:cNvSpPr/>
            <p:nvPr/>
          </p:nvSpPr>
          <p:spPr>
            <a:xfrm>
              <a:off x="6775560" y="5792760"/>
              <a:ext cx="2218680" cy="6807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14440" y="5985720"/>
              <a:ext cx="212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0000"/>
                  </a:solidFill>
                  <a:latin typeface="Bookman Old Style"/>
                </a:rPr>
                <a:t>лікар-консультан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775560" y="5111640"/>
            <a:ext cx="2219040" cy="831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Bookman Old Style"/>
              </a:rPr>
              <a:t>Консультативно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Bookman Old Style"/>
              </a:rPr>
              <a:t>діагностич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Bookman Old Style"/>
              </a:rPr>
              <a:t>цент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75560" y="5111640"/>
            <a:ext cx="2219040" cy="13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Bookman Old Style"/>
              </a:rPr>
              <a:t>Жіноч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Bookman Old Style"/>
              </a:rPr>
              <a:t>консульт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5160"/>
            <a:ext cx="9721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Розмежування надання перинаталь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3120" y="1407960"/>
            <a:ext cx="2144520" cy="1513080"/>
          </a:xfrm>
          <a:prstGeom prst="octagon">
            <a:avLst>
              <a:gd name="adj" fmla="val 2928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ідділе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уди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73520" y="2828880"/>
            <a:ext cx="2144520" cy="136044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еринат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регіон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центр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06680" y="936720"/>
            <a:ext cx="2908440" cy="1422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иїз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лікарсько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консультатив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рига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6763E-006 L 0.00087 -0.29295 E">
                                      <p:cBhvr>
                                        <p:cTn id="226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9769E-006 L 0.00399 -0.52948 E">
                                      <p:cBhvr>
                                        <p:cTn id="250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6185E-006 L -0.31094 0.0578 E">
                                      <p:cBhvr>
                                        <p:cTn id="252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584440" y="5761080"/>
            <a:ext cx="4103640" cy="100800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50000">
                <a:srgbClr val="740074"/>
              </a:gs>
              <a:gs pos="100000">
                <a:srgbClr val="cc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Оптимізація мережі та ресурс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5280" y="72720"/>
            <a:ext cx="8750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800080"/>
                </a:solidFill>
                <a:latin typeface="Garamond"/>
              </a:rPr>
              <a:t>Обґрунтування закриття малопотужних пологових</a:t>
            </a:r>
            <a:br>
              <a:rPr sz="2500"/>
            </a:br>
            <a:r>
              <a:rPr b="1" lang="uk-UA" sz="2500" spc="-1" strike="noStrike">
                <a:solidFill>
                  <a:srgbClr val="800080"/>
                </a:solidFill>
                <a:latin typeface="Garamond"/>
              </a:rPr>
              <a:t>відділен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8000" y="1224000"/>
            <a:ext cx="503280" cy="43164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00" y="3325680"/>
            <a:ext cx="501480" cy="43200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8000" y="5365800"/>
            <a:ext cx="503280" cy="43164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02320" y="5370480"/>
            <a:ext cx="505080" cy="43200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73880" y="3370320"/>
            <a:ext cx="503280" cy="43164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560" y="1231920"/>
            <a:ext cx="2846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Старобешевсь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3960" y="3333600"/>
            <a:ext cx="144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Дебальце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2080" y="5408640"/>
            <a:ext cx="125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Кіровсь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3760" y="1425600"/>
            <a:ext cx="1110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Авдії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32440" y="3379680"/>
            <a:ext cx="3018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В.-Новоселківсь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54400" y="5398920"/>
            <a:ext cx="28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Олександрівсь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904840" y="1440000"/>
            <a:ext cx="3362760" cy="4321080"/>
            <a:chOff x="2904840" y="1440000"/>
            <a:chExt cx="3362760" cy="4321080"/>
          </a:xfrm>
        </p:grpSpPr>
        <p:sp>
          <p:nvSpPr>
            <p:cNvPr id="334" name=""/>
            <p:cNvSpPr/>
            <p:nvPr/>
          </p:nvSpPr>
          <p:spPr>
            <a:xfrm>
              <a:off x="3217680" y="1440000"/>
              <a:ext cx="2736360" cy="4321080"/>
            </a:xfrm>
            <a:prstGeom prst="downArrowCallout">
              <a:avLst>
                <a:gd name="adj1" fmla="val 35827"/>
                <a:gd name="adj2" fmla="val 25000"/>
                <a:gd name="adj3" fmla="val 21581"/>
                <a:gd name="adj4" fmla="val 77407"/>
              </a:avLst>
            </a:prstGeom>
            <a:gradFill rotWithShape="0">
              <a:gsLst>
                <a:gs pos="0">
                  <a:srgbClr val="cc00cc">
                    <a:alpha val="81176"/>
                  </a:srgbClr>
                </a:gs>
                <a:gs pos="100000">
                  <a:srgbClr val="f7de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4840" y="1457280"/>
              <a:ext cx="3362760" cy="32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дискваліфікаці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мед. персоналу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неналежний матеріаль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технічний стан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порушення принципі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безпечного материнства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необґрунтовані бюджетн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витрати на утриманн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ліжкового фонд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2280" y="1655640"/>
            <a:ext cx="300924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40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5,1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неонатолог за сумісництв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цілодобового по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анестезі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20" y="3757680"/>
            <a:ext cx="300924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54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9,9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неонатолог за сумісництв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цілодобового по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анестезі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640" y="5797440"/>
            <a:ext cx="2570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55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теринськ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19880" y="1636560"/>
            <a:ext cx="27241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302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5,1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23480" y="3794040"/>
            <a:ext cx="25045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10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8,3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неонат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53360" y="5786280"/>
            <a:ext cx="27241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19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теринськ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неонат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02320" y="1239840"/>
            <a:ext cx="505080" cy="43164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481880" y="5670720"/>
            <a:ext cx="21258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Облас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перинатальний цен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887480" y="727200"/>
          <a:ext cx="5792760" cy="635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87480" y="727200"/>
                    <a:ext cx="579276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860480" y="727200"/>
          <a:ext cx="5794560" cy="635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0480" y="727200"/>
                    <a:ext cx="579456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396720" y="46080"/>
            <a:ext cx="88426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700" spc="-1" strike="noStrike">
                <a:solidFill>
                  <a:srgbClr val="800080"/>
                </a:solidFill>
                <a:latin typeface="Georgia"/>
              </a:rPr>
              <a:t>Мережа перинатальних центрі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937040" y="1332000"/>
            <a:ext cx="2601360" cy="2114280"/>
            <a:chOff x="4937040" y="1332000"/>
            <a:chExt cx="2601360" cy="2114280"/>
          </a:xfrm>
        </p:grpSpPr>
        <p:sp>
          <p:nvSpPr>
            <p:cNvPr id="351" name=""/>
            <p:cNvSpPr/>
            <p:nvPr/>
          </p:nvSpPr>
          <p:spPr>
            <a:xfrm>
              <a:off x="4937040" y="3070080"/>
              <a:ext cx="457200" cy="376200"/>
            </a:xfrm>
            <a:custGeom>
              <a:avLst/>
              <a:gdLst>
                <a:gd name="textAreaLeft" fmla="*/ 147600 w 457200"/>
                <a:gd name="textAreaRight" fmla="*/ 309600 w 457200"/>
                <a:gd name="textAreaTop" fmla="*/ 121680 h 376200"/>
                <a:gd name="textAreaBottom" fmla="*/ 254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983" y="6983"/>
                  </a:lnTo>
                  <a:lnTo>
                    <a:pt x="10800" y="0"/>
                  </a:lnTo>
                  <a:lnTo>
                    <a:pt x="14617" y="6983"/>
                  </a:lnTo>
                  <a:lnTo>
                    <a:pt x="21600" y="10800"/>
                  </a:lnTo>
                  <a:lnTo>
                    <a:pt x="14617" y="14617"/>
                  </a:lnTo>
                  <a:lnTo>
                    <a:pt x="10800" y="21600"/>
                  </a:lnTo>
                  <a:lnTo>
                    <a:pt x="6983" y="146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85800" y="1332000"/>
              <a:ext cx="1452600" cy="603360"/>
            </a:xfrm>
            <a:prstGeom prst="wedgeRectCallout">
              <a:avLst>
                <a:gd name="adj1" fmla="val -103194"/>
                <a:gd name="adj2" fmla="val 241435"/>
              </a:avLst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ТМО “Сім</a:t>
              </a:r>
              <a:r>
                <a:rPr b="1" lang="en-US" sz="1700" spc="-1" strike="noStrike">
                  <a:solidFill>
                    <a:srgbClr val="000000"/>
                  </a:solidFill>
                  <a:latin typeface="Garamond"/>
                </a:rPr>
                <a:t>’</a:t>
              </a: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я і здоров</a:t>
              </a:r>
              <a:r>
                <a:rPr b="1" lang="en-US" sz="1700" spc="-1" strike="noStrike">
                  <a:solidFill>
                    <a:srgbClr val="000000"/>
                  </a:solidFill>
                  <a:latin typeface="Garamond"/>
                </a:rPr>
                <a:t>’</a:t>
              </a: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819680" y="3220920"/>
            <a:ext cx="3103200" cy="884160"/>
            <a:chOff x="4819680" y="3220920"/>
            <a:chExt cx="3103200" cy="884160"/>
          </a:xfrm>
        </p:grpSpPr>
        <p:sp>
          <p:nvSpPr>
            <p:cNvPr id="354" name=""/>
            <p:cNvSpPr/>
            <p:nvPr/>
          </p:nvSpPr>
          <p:spPr>
            <a:xfrm>
              <a:off x="6600960" y="3220920"/>
              <a:ext cx="1321920" cy="379440"/>
            </a:xfrm>
            <a:prstGeom prst="wedgeRectCallout">
              <a:avLst>
                <a:gd name="adj1" fmla="val -162388"/>
                <a:gd name="adj2" fmla="val 132458"/>
              </a:avLst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МЛ № 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19680" y="3728880"/>
              <a:ext cx="459360" cy="376200"/>
            </a:xfrm>
            <a:custGeom>
              <a:avLst/>
              <a:gdLst>
                <a:gd name="textAreaLeft" fmla="*/ 155880 w 459360"/>
                <a:gd name="textAreaRight" fmla="*/ 303480 w 459360"/>
                <a:gd name="textAreaTop" fmla="*/ 127800 h 376200"/>
                <a:gd name="textAreaBottom" fmla="*/ 24840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73800" y="3525840"/>
            <a:ext cx="23004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91120" y="4809960"/>
            <a:ext cx="22860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40360" y="3630600"/>
            <a:ext cx="23004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49760" y="2921040"/>
            <a:ext cx="228600" cy="2253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02080" y="3978360"/>
            <a:ext cx="763560" cy="34740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 Antiqua"/>
              </a:rPr>
              <a:t>ОП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103480" y="1177920"/>
            <a:ext cx="2374200" cy="1096560"/>
            <a:chOff x="2103480" y="1177920"/>
            <a:chExt cx="2374200" cy="1096560"/>
          </a:xfrm>
        </p:grpSpPr>
        <p:sp>
          <p:nvSpPr>
            <p:cNvPr id="362" name=""/>
            <p:cNvSpPr/>
            <p:nvPr/>
          </p:nvSpPr>
          <p:spPr>
            <a:xfrm>
              <a:off x="2103480" y="1177920"/>
              <a:ext cx="1530720" cy="453240"/>
            </a:xfrm>
            <a:prstGeom prst="wedgeRectCallout">
              <a:avLst>
                <a:gd name="adj1" fmla="val 85171"/>
                <a:gd name="adj2" fmla="val 145953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МЛ №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19040" y="1897920"/>
              <a:ext cx="458640" cy="37656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560"/>
                <a:gd name="textAreaBottom" fmla="*/ 248760 h 3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20840" y="2916360"/>
            <a:ext cx="2923560" cy="485280"/>
            <a:chOff x="420840" y="2916360"/>
            <a:chExt cx="2923560" cy="485280"/>
          </a:xfrm>
        </p:grpSpPr>
        <p:sp>
          <p:nvSpPr>
            <p:cNvPr id="365" name=""/>
            <p:cNvSpPr/>
            <p:nvPr/>
          </p:nvSpPr>
          <p:spPr>
            <a:xfrm>
              <a:off x="420840" y="2916360"/>
              <a:ext cx="1757880" cy="455400"/>
            </a:xfrm>
            <a:prstGeom prst="wedgeRectCallout">
              <a:avLst>
                <a:gd name="adj1" fmla="val 103550"/>
                <a:gd name="adj2" fmla="val 21060"/>
              </a:avLst>
            </a:prstGeom>
            <a:solidFill>
              <a:srgbClr val="ffffff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ЦР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85760" y="3024720"/>
              <a:ext cx="458640" cy="37692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920"/>
                <a:gd name="textAreaBottom" fmla="*/ 249120 h 37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492200" y="3965400"/>
            <a:ext cx="2890440" cy="1147680"/>
            <a:chOff x="1492200" y="3965400"/>
            <a:chExt cx="2890440" cy="1147680"/>
          </a:xfrm>
        </p:grpSpPr>
        <p:sp>
          <p:nvSpPr>
            <p:cNvPr id="368" name=""/>
            <p:cNvSpPr/>
            <p:nvPr/>
          </p:nvSpPr>
          <p:spPr>
            <a:xfrm>
              <a:off x="1492200" y="4658400"/>
              <a:ext cx="1758240" cy="454680"/>
            </a:xfrm>
            <a:prstGeom prst="wedgeRectCallout">
              <a:avLst>
                <a:gd name="adj1" fmla="val 101726"/>
                <a:gd name="adj2" fmla="val -160625"/>
              </a:avLst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ЦМКЛ № 3 і 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24000" y="3965400"/>
              <a:ext cx="458640" cy="37620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200"/>
                <a:gd name="textAreaBottom" fmla="*/ 24840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021200" y="6035760"/>
            <a:ext cx="3138120" cy="893160"/>
            <a:chOff x="4021200" y="6035760"/>
            <a:chExt cx="3138120" cy="893160"/>
          </a:xfrm>
        </p:grpSpPr>
        <p:sp>
          <p:nvSpPr>
            <p:cNvPr id="371" name=""/>
            <p:cNvSpPr/>
            <p:nvPr/>
          </p:nvSpPr>
          <p:spPr>
            <a:xfrm>
              <a:off x="4785480" y="6322320"/>
              <a:ext cx="2373840" cy="606600"/>
            </a:xfrm>
            <a:prstGeom prst="wedgeRectCallout">
              <a:avLst>
                <a:gd name="adj1" fmla="val -70824"/>
                <a:gd name="adj2" fmla="val -65935"/>
              </a:avLst>
            </a:prstGeom>
            <a:solidFill>
              <a:srgbClr val="ffff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Пологовий будинок №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21200" y="6035760"/>
              <a:ext cx="458640" cy="37656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560"/>
                <a:gd name="textAreaBottom" fmla="*/ 248760 h 3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2563920" y="4357800"/>
            <a:ext cx="230040" cy="2253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84600" y="2136600"/>
            <a:ext cx="23004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54960" y="5629320"/>
            <a:ext cx="763560" cy="34596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 Antiqua"/>
              </a:rPr>
              <a:t>ОП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02680" y="6523200"/>
            <a:ext cx="21952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Малопотуж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пологові відділен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99240" y="6594480"/>
            <a:ext cx="22716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336240" y="6905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08000" y="431640"/>
            <a:ext cx="5905800" cy="1295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Зміна механізмів фінанс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46000" y="3498840"/>
            <a:ext cx="6696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еведення фінансування перинатальних цент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 обласний рів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46000" y="454356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Перехід до програмно-цільового методу фінанс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инатальної служ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6000" y="544356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Залучення інвести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91800"/>
            <a:ext cx="9721800" cy="664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Bookman Old Style"/>
              </a:rPr>
              <a:t>Орієнтовна структура джерел фінансування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Bookman Old Style"/>
              </a:rPr>
              <a:t>із залученням інвестиційних кош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-1152720" y="1280520"/>
            <a:ext cx="5244480" cy="5244840"/>
            <a:chOff x="-1152720" y="1280520"/>
            <a:chExt cx="5244480" cy="5244840"/>
          </a:xfrm>
        </p:grpSpPr>
        <p:sp>
          <p:nvSpPr>
            <p:cNvPr id="387" name=""/>
            <p:cNvSpPr/>
            <p:nvPr/>
          </p:nvSpPr>
          <p:spPr>
            <a:xfrm rot="2700000">
              <a:off x="-402840" y="2066760"/>
              <a:ext cx="3745080" cy="3672000"/>
            </a:xfrm>
            <a:custGeom>
              <a:avLst/>
              <a:gdLst/>
              <a:ahLst/>
              <a:rect l="l" t="t" r="r" b="b"/>
              <a:pathLst>
                <a:path w="235" h="234">
                  <a:moveTo>
                    <a:pt x="0" y="0"/>
                  </a:moveTo>
                  <a:cubicBezTo>
                    <a:pt x="0" y="129"/>
                    <a:pt x="105" y="234"/>
                    <a:pt x="234" y="234"/>
                  </a:cubicBez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120" y="3498840"/>
              <a:ext cx="3051360" cy="8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Bookman Old Style"/>
                </a:rPr>
                <a:t>Дитяча лікар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Інвестиції - 6 млн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592960" y="1305000"/>
            <a:ext cx="5185080" cy="5184720"/>
            <a:chOff x="5592960" y="1305000"/>
            <a:chExt cx="5185080" cy="5184720"/>
          </a:xfrm>
        </p:grpSpPr>
        <p:sp>
          <p:nvSpPr>
            <p:cNvPr id="390" name=""/>
            <p:cNvSpPr/>
            <p:nvPr/>
          </p:nvSpPr>
          <p:spPr>
            <a:xfrm rot="2700000">
              <a:off x="6366240" y="2050200"/>
              <a:ext cx="3638520" cy="3693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5" y="235"/>
                  </a:moveTo>
                  <a:cubicBezTo>
                    <a:pt x="235" y="105"/>
                    <a:pt x="129" y="0"/>
                    <a:pt x="0" y="0"/>
                  </a:cubicBezTo>
                  <a:lnTo>
                    <a:pt x="0" y="235"/>
                  </a:lnTo>
                  <a:lnTo>
                    <a:pt x="235" y="235"/>
                  </a:lnTo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08520" y="2580840"/>
              <a:ext cx="2622960" cy="29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Bookman Old Style"/>
                </a:rPr>
                <a:t>Кардіохіругіч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Bookman Old Style"/>
                </a:rPr>
                <a:t>цен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Державний бюдж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– </a:t>
              </a: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40 млн. грн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Інвестиції - 1,5 млн. </a:t>
              </a: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$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Фонд Ріната Ахметова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Група “Норд”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БФ “Український да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життя”, СШ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ОП “Шах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ім. О.Ф. Засядька”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226600" y="3250440"/>
            <a:ext cx="5152320" cy="5152680"/>
            <a:chOff x="2226600" y="3250440"/>
            <a:chExt cx="5152320" cy="5152680"/>
          </a:xfrm>
        </p:grpSpPr>
        <p:sp>
          <p:nvSpPr>
            <p:cNvPr id="393" name=""/>
            <p:cNvSpPr/>
            <p:nvPr/>
          </p:nvSpPr>
          <p:spPr>
            <a:xfrm rot="13500000">
              <a:off x="3009600" y="3976560"/>
              <a:ext cx="3586320" cy="37004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cubicBezTo>
                    <a:pt x="105" y="0"/>
                    <a:pt x="0" y="105"/>
                    <a:pt x="0" y="234"/>
                  </a:cubicBezTo>
                  <a:lnTo>
                    <a:pt x="235" y="235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21600" y="5303880"/>
              <a:ext cx="427644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ffffff"/>
                  </a:solidFill>
                  <a:latin typeface="Bookman Old Style"/>
                </a:rPr>
                <a:t>Медико-генетичний цент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Державний бюджет – 532,0 тис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294280" y="-565920"/>
            <a:ext cx="5151240" cy="5151240"/>
            <a:chOff x="2294280" y="-565920"/>
            <a:chExt cx="5151240" cy="5151240"/>
          </a:xfrm>
        </p:grpSpPr>
        <p:sp>
          <p:nvSpPr>
            <p:cNvPr id="396" name=""/>
            <p:cNvSpPr/>
            <p:nvPr/>
          </p:nvSpPr>
          <p:spPr>
            <a:xfrm rot="2700000">
              <a:off x="3077280" y="159480"/>
              <a:ext cx="3584520" cy="37004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cubicBezTo>
                    <a:pt x="105" y="0"/>
                    <a:pt x="0" y="105"/>
                    <a:pt x="0" y="234"/>
                  </a:cubicBezTo>
                  <a:lnTo>
                    <a:pt x="235" y="235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48400" y="1261440"/>
              <a:ext cx="3802680" cy="16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003300"/>
                  </a:solidFill>
                  <a:latin typeface="Bookman Old Style"/>
                </a:rPr>
                <a:t>ДРЦОМ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Обласний бюджет – 4,99 млн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Інвестиції – 1,9 млн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Фонд Віктора Пінчука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ВООЗ, </a:t>
              </a:r>
              <a:r>
                <a:rPr b="0" lang="en-US" sz="1700" spc="-1" strike="noStrike">
                  <a:solidFill>
                    <a:srgbClr val="003300"/>
                  </a:solidFill>
                  <a:latin typeface="Bookman Old Style"/>
                </a:rPr>
                <a:t>UNICEF, USADI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Швейцарський проек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637080" y="3168720"/>
            <a:ext cx="2376360" cy="151128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Державни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15,7 млн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844640" y="433440"/>
            <a:ext cx="6046920" cy="1366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Підвищення якості та доступ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едичної допом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46000" y="331164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Впровадження протоколів і стандартів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инатальної допомоги на усіх рівн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6000" y="419112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Застосування нових прогресивних технологій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данні допомоги жінкам і ді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46000" y="529920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Покращення матеріально-технічного оснащ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инатальних центрів, придбання медич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обладнання відповідно до міжнарод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7560" y="6307200"/>
            <a:ext cx="66960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Організація роботи виїзних лікарсько-консультатив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бриг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781280" y="431640"/>
            <a:ext cx="6192720" cy="1511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Вирішення кадрового забезпе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служби надання допомоги ді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 матерям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46000" y="331164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Раціональне використання наявних кадрових ресурсів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ерозподіл функціональних обов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язків “лікар-мед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сестр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46000" y="4500720"/>
            <a:ext cx="6696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Безперервність навчання медичного персоналу акушерськ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гінекологічної служби (цикли перепідготовки, підвищ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кваліфікації, навчання на “робочому місці”, виїзні семінар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46000" y="544356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Збільшення державного замов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17560" y="6192720"/>
            <a:ext cx="6696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Підвищення мотивації до якісної роботи, у т.ч. поліпш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умов праці, забезпечення гідним житлом 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851120" y="431640"/>
            <a:ext cx="6048360" cy="1511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отивація населення до здор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способу жит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46000" y="322272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Активне проведення ро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яснювальної санітар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росвітницької роботи з популяризації здорового спосо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життя з широким використанням ресурсів ЗМІ, у т.ч. сай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6000" y="437364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Проведення проф. оглядів і своєчасне виявлення захворю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вань у школярів, студентів, працюючих; органі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оздоровлення вагітних і підліт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46000" y="532440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Розроблення системи стимулів до ведення здорового спосо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жит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7560" y="6192720"/>
            <a:ext cx="6696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Організація та проведення тематичних циклів з пи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здорового способу життя та збереження здоров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я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вчальних за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3"/>
          <p:cNvSpPr/>
          <p:nvPr/>
        </p:nvSpPr>
        <p:spPr>
          <a:xfrm>
            <a:off x="684360" y="1152360"/>
            <a:ext cx="8267400" cy="1727280"/>
          </a:xfrm>
          <a:prstGeom prst="downArrowCallout">
            <a:avLst>
              <a:gd name="adj1" fmla="val -104140"/>
              <a:gd name="adj2" fmla="val 119659"/>
              <a:gd name="adj3" fmla="val 16667"/>
              <a:gd name="adj4" fmla="val 6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Обласний регіональний перинатальний цент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  </a:t>
            </a: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7 регіональних перинатальних центр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2011-2013 ро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79360" y="3197160"/>
            <a:ext cx="1606680" cy="830160"/>
          </a:xfrm>
          <a:prstGeom prst="rightArrowCallout">
            <a:avLst>
              <a:gd name="adj1" fmla="val 25002"/>
              <a:gd name="adj2" fmla="val 25000"/>
              <a:gd name="adj3" fmla="val 29237"/>
              <a:gd name="adj4" fmla="val 6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І ета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295200" y="4530600"/>
            <a:ext cx="1657440" cy="831960"/>
          </a:xfrm>
          <a:prstGeom prst="rightArrowCallout">
            <a:avLst>
              <a:gd name="adj1" fmla="val 25002"/>
              <a:gd name="adj2" fmla="val 25000"/>
              <a:gd name="adj3" fmla="val 3019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ІІ ета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392040" y="5905440"/>
            <a:ext cx="1589040" cy="858960"/>
          </a:xfrm>
          <a:prstGeom prst="rightArrowCallout">
            <a:avLst>
              <a:gd name="adj1" fmla="val 25002"/>
              <a:gd name="adj2" fmla="val 25000"/>
              <a:gd name="adj3" fmla="val 2716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ІІІ ета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2179800" y="3286080"/>
            <a:ext cx="973080" cy="604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2236680" y="4626000"/>
            <a:ext cx="97308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2219400" y="6058080"/>
            <a:ext cx="995400" cy="52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3492360" y="3200400"/>
            <a:ext cx="6048360" cy="757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Створення обласного перинатального центру ІІІ рівня на баз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Донецького регіонального центр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охорони материнства та дитин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3492360" y="5737320"/>
            <a:ext cx="5991480" cy="11318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Створення регіональних перинатальних центрів ІІ рівн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Донецьк (ЦМКЛ №№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3,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Горлівка (ТМО “Сім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Arial"/>
              </a:rPr>
              <a:t>’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я і здоров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Arial"/>
              </a:rPr>
              <a:t>’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я”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Краматорськ (ЦМЛ №2), м. Красноармійськ (ЦРЛ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3492360" y="4530600"/>
            <a:ext cx="6048360" cy="7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Створення регіональних перинатальних центрів ІІ рів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в м. Макіївка (ЦМЛ № 3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Маріуполь (пологовий  будинок №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5640" y="144360"/>
            <a:ext cx="8750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Етапи реалізації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85280" y="71280"/>
            <a:ext cx="8750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План-графік створення ОПЦ на  2011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52360" y="776160"/>
          <a:ext cx="9288360" cy="6318360"/>
        </p:xfrm>
        <a:graphic>
          <a:graphicData uri="http://schemas.openxmlformats.org/drawingml/2006/table">
            <a:tbl>
              <a:tblPr/>
              <a:tblGrid>
                <a:gridCol w="436680"/>
                <a:gridCol w="4819680"/>
                <a:gridCol w="360360"/>
                <a:gridCol w="360360"/>
                <a:gridCol w="360360"/>
                <a:gridCol w="287280"/>
                <a:gridCol w="360360"/>
                <a:gridCol w="360360"/>
                <a:gridCol w="287280"/>
                <a:gridCol w="289080"/>
                <a:gridCol w="287280"/>
                <a:gridCol w="360360"/>
                <a:gridCol w="360360"/>
                <a:gridCol w="358560"/>
              </a:tblGrid>
              <a:tr h="474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х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7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внутрішнього аудиту закладів, що надають медичну допомогу дітям і матеря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зовнішнього аудиту комісією МОЗ Україн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технічного стану ДРЦОМД експертами Національного проек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ня складу робочої групи з підготовки та реалізації Національного проекту «Нове житт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ня заходів щодо реалізації Проекту розпорядженням голови облдержадміністр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ектно-кошторисної документації щодо ремонтно-реконструктивних робіт у ДРЦОМ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дерні процедури з реалізації Проек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аудиту акушерських закладів, на базі яких планується створення регіональних перинатальних центрів ІІ рів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штатного розкладу перинатального центру та погодження з МОЗ Украї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но-реконструктивні роботи згідно з розробленою проектно-кошторисною документацією технічними консуль-тантами Проекту, приведення технічного стану ДРЦОМД у відповідність до вимог ВОО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навчальних тренінгів із співробітниками ДРЦОМД фахівцями ДонНМУ, представниками ВООЗ, ЮНІСЕФ та ін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вітлення теми реорганізації перинатальної допомоги в засобах масової інформ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оснащення ДРЦОМД необхідним обладнанням, встановлення та введення в експлуатац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криття Обласного перинатального центр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39680"/>
            <a:ext cx="9036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Проблемні питання в системі на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медичної допомоги жінкам і ді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7760" y="863640"/>
          <a:ext cx="4241880" cy="292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60" y="863640"/>
                    <a:ext cx="4241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90360" y="4235400"/>
          <a:ext cx="4146840" cy="2903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360" y="4235400"/>
                    <a:ext cx="41468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559480" y="900000"/>
          <a:ext cx="4178160" cy="291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59480" y="900000"/>
                    <a:ext cx="41781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556240" y="4281480"/>
          <a:ext cx="409896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6240" y="4281480"/>
                    <a:ext cx="409896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276720" y="2952720"/>
            <a:ext cx="3168360" cy="22305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99"/>
                </a:solidFill>
                <a:latin typeface="Bookman Old Style"/>
              </a:rPr>
              <a:t>    </a:t>
            </a:r>
            <a:r>
              <a:rPr b="1" lang="uk-UA" sz="1400" spc="-1" strike="noStrike" u="sng">
                <a:solidFill>
                  <a:srgbClr val="ff33cc"/>
                </a:solidFill>
                <a:uFillTx/>
                <a:latin typeface="Bookman Old Style"/>
              </a:rPr>
              <a:t>Демографічна ситуаці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незадовільний стан здоров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жінок і ді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низький індекс репродуктив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ного   здоров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я населення;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зниження народжуван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депопуляція населення</a:t>
            </a:r>
            <a:r>
              <a:rPr b="0" lang="uk-UA" sz="1400" spc="-1" strike="noStrike">
                <a:solidFill>
                  <a:srgbClr val="333399"/>
                </a:solidFill>
                <a:latin typeface="Bookman Old Style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2840" y="360000"/>
            <a:ext cx="8915400" cy="1058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Garamond"/>
              </a:rPr>
              <a:t>РЕГИОНАЛЬНЫЙ ПЕРИНАТАЛЬНЫЙ ЦЕНТР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Garamond"/>
              </a:rPr>
              <a:t>(ДРЦОМД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0640" y="2000160"/>
            <a:ext cx="4178160" cy="4400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52360" y="1655640"/>
          <a:ext cx="9217080" cy="5418360"/>
        </p:xfrm>
        <a:graphic>
          <a:graphicData uri="http://schemas.openxmlformats.org/drawingml/2006/table">
            <a:tbl>
              <a:tblPr/>
              <a:tblGrid>
                <a:gridCol w="2305080"/>
                <a:gridCol w="2303640"/>
                <a:gridCol w="2360520"/>
                <a:gridCol w="2247840"/>
              </a:tblGrid>
              <a:tr h="69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АМБУЛАТОРНА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СТАЦІОНА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СЛУЖ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СПЕЦІАЛІЗОВАНА СЛУЖ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ОПОМІЖНА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пренатальної діагностики та медицини пл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ушерський</a:t>
                      </a: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0 + 50 ліж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ікувально-координаційний відді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Лабораторне відді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ультативна полікліні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анестезіології та інтенсивної терап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ультативно-транспортна акушерсько-гінекологічна та неонатологічна бриг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Центральне стерилізаційне відді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діагностики та лікування безплідного шлюб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новонародже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реанімації новонароджен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гравітаційної хірургії кро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Адміністративно-господарська служ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ови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інекологічний б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 ліж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ммологічне відді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“Молодіжна клінік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пароскопічна хіру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433680" y="1562040"/>
            <a:ext cx="3024360" cy="584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Georgia"/>
              </a:rPr>
              <a:t>Операційні цілі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88000" y="2160720"/>
            <a:ext cx="0" cy="367164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24000" y="3921120"/>
            <a:ext cx="4463640" cy="985320"/>
            <a:chOff x="324000" y="3921120"/>
            <a:chExt cx="4463640" cy="985320"/>
          </a:xfrm>
        </p:grpSpPr>
        <p:sp>
          <p:nvSpPr>
            <p:cNvPr id="442" name=""/>
            <p:cNvSpPr/>
            <p:nvPr/>
          </p:nvSpPr>
          <p:spPr>
            <a:xfrm>
              <a:off x="324000" y="3921120"/>
              <a:ext cx="3816360" cy="9853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Зміна механізмів фінанс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140000" y="4377960"/>
              <a:ext cx="6476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66840" y="5370480"/>
            <a:ext cx="3814560" cy="9270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Підвищення якості та доступ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ності медич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168800" y="5821200"/>
            <a:ext cx="61920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76640" y="2160720"/>
            <a:ext cx="0" cy="367164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91080" y="5283360"/>
            <a:ext cx="3818160" cy="1009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Мотивація населення до здо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вого способу жи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976640" y="5821200"/>
            <a:ext cx="5032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51480" y="3129120"/>
            <a:ext cx="3817800" cy="1177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Вирішення кадрового забезп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чення служби надання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дітям і матерям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71960" y="3672000"/>
            <a:ext cx="5032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2706840"/>
            <a:ext cx="3745080" cy="9842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Реорганізація системи на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перинаталь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140000" y="3174840"/>
            <a:ext cx="64764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2465280"/>
            <a:ext cx="4459320" cy="240372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Підготовка відповідних фахівці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Застосування дистанційних фор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авчанн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3. Цикли підвищення кваліфікації на баз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обласного перинатального центру 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виїзн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4. Підготовка фахівців на робочому місц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5. Перепідготовка фахівців шляхо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пеціалізації.</a:t>
            </a:r>
            <a:r>
              <a:rPr b="0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48360" y="5256360"/>
            <a:ext cx="4438440" cy="105084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Розробка системи стимулів до здоров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пособу життя (“стимул +”, “стимул –”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35480" y="1565280"/>
            <a:ext cx="3024000" cy="584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Georgia"/>
              </a:rPr>
              <a:t>Завдання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5760" y="428760"/>
            <a:ext cx="9325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cc"/>
                </a:solidFill>
                <a:latin typeface="Garamond"/>
              </a:rPr>
              <a:t>Науковий супровід реформи</a:t>
            </a:r>
            <a:br>
              <a:rPr sz="2800"/>
            </a:br>
            <a:r>
              <a:rPr b="1" lang="uk-UA" sz="2800" spc="-1" strike="noStrike">
                <a:solidFill>
                  <a:srgbClr val="9900cc"/>
                </a:solidFill>
                <a:latin typeface="Garamond"/>
              </a:rPr>
              <a:t>надання перинатальної допом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3840" y="2232000"/>
            <a:ext cx="4449600" cy="220356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аукове обґрунтування реорганізаці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истеми перинатальної допомог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шляхом створення мережі перинаталь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их центрів з урахуванням матеріально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технічних та кадрових ресурсів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кваліфікації персоналу, потоків пацієнтів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території обслуговування та закритт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малопотужних пологових стаціонарів</a:t>
            </a:r>
            <a:r>
              <a:rPr b="0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280" y="4883040"/>
            <a:ext cx="4448160" cy="182880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творення науково-обґрунтовано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истеми управління перинатально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допомоги в області з урахуванням рівні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адання медичної допомоги. Розроб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истеми моніторингу та оцін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результатів впровадження Проек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«Нове життя»</a:t>
            </a:r>
            <a:r>
              <a:rPr b="0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4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6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5560" y="122400"/>
            <a:ext cx="89154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Очікувані результати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впровадження 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9440" y="1422360"/>
            <a:ext cx="2143080" cy="960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Garamond"/>
                <a:ea typeface="Arial"/>
              </a:rPr>
              <a:t>демографіч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17960" y="1422360"/>
            <a:ext cx="2143080" cy="959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Garamond"/>
                <a:ea typeface="Arial"/>
              </a:rPr>
              <a:t>економіч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157880" y="1395360"/>
            <a:ext cx="2143440" cy="960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Garamond"/>
                <a:ea typeface="Arial"/>
              </a:rPr>
              <a:t>соці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3273480"/>
            <a:ext cx="3103560" cy="3770280"/>
          </a:xfrm>
          <a:custGeom>
            <a:avLst/>
            <a:gdLst>
              <a:gd name="textAreaLeft" fmla="*/ 151200 w 3103560"/>
              <a:gd name="textAreaRight" fmla="*/ 2952360 w 3103560"/>
              <a:gd name="textAreaTop" fmla="*/ 151200 h 3770280"/>
              <a:gd name="textAreaBottom" fmla="*/ 3619080 h 3770280"/>
            </a:gdLst>
            <a:ahLst/>
            <a:rect l="textAreaLeft" t="textAreaTop" r="textAreaRight" b="textAreaBottom"/>
            <a:pathLst>
              <a:path w="21600" h="26240">
                <a:moveTo>
                  <a:pt x="3600" y="0"/>
                </a:moveTo>
                <a:arcTo wR="3600" hR="3600" stAng="16200000" swAng="-5400000"/>
                <a:lnTo>
                  <a:pt x="0" y="22640"/>
                </a:lnTo>
                <a:arcTo wR="3600" hR="3600" stAng="10800000" swAng="-5400000"/>
                <a:lnTo>
                  <a:pt x="18000" y="26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- зниження</a:t>
            </a:r>
            <a:r>
              <a:rPr b="0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рівня малюково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смертності на 20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материнської смертност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 10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дитячо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інвалідност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ранньо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еонатальної смертност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рів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еринатальної смерт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о 8 на 1000  новонарод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же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30440" y="3273480"/>
            <a:ext cx="3264120" cy="3699000"/>
          </a:xfrm>
          <a:custGeom>
            <a:avLst/>
            <a:gdLst>
              <a:gd name="textAreaLeft" fmla="*/ 159120 w 3264120"/>
              <a:gd name="textAreaRight" fmla="*/ 3105000 w 3264120"/>
              <a:gd name="textAreaTop" fmla="*/ 159120 h 3699000"/>
              <a:gd name="textAreaBottom" fmla="*/ 3539880 h 3699000"/>
            </a:gdLst>
            <a:ahLst/>
            <a:rect l="textAreaLeft" t="textAreaTop" r="textAreaRight" b="textAreaBottom"/>
            <a:pathLst>
              <a:path w="21600" h="24477">
                <a:moveTo>
                  <a:pt x="3600" y="0"/>
                </a:moveTo>
                <a:arcTo wR="3600" hR="3600" stAng="16200000" swAng="-5400000"/>
                <a:lnTo>
                  <a:pt x="0" y="20877"/>
                </a:lnTo>
                <a:arcTo wR="3600" hR="3600" stAng="10800000" swAng="-5400000"/>
                <a:lnTo>
                  <a:pt x="18000" y="24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більшення чисе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рацездатного насел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ивільнення місцевих 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ержавних коштів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икористовувалися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утримання малопотуж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ідділ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окращення умов 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матеріально-техніч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стану закладів, що нада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опомогу матерям та ді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оптимізація терміну перебу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ання на стаціонар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ліжку породіль і нов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родже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59440" y="3298680"/>
            <a:ext cx="2660760" cy="3673800"/>
          </a:xfrm>
          <a:custGeom>
            <a:avLst/>
            <a:gdLst>
              <a:gd name="textAreaLeft" fmla="*/ 129600 w 2660760"/>
              <a:gd name="textAreaRight" fmla="*/ 2531160 w 2660760"/>
              <a:gd name="textAreaTop" fmla="*/ 129600 h 3673800"/>
              <a:gd name="textAreaBottom" fmla="*/ 3544200 h 3673800"/>
            </a:gdLst>
            <a:ahLst/>
            <a:rect l="textAreaLeft" t="textAreaTop" r="textAreaRight" b="textAreaBottom"/>
            <a:pathLst>
              <a:path w="21600" h="29823">
                <a:moveTo>
                  <a:pt x="3600" y="0"/>
                </a:moveTo>
                <a:arcTo wR="3600" hR="3600" stAng="16200000" swAng="-5400000"/>
                <a:lnTo>
                  <a:pt x="0" y="26223"/>
                </a:lnTo>
                <a:arcTo wR="3600" hR="3600" stAng="10800000" swAng="-5400000"/>
                <a:lnTo>
                  <a:pt x="18000" y="29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окращення як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та доступності пер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тальної допомо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селен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ідвищення престиж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ості праці медич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рацівник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окращення репр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уктивного здоров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‘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сел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22920" y="2316240"/>
            <a:ext cx="515880" cy="530280"/>
          </a:xfrm>
          <a:prstGeom prst="downArrow">
            <a:avLst>
              <a:gd name="adj1" fmla="val 50000"/>
              <a:gd name="adj2" fmla="val 256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65200" y="2343240"/>
            <a:ext cx="515880" cy="571320"/>
          </a:xfrm>
          <a:prstGeom prst="downArrow">
            <a:avLst>
              <a:gd name="adj1" fmla="val 50000"/>
              <a:gd name="adj2" fmla="val 276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988400" y="2316240"/>
            <a:ext cx="515880" cy="547560"/>
          </a:xfrm>
          <a:prstGeom prst="downArrow">
            <a:avLst>
              <a:gd name="adj1" fmla="val 50000"/>
              <a:gd name="adj2" fmla="val 265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85280" y="71280"/>
            <a:ext cx="8750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Прогноз індикаторів впровадження Проек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3016080" y="2592360"/>
          <a:ext cx="6705720" cy="146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080" y="2592360"/>
                    <a:ext cx="67057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3046320" y="917640"/>
          <a:ext cx="6677280" cy="160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6320" y="917640"/>
                    <a:ext cx="667728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3233880" y="5665680"/>
          <a:ext cx="6487920" cy="146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33880" y="5665680"/>
                    <a:ext cx="64879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3251160" y="4106880"/>
          <a:ext cx="6488280" cy="159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51160" y="4106880"/>
                    <a:ext cx="64882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614880" y="1622520"/>
            <a:ext cx="285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малюкова смер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4840" y="3092400"/>
            <a:ext cx="319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материнська смер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0120" y="4573440"/>
            <a:ext cx="321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хвороби репродуктивно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системи підліт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9920" y="6186600"/>
            <a:ext cx="240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інвалідність ді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26160" y="4565520"/>
            <a:ext cx="3251160" cy="457200"/>
          </a:xfrm>
          <a:custGeom>
            <a:avLst/>
            <a:gdLst/>
            <a:ahLst/>
            <a:rect l="l" t="t" r="r" b="b"/>
            <a:pathLst>
              <a:path w="2048" h="288">
                <a:moveTo>
                  <a:pt x="0" y="0"/>
                </a:moveTo>
                <a:cubicBezTo>
                  <a:pt x="112" y="19"/>
                  <a:pt x="446" y="85"/>
                  <a:pt x="672" y="116"/>
                </a:cubicBezTo>
                <a:cubicBezTo>
                  <a:pt x="898" y="147"/>
                  <a:pt x="1127" y="159"/>
                  <a:pt x="1356" y="188"/>
                </a:cubicBezTo>
                <a:cubicBezTo>
                  <a:pt x="1585" y="217"/>
                  <a:pt x="1904" y="267"/>
                  <a:pt x="2048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449920" y="4776840"/>
            <a:ext cx="826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10,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33840" y="1212840"/>
            <a:ext cx="3629160" cy="625320"/>
          </a:xfrm>
          <a:custGeom>
            <a:avLst/>
            <a:gdLst/>
            <a:ahLst/>
            <a:rect l="l" t="t" r="r" b="b"/>
            <a:pathLst>
              <a:path w="2286" h="394">
                <a:moveTo>
                  <a:pt x="0" y="16"/>
                </a:moveTo>
                <a:cubicBezTo>
                  <a:pt x="99" y="17"/>
                  <a:pt x="400" y="0"/>
                  <a:pt x="588" y="22"/>
                </a:cubicBezTo>
                <a:cubicBezTo>
                  <a:pt x="776" y="44"/>
                  <a:pt x="940" y="107"/>
                  <a:pt x="1128" y="148"/>
                </a:cubicBezTo>
                <a:cubicBezTo>
                  <a:pt x="1316" y="189"/>
                  <a:pt x="1523" y="227"/>
                  <a:pt x="1716" y="268"/>
                </a:cubicBezTo>
                <a:cubicBezTo>
                  <a:pt x="1909" y="309"/>
                  <a:pt x="2167" y="368"/>
                  <a:pt x="2286" y="39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14840" y="2932200"/>
            <a:ext cx="3414600" cy="215640"/>
          </a:xfrm>
          <a:custGeom>
            <a:avLst/>
            <a:gdLst/>
            <a:ahLst/>
            <a:rect l="l" t="t" r="r" b="b"/>
            <a:pathLst>
              <a:path w="2151" h="136">
                <a:moveTo>
                  <a:pt x="0" y="1"/>
                </a:moveTo>
                <a:cubicBezTo>
                  <a:pt x="88" y="4"/>
                  <a:pt x="355" y="0"/>
                  <a:pt x="531" y="18"/>
                </a:cubicBezTo>
                <a:cubicBezTo>
                  <a:pt x="707" y="36"/>
                  <a:pt x="878" y="91"/>
                  <a:pt x="1059" y="109"/>
                </a:cubicBezTo>
                <a:cubicBezTo>
                  <a:pt x="1240" y="127"/>
                  <a:pt x="1435" y="119"/>
                  <a:pt x="1617" y="124"/>
                </a:cubicBezTo>
                <a:cubicBezTo>
                  <a:pt x="1799" y="129"/>
                  <a:pt x="2040" y="134"/>
                  <a:pt x="2151" y="1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46680" y="6067440"/>
            <a:ext cx="3111480" cy="504720"/>
          </a:xfrm>
          <a:custGeom>
            <a:avLst/>
            <a:gdLst/>
            <a:ahLst/>
            <a:rect l="l" t="t" r="r" b="b"/>
            <a:pathLst>
              <a:path w="1959" h="318">
                <a:moveTo>
                  <a:pt x="0" y="0"/>
                </a:moveTo>
                <a:cubicBezTo>
                  <a:pt x="105" y="13"/>
                  <a:pt x="418" y="39"/>
                  <a:pt x="633" y="78"/>
                </a:cubicBezTo>
                <a:cubicBezTo>
                  <a:pt x="848" y="117"/>
                  <a:pt x="1072" y="197"/>
                  <a:pt x="1293" y="237"/>
                </a:cubicBezTo>
                <a:cubicBezTo>
                  <a:pt x="1514" y="277"/>
                  <a:pt x="1820" y="301"/>
                  <a:pt x="1959" y="31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492760" y="1622520"/>
            <a:ext cx="713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1,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59920" y="3164040"/>
            <a:ext cx="826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26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32200" y="6294600"/>
            <a:ext cx="713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0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679840" y="2239560"/>
            <a:ext cx="6008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cc0099"/>
                </a:solidFill>
                <a:latin typeface="Century Schoolbook"/>
              </a:rPr>
              <a:t>Дякую за увагу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xit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8000" y="2160"/>
            <a:ext cx="9397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Georgia"/>
              </a:rPr>
              <a:t>Мета Проекту: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ниження рівня материнської та малюкової смерт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cc33"/>
                </a:solidFill>
                <a:latin typeface="Georgia"/>
              </a:rPr>
              <a:t>Механізм: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безпечення населення доступною висококваліфікованою допомогою шляхом концентрації матеріально-технічних і кадрових ресурсів у мережі перинатальних цен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19560" y="2305080"/>
            <a:ext cx="3022560" cy="584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Georgia"/>
              </a:rPr>
              <a:t>Операційні цілі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5080" y="2898720"/>
            <a:ext cx="0" cy="341784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81080" y="4392720"/>
            <a:ext cx="4463640" cy="985320"/>
            <a:chOff x="181080" y="4392720"/>
            <a:chExt cx="4463640" cy="985320"/>
          </a:xfrm>
        </p:grpSpPr>
        <p:sp>
          <p:nvSpPr>
            <p:cNvPr id="162" name=""/>
            <p:cNvSpPr/>
            <p:nvPr/>
          </p:nvSpPr>
          <p:spPr>
            <a:xfrm>
              <a:off x="181080" y="4392720"/>
              <a:ext cx="3816360" cy="9853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Зміна механізмів фінанс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997080" y="4849560"/>
              <a:ext cx="6476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3920" y="5842080"/>
            <a:ext cx="4421160" cy="927000"/>
            <a:chOff x="223920" y="5842080"/>
            <a:chExt cx="4421160" cy="927000"/>
          </a:xfrm>
        </p:grpSpPr>
        <p:sp>
          <p:nvSpPr>
            <p:cNvPr id="165" name=""/>
            <p:cNvSpPr/>
            <p:nvPr/>
          </p:nvSpPr>
          <p:spPr>
            <a:xfrm>
              <a:off x="223920" y="5842080"/>
              <a:ext cx="3814560" cy="92700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Підвищення якості та доступ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ності медичної допом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025880" y="6307200"/>
              <a:ext cx="61920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076720" y="2889360"/>
            <a:ext cx="0" cy="288108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076720" y="5256360"/>
            <a:ext cx="4321440" cy="1008000"/>
            <a:chOff x="5076720" y="5256360"/>
            <a:chExt cx="4321440" cy="1008000"/>
          </a:xfrm>
        </p:grpSpPr>
        <p:sp>
          <p:nvSpPr>
            <p:cNvPr id="169" name=""/>
            <p:cNvSpPr/>
            <p:nvPr/>
          </p:nvSpPr>
          <p:spPr>
            <a:xfrm>
              <a:off x="5581800" y="5256360"/>
              <a:ext cx="3816360" cy="100800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Мотивація населення до здор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вого способу житт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76720" y="5764320"/>
              <a:ext cx="5032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076720" y="3600360"/>
            <a:ext cx="4321440" cy="1177560"/>
            <a:chOff x="5076720" y="3600360"/>
            <a:chExt cx="4321440" cy="1177560"/>
          </a:xfrm>
        </p:grpSpPr>
        <p:sp>
          <p:nvSpPr>
            <p:cNvPr id="172" name=""/>
            <p:cNvSpPr/>
            <p:nvPr/>
          </p:nvSpPr>
          <p:spPr>
            <a:xfrm>
              <a:off x="5580000" y="3600360"/>
              <a:ext cx="3818160" cy="117756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Вирішення кадрового забезп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чення служби надання допом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дітям і матерям</a:t>
              </a:r>
              <a:r>
                <a:rPr b="1" lang="ru-RU" sz="20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76720" y="4143600"/>
              <a:ext cx="5032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2360" y="3178080"/>
            <a:ext cx="4392360" cy="984240"/>
            <a:chOff x="252360" y="3178080"/>
            <a:chExt cx="4392360" cy="984240"/>
          </a:xfrm>
        </p:grpSpPr>
        <p:sp>
          <p:nvSpPr>
            <p:cNvPr id="175" name=""/>
            <p:cNvSpPr/>
            <p:nvPr/>
          </p:nvSpPr>
          <p:spPr>
            <a:xfrm>
              <a:off x="252360" y="3178080"/>
              <a:ext cx="3745080" cy="9842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Реорганізація системи над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перинатальної допом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997080" y="3646440"/>
              <a:ext cx="6476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8000" y="433440"/>
            <a:ext cx="5905800" cy="1295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Реорганізація системи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перинатальної допом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6000" y="331164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1. Аудит (зовнішній, внутрішній).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6000" y="414036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Розмежування за рівням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дання медичної допом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46000" y="515628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Створення дійової вертикалі управлі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6000" y="5950080"/>
            <a:ext cx="6696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Закриття малопотужних пологових відді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85280" y="144000"/>
            <a:ext cx="8750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Підсумки діяльності неонатальних центрів</a:t>
            </a:r>
            <a:br>
              <a:rPr sz="3200"/>
            </a:b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у містах обла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19320" y="1370160"/>
            <a:ext cx="5595480" cy="5521320"/>
            <a:chOff x="2119320" y="1370160"/>
            <a:chExt cx="5595480" cy="5521320"/>
          </a:xfrm>
        </p:grpSpPr>
        <p:sp>
          <p:nvSpPr>
            <p:cNvPr id="187" name=""/>
            <p:cNvSpPr/>
            <p:nvPr/>
          </p:nvSpPr>
          <p:spPr>
            <a:xfrm>
              <a:off x="5202000" y="1379520"/>
              <a:ext cx="1998360" cy="1729080"/>
            </a:xfrm>
            <a:custGeom>
              <a:avLst/>
              <a:gdLst/>
              <a:ahLst/>
              <a:rect l="l" t="t" r="r" b="b"/>
              <a:pathLst>
                <a:path w="1259" h="1089">
                  <a:moveTo>
                    <a:pt x="0" y="0"/>
                  </a:moveTo>
                  <a:lnTo>
                    <a:pt x="23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100" y="0"/>
                  </a:lnTo>
                  <a:lnTo>
                    <a:pt x="123" y="6"/>
                  </a:lnTo>
                  <a:lnTo>
                    <a:pt x="147" y="6"/>
                  </a:lnTo>
                  <a:lnTo>
                    <a:pt x="171" y="12"/>
                  </a:lnTo>
                  <a:lnTo>
                    <a:pt x="200" y="12"/>
                  </a:lnTo>
                  <a:lnTo>
                    <a:pt x="224" y="18"/>
                  </a:lnTo>
                  <a:lnTo>
                    <a:pt x="247" y="18"/>
                  </a:lnTo>
                  <a:lnTo>
                    <a:pt x="271" y="24"/>
                  </a:lnTo>
                  <a:lnTo>
                    <a:pt x="294" y="30"/>
                  </a:lnTo>
                  <a:lnTo>
                    <a:pt x="318" y="36"/>
                  </a:lnTo>
                  <a:lnTo>
                    <a:pt x="341" y="41"/>
                  </a:lnTo>
                  <a:lnTo>
                    <a:pt x="365" y="47"/>
                  </a:lnTo>
                  <a:lnTo>
                    <a:pt x="388" y="53"/>
                  </a:lnTo>
                  <a:lnTo>
                    <a:pt x="412" y="59"/>
                  </a:lnTo>
                  <a:lnTo>
                    <a:pt x="435" y="65"/>
                  </a:lnTo>
                  <a:lnTo>
                    <a:pt x="459" y="77"/>
                  </a:lnTo>
                  <a:lnTo>
                    <a:pt x="482" y="83"/>
                  </a:lnTo>
                  <a:lnTo>
                    <a:pt x="506" y="94"/>
                  </a:lnTo>
                  <a:lnTo>
                    <a:pt x="530" y="100"/>
                  </a:lnTo>
                  <a:lnTo>
                    <a:pt x="553" y="112"/>
                  </a:lnTo>
                  <a:lnTo>
                    <a:pt x="577" y="124"/>
                  </a:lnTo>
                  <a:lnTo>
                    <a:pt x="594" y="130"/>
                  </a:lnTo>
                  <a:lnTo>
                    <a:pt x="618" y="141"/>
                  </a:lnTo>
                  <a:lnTo>
                    <a:pt x="641" y="153"/>
                  </a:lnTo>
                  <a:lnTo>
                    <a:pt x="665" y="165"/>
                  </a:lnTo>
                  <a:lnTo>
                    <a:pt x="683" y="177"/>
                  </a:lnTo>
                  <a:lnTo>
                    <a:pt x="706" y="189"/>
                  </a:lnTo>
                  <a:lnTo>
                    <a:pt x="730" y="200"/>
                  </a:lnTo>
                  <a:lnTo>
                    <a:pt x="747" y="212"/>
                  </a:lnTo>
                  <a:lnTo>
                    <a:pt x="771" y="224"/>
                  </a:lnTo>
                  <a:lnTo>
                    <a:pt x="788" y="241"/>
                  </a:lnTo>
                  <a:lnTo>
                    <a:pt x="812" y="253"/>
                  </a:lnTo>
                  <a:lnTo>
                    <a:pt x="830" y="271"/>
                  </a:lnTo>
                  <a:lnTo>
                    <a:pt x="847" y="283"/>
                  </a:lnTo>
                  <a:lnTo>
                    <a:pt x="871" y="300"/>
                  </a:lnTo>
                  <a:lnTo>
                    <a:pt x="888" y="312"/>
                  </a:lnTo>
                  <a:lnTo>
                    <a:pt x="906" y="330"/>
                  </a:lnTo>
                  <a:lnTo>
                    <a:pt x="924" y="347"/>
                  </a:lnTo>
                  <a:lnTo>
                    <a:pt x="947" y="359"/>
                  </a:lnTo>
                  <a:lnTo>
                    <a:pt x="965" y="377"/>
                  </a:lnTo>
                  <a:lnTo>
                    <a:pt x="983" y="394"/>
                  </a:lnTo>
                  <a:lnTo>
                    <a:pt x="1000" y="412"/>
                  </a:lnTo>
                  <a:lnTo>
                    <a:pt x="1018" y="430"/>
                  </a:lnTo>
                  <a:lnTo>
                    <a:pt x="1030" y="447"/>
                  </a:lnTo>
                  <a:lnTo>
                    <a:pt x="1047" y="465"/>
                  </a:lnTo>
                  <a:lnTo>
                    <a:pt x="1065" y="483"/>
                  </a:lnTo>
                  <a:lnTo>
                    <a:pt x="1083" y="500"/>
                  </a:lnTo>
                  <a:lnTo>
                    <a:pt x="1094" y="524"/>
                  </a:lnTo>
                  <a:lnTo>
                    <a:pt x="1112" y="542"/>
                  </a:lnTo>
                  <a:lnTo>
                    <a:pt x="1130" y="559"/>
                  </a:lnTo>
                  <a:lnTo>
                    <a:pt x="1141" y="583"/>
                  </a:lnTo>
                  <a:lnTo>
                    <a:pt x="1153" y="600"/>
                  </a:lnTo>
                  <a:lnTo>
                    <a:pt x="1171" y="624"/>
                  </a:lnTo>
                  <a:lnTo>
                    <a:pt x="1183" y="642"/>
                  </a:lnTo>
                  <a:lnTo>
                    <a:pt x="1194" y="665"/>
                  </a:lnTo>
                  <a:lnTo>
                    <a:pt x="1212" y="683"/>
                  </a:lnTo>
                  <a:lnTo>
                    <a:pt x="1224" y="706"/>
                  </a:lnTo>
                  <a:lnTo>
                    <a:pt x="1236" y="724"/>
                  </a:lnTo>
                  <a:lnTo>
                    <a:pt x="1247" y="748"/>
                  </a:lnTo>
                  <a:lnTo>
                    <a:pt x="1259" y="771"/>
                  </a:lnTo>
                  <a:lnTo>
                    <a:pt x="630" y="1089"/>
                  </a:lnTo>
                  <a:lnTo>
                    <a:pt x="624" y="1077"/>
                  </a:lnTo>
                  <a:lnTo>
                    <a:pt x="618" y="1071"/>
                  </a:lnTo>
                  <a:lnTo>
                    <a:pt x="612" y="1059"/>
                  </a:lnTo>
                  <a:lnTo>
                    <a:pt x="606" y="1048"/>
                  </a:lnTo>
                  <a:lnTo>
                    <a:pt x="600" y="1036"/>
                  </a:lnTo>
                  <a:lnTo>
                    <a:pt x="588" y="1024"/>
                  </a:lnTo>
                  <a:lnTo>
                    <a:pt x="582" y="1018"/>
                  </a:lnTo>
                  <a:lnTo>
                    <a:pt x="577" y="1006"/>
                  </a:lnTo>
                  <a:lnTo>
                    <a:pt x="571" y="995"/>
                  </a:lnTo>
                  <a:lnTo>
                    <a:pt x="565" y="989"/>
                  </a:lnTo>
                  <a:lnTo>
                    <a:pt x="553" y="977"/>
                  </a:lnTo>
                  <a:lnTo>
                    <a:pt x="547" y="965"/>
                  </a:lnTo>
                  <a:lnTo>
                    <a:pt x="541" y="959"/>
                  </a:lnTo>
                  <a:lnTo>
                    <a:pt x="530" y="948"/>
                  </a:lnTo>
                  <a:lnTo>
                    <a:pt x="524" y="936"/>
                  </a:lnTo>
                  <a:lnTo>
                    <a:pt x="518" y="930"/>
                  </a:lnTo>
                  <a:lnTo>
                    <a:pt x="506" y="918"/>
                  </a:lnTo>
                  <a:lnTo>
                    <a:pt x="500" y="912"/>
                  </a:lnTo>
                  <a:lnTo>
                    <a:pt x="488" y="901"/>
                  </a:lnTo>
                  <a:lnTo>
                    <a:pt x="482" y="895"/>
                  </a:lnTo>
                  <a:lnTo>
                    <a:pt x="471" y="889"/>
                  </a:lnTo>
                  <a:lnTo>
                    <a:pt x="465" y="877"/>
                  </a:lnTo>
                  <a:lnTo>
                    <a:pt x="453" y="871"/>
                  </a:lnTo>
                  <a:lnTo>
                    <a:pt x="441" y="859"/>
                  </a:lnTo>
                  <a:lnTo>
                    <a:pt x="435" y="853"/>
                  </a:lnTo>
                  <a:lnTo>
                    <a:pt x="424" y="848"/>
                  </a:lnTo>
                  <a:lnTo>
                    <a:pt x="412" y="842"/>
                  </a:lnTo>
                  <a:lnTo>
                    <a:pt x="406" y="830"/>
                  </a:lnTo>
                  <a:lnTo>
                    <a:pt x="394" y="824"/>
                  </a:lnTo>
                  <a:lnTo>
                    <a:pt x="382" y="818"/>
                  </a:lnTo>
                  <a:lnTo>
                    <a:pt x="377" y="812"/>
                  </a:lnTo>
                  <a:lnTo>
                    <a:pt x="365" y="806"/>
                  </a:lnTo>
                  <a:lnTo>
                    <a:pt x="353" y="801"/>
                  </a:lnTo>
                  <a:lnTo>
                    <a:pt x="341" y="795"/>
                  </a:lnTo>
                  <a:lnTo>
                    <a:pt x="329" y="789"/>
                  </a:lnTo>
                  <a:lnTo>
                    <a:pt x="324" y="783"/>
                  </a:lnTo>
                  <a:lnTo>
                    <a:pt x="312" y="777"/>
                  </a:lnTo>
                  <a:lnTo>
                    <a:pt x="300" y="771"/>
                  </a:lnTo>
                  <a:lnTo>
                    <a:pt x="288" y="765"/>
                  </a:lnTo>
                  <a:lnTo>
                    <a:pt x="276" y="759"/>
                  </a:lnTo>
                  <a:lnTo>
                    <a:pt x="265" y="753"/>
                  </a:lnTo>
                  <a:lnTo>
                    <a:pt x="253" y="753"/>
                  </a:lnTo>
                  <a:lnTo>
                    <a:pt x="241" y="748"/>
                  </a:lnTo>
                  <a:lnTo>
                    <a:pt x="229" y="742"/>
                  </a:lnTo>
                  <a:lnTo>
                    <a:pt x="218" y="742"/>
                  </a:lnTo>
                  <a:lnTo>
                    <a:pt x="206" y="736"/>
                  </a:lnTo>
                  <a:lnTo>
                    <a:pt x="194" y="730"/>
                  </a:lnTo>
                  <a:lnTo>
                    <a:pt x="182" y="730"/>
                  </a:lnTo>
                  <a:lnTo>
                    <a:pt x="171" y="724"/>
                  </a:lnTo>
                  <a:lnTo>
                    <a:pt x="159" y="724"/>
                  </a:lnTo>
                  <a:lnTo>
                    <a:pt x="147" y="718"/>
                  </a:lnTo>
                  <a:lnTo>
                    <a:pt x="135" y="718"/>
                  </a:lnTo>
                  <a:lnTo>
                    <a:pt x="123" y="718"/>
                  </a:lnTo>
                  <a:lnTo>
                    <a:pt x="112" y="712"/>
                  </a:lnTo>
                  <a:lnTo>
                    <a:pt x="100" y="712"/>
                  </a:lnTo>
                  <a:lnTo>
                    <a:pt x="88" y="712"/>
                  </a:lnTo>
                  <a:lnTo>
                    <a:pt x="76" y="706"/>
                  </a:lnTo>
                  <a:lnTo>
                    <a:pt x="65" y="706"/>
                  </a:lnTo>
                  <a:lnTo>
                    <a:pt x="53" y="706"/>
                  </a:lnTo>
                  <a:lnTo>
                    <a:pt x="41" y="706"/>
                  </a:lnTo>
                  <a:lnTo>
                    <a:pt x="23" y="706"/>
                  </a:lnTo>
                  <a:lnTo>
                    <a:pt x="12" y="706"/>
                  </a:lnTo>
                  <a:lnTo>
                    <a:pt x="0" y="7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2080" y="3043440"/>
              <a:ext cx="1242720" cy="1784160"/>
            </a:xfrm>
            <a:custGeom>
              <a:avLst/>
              <a:gdLst/>
              <a:ahLst/>
              <a:rect l="l" t="t" r="r" b="b"/>
              <a:pathLst>
                <a:path w="783" h="1124">
                  <a:moveTo>
                    <a:pt x="630" y="0"/>
                  </a:moveTo>
                  <a:lnTo>
                    <a:pt x="642" y="23"/>
                  </a:lnTo>
                  <a:lnTo>
                    <a:pt x="647" y="41"/>
                  </a:lnTo>
                  <a:lnTo>
                    <a:pt x="659" y="64"/>
                  </a:lnTo>
                  <a:lnTo>
                    <a:pt x="671" y="88"/>
                  </a:lnTo>
                  <a:lnTo>
                    <a:pt x="677" y="111"/>
                  </a:lnTo>
                  <a:lnTo>
                    <a:pt x="689" y="135"/>
                  </a:lnTo>
                  <a:lnTo>
                    <a:pt x="695" y="159"/>
                  </a:lnTo>
                  <a:lnTo>
                    <a:pt x="706" y="182"/>
                  </a:lnTo>
                  <a:lnTo>
                    <a:pt x="712" y="206"/>
                  </a:lnTo>
                  <a:lnTo>
                    <a:pt x="718" y="229"/>
                  </a:lnTo>
                  <a:lnTo>
                    <a:pt x="724" y="253"/>
                  </a:lnTo>
                  <a:lnTo>
                    <a:pt x="736" y="276"/>
                  </a:lnTo>
                  <a:lnTo>
                    <a:pt x="742" y="300"/>
                  </a:lnTo>
                  <a:lnTo>
                    <a:pt x="748" y="323"/>
                  </a:lnTo>
                  <a:lnTo>
                    <a:pt x="753" y="347"/>
                  </a:lnTo>
                  <a:lnTo>
                    <a:pt x="753" y="370"/>
                  </a:lnTo>
                  <a:lnTo>
                    <a:pt x="759" y="394"/>
                  </a:lnTo>
                  <a:lnTo>
                    <a:pt x="765" y="417"/>
                  </a:lnTo>
                  <a:lnTo>
                    <a:pt x="765" y="441"/>
                  </a:lnTo>
                  <a:lnTo>
                    <a:pt x="771" y="470"/>
                  </a:lnTo>
                  <a:lnTo>
                    <a:pt x="771" y="494"/>
                  </a:lnTo>
                  <a:lnTo>
                    <a:pt x="777" y="518"/>
                  </a:lnTo>
                  <a:lnTo>
                    <a:pt x="777" y="541"/>
                  </a:lnTo>
                  <a:lnTo>
                    <a:pt x="777" y="565"/>
                  </a:lnTo>
                  <a:lnTo>
                    <a:pt x="783" y="588"/>
                  </a:lnTo>
                  <a:lnTo>
                    <a:pt x="783" y="618"/>
                  </a:lnTo>
                  <a:lnTo>
                    <a:pt x="783" y="641"/>
                  </a:lnTo>
                  <a:lnTo>
                    <a:pt x="783" y="665"/>
                  </a:lnTo>
                  <a:lnTo>
                    <a:pt x="783" y="688"/>
                  </a:lnTo>
                  <a:lnTo>
                    <a:pt x="777" y="712"/>
                  </a:lnTo>
                  <a:lnTo>
                    <a:pt x="777" y="735"/>
                  </a:lnTo>
                  <a:lnTo>
                    <a:pt x="777" y="765"/>
                  </a:lnTo>
                  <a:lnTo>
                    <a:pt x="771" y="788"/>
                  </a:lnTo>
                  <a:lnTo>
                    <a:pt x="771" y="812"/>
                  </a:lnTo>
                  <a:lnTo>
                    <a:pt x="765" y="835"/>
                  </a:lnTo>
                  <a:lnTo>
                    <a:pt x="765" y="859"/>
                  </a:lnTo>
                  <a:lnTo>
                    <a:pt x="759" y="882"/>
                  </a:lnTo>
                  <a:lnTo>
                    <a:pt x="753" y="912"/>
                  </a:lnTo>
                  <a:lnTo>
                    <a:pt x="753" y="935"/>
                  </a:lnTo>
                  <a:lnTo>
                    <a:pt x="748" y="959"/>
                  </a:lnTo>
                  <a:lnTo>
                    <a:pt x="742" y="982"/>
                  </a:lnTo>
                  <a:lnTo>
                    <a:pt x="736" y="1006"/>
                  </a:lnTo>
                  <a:lnTo>
                    <a:pt x="724" y="1029"/>
                  </a:lnTo>
                  <a:lnTo>
                    <a:pt x="718" y="1053"/>
                  </a:lnTo>
                  <a:lnTo>
                    <a:pt x="712" y="1077"/>
                  </a:lnTo>
                  <a:lnTo>
                    <a:pt x="706" y="1100"/>
                  </a:lnTo>
                  <a:lnTo>
                    <a:pt x="695" y="1124"/>
                  </a:lnTo>
                  <a:lnTo>
                    <a:pt x="36" y="882"/>
                  </a:lnTo>
                  <a:lnTo>
                    <a:pt x="36" y="871"/>
                  </a:lnTo>
                  <a:lnTo>
                    <a:pt x="41" y="859"/>
                  </a:lnTo>
                  <a:lnTo>
                    <a:pt x="47" y="847"/>
                  </a:lnTo>
                  <a:lnTo>
                    <a:pt x="47" y="835"/>
                  </a:lnTo>
                  <a:lnTo>
                    <a:pt x="53" y="824"/>
                  </a:lnTo>
                  <a:lnTo>
                    <a:pt x="53" y="812"/>
                  </a:lnTo>
                  <a:lnTo>
                    <a:pt x="59" y="800"/>
                  </a:lnTo>
                  <a:lnTo>
                    <a:pt x="59" y="788"/>
                  </a:lnTo>
                  <a:lnTo>
                    <a:pt x="65" y="776"/>
                  </a:lnTo>
                  <a:lnTo>
                    <a:pt x="65" y="765"/>
                  </a:lnTo>
                  <a:lnTo>
                    <a:pt x="65" y="753"/>
                  </a:lnTo>
                  <a:lnTo>
                    <a:pt x="71" y="735"/>
                  </a:lnTo>
                  <a:lnTo>
                    <a:pt x="71" y="723"/>
                  </a:lnTo>
                  <a:lnTo>
                    <a:pt x="71" y="712"/>
                  </a:lnTo>
                  <a:lnTo>
                    <a:pt x="71" y="700"/>
                  </a:lnTo>
                  <a:lnTo>
                    <a:pt x="71" y="688"/>
                  </a:lnTo>
                  <a:lnTo>
                    <a:pt x="77" y="676"/>
                  </a:lnTo>
                  <a:lnTo>
                    <a:pt x="77" y="665"/>
                  </a:lnTo>
                  <a:lnTo>
                    <a:pt x="77" y="653"/>
                  </a:lnTo>
                  <a:lnTo>
                    <a:pt x="77" y="641"/>
                  </a:lnTo>
                  <a:lnTo>
                    <a:pt x="77" y="629"/>
                  </a:lnTo>
                  <a:lnTo>
                    <a:pt x="77" y="618"/>
                  </a:lnTo>
                  <a:lnTo>
                    <a:pt x="77" y="600"/>
                  </a:lnTo>
                  <a:lnTo>
                    <a:pt x="71" y="588"/>
                  </a:lnTo>
                  <a:lnTo>
                    <a:pt x="71" y="576"/>
                  </a:lnTo>
                  <a:lnTo>
                    <a:pt x="71" y="565"/>
                  </a:lnTo>
                  <a:lnTo>
                    <a:pt x="71" y="553"/>
                  </a:lnTo>
                  <a:lnTo>
                    <a:pt x="71" y="541"/>
                  </a:lnTo>
                  <a:lnTo>
                    <a:pt x="65" y="529"/>
                  </a:lnTo>
                  <a:lnTo>
                    <a:pt x="65" y="518"/>
                  </a:lnTo>
                  <a:lnTo>
                    <a:pt x="65" y="506"/>
                  </a:lnTo>
                  <a:lnTo>
                    <a:pt x="59" y="494"/>
                  </a:lnTo>
                  <a:lnTo>
                    <a:pt x="59" y="482"/>
                  </a:lnTo>
                  <a:lnTo>
                    <a:pt x="53" y="470"/>
                  </a:lnTo>
                  <a:lnTo>
                    <a:pt x="53" y="459"/>
                  </a:lnTo>
                  <a:lnTo>
                    <a:pt x="47" y="447"/>
                  </a:lnTo>
                  <a:lnTo>
                    <a:pt x="47" y="435"/>
                  </a:lnTo>
                  <a:lnTo>
                    <a:pt x="41" y="423"/>
                  </a:lnTo>
                  <a:lnTo>
                    <a:pt x="36" y="412"/>
                  </a:lnTo>
                  <a:lnTo>
                    <a:pt x="36" y="400"/>
                  </a:lnTo>
                  <a:lnTo>
                    <a:pt x="30" y="388"/>
                  </a:lnTo>
                  <a:lnTo>
                    <a:pt x="24" y="376"/>
                  </a:lnTo>
                  <a:lnTo>
                    <a:pt x="18" y="365"/>
                  </a:lnTo>
                  <a:lnTo>
                    <a:pt x="12" y="353"/>
                  </a:lnTo>
                  <a:lnTo>
                    <a:pt x="12" y="341"/>
                  </a:lnTo>
                  <a:lnTo>
                    <a:pt x="6" y="329"/>
                  </a:lnTo>
                  <a:lnTo>
                    <a:pt x="0" y="317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1600" y="4864320"/>
              <a:ext cx="1642680" cy="1663560"/>
            </a:xfrm>
            <a:custGeom>
              <a:avLst/>
              <a:gdLst/>
              <a:ahLst/>
              <a:rect l="l" t="t" r="r" b="b"/>
              <a:pathLst>
                <a:path w="1035" h="1048">
                  <a:moveTo>
                    <a:pt x="1035" y="241"/>
                  </a:moveTo>
                  <a:lnTo>
                    <a:pt x="1030" y="265"/>
                  </a:lnTo>
                  <a:lnTo>
                    <a:pt x="1018" y="289"/>
                  </a:lnTo>
                  <a:lnTo>
                    <a:pt x="1012" y="312"/>
                  </a:lnTo>
                  <a:lnTo>
                    <a:pt x="1000" y="330"/>
                  </a:lnTo>
                  <a:lnTo>
                    <a:pt x="988" y="353"/>
                  </a:lnTo>
                  <a:lnTo>
                    <a:pt x="982" y="377"/>
                  </a:lnTo>
                  <a:lnTo>
                    <a:pt x="971" y="400"/>
                  </a:lnTo>
                  <a:lnTo>
                    <a:pt x="959" y="418"/>
                  </a:lnTo>
                  <a:lnTo>
                    <a:pt x="947" y="442"/>
                  </a:lnTo>
                  <a:lnTo>
                    <a:pt x="935" y="465"/>
                  </a:lnTo>
                  <a:lnTo>
                    <a:pt x="924" y="483"/>
                  </a:lnTo>
                  <a:lnTo>
                    <a:pt x="906" y="506"/>
                  </a:lnTo>
                  <a:lnTo>
                    <a:pt x="894" y="524"/>
                  </a:lnTo>
                  <a:lnTo>
                    <a:pt x="882" y="547"/>
                  </a:lnTo>
                  <a:lnTo>
                    <a:pt x="865" y="565"/>
                  </a:lnTo>
                  <a:lnTo>
                    <a:pt x="853" y="589"/>
                  </a:lnTo>
                  <a:lnTo>
                    <a:pt x="841" y="606"/>
                  </a:lnTo>
                  <a:lnTo>
                    <a:pt x="824" y="630"/>
                  </a:lnTo>
                  <a:lnTo>
                    <a:pt x="806" y="647"/>
                  </a:lnTo>
                  <a:lnTo>
                    <a:pt x="794" y="665"/>
                  </a:lnTo>
                  <a:lnTo>
                    <a:pt x="776" y="683"/>
                  </a:lnTo>
                  <a:lnTo>
                    <a:pt x="759" y="700"/>
                  </a:lnTo>
                  <a:lnTo>
                    <a:pt x="741" y="718"/>
                  </a:lnTo>
                  <a:lnTo>
                    <a:pt x="729" y="736"/>
                  </a:lnTo>
                  <a:lnTo>
                    <a:pt x="712" y="753"/>
                  </a:lnTo>
                  <a:lnTo>
                    <a:pt x="694" y="771"/>
                  </a:lnTo>
                  <a:lnTo>
                    <a:pt x="676" y="789"/>
                  </a:lnTo>
                  <a:lnTo>
                    <a:pt x="659" y="806"/>
                  </a:lnTo>
                  <a:lnTo>
                    <a:pt x="635" y="824"/>
                  </a:lnTo>
                  <a:lnTo>
                    <a:pt x="618" y="842"/>
                  </a:lnTo>
                  <a:lnTo>
                    <a:pt x="600" y="853"/>
                  </a:lnTo>
                  <a:lnTo>
                    <a:pt x="582" y="871"/>
                  </a:lnTo>
                  <a:lnTo>
                    <a:pt x="559" y="883"/>
                  </a:lnTo>
                  <a:lnTo>
                    <a:pt x="541" y="900"/>
                  </a:lnTo>
                  <a:lnTo>
                    <a:pt x="523" y="912"/>
                  </a:lnTo>
                  <a:lnTo>
                    <a:pt x="500" y="930"/>
                  </a:lnTo>
                  <a:lnTo>
                    <a:pt x="482" y="942"/>
                  </a:lnTo>
                  <a:lnTo>
                    <a:pt x="459" y="953"/>
                  </a:lnTo>
                  <a:lnTo>
                    <a:pt x="441" y="965"/>
                  </a:lnTo>
                  <a:lnTo>
                    <a:pt x="418" y="983"/>
                  </a:lnTo>
                  <a:lnTo>
                    <a:pt x="394" y="995"/>
                  </a:lnTo>
                  <a:lnTo>
                    <a:pt x="376" y="1006"/>
                  </a:lnTo>
                  <a:lnTo>
                    <a:pt x="353" y="1018"/>
                  </a:lnTo>
                  <a:lnTo>
                    <a:pt x="329" y="1024"/>
                  </a:lnTo>
                  <a:lnTo>
                    <a:pt x="306" y="1036"/>
                  </a:lnTo>
                  <a:lnTo>
                    <a:pt x="288" y="1048"/>
                  </a:lnTo>
                  <a:lnTo>
                    <a:pt x="0" y="400"/>
                  </a:lnTo>
                  <a:lnTo>
                    <a:pt x="12" y="400"/>
                  </a:lnTo>
                  <a:lnTo>
                    <a:pt x="23" y="394"/>
                  </a:lnTo>
                  <a:lnTo>
                    <a:pt x="35" y="389"/>
                  </a:lnTo>
                  <a:lnTo>
                    <a:pt x="41" y="383"/>
                  </a:lnTo>
                  <a:lnTo>
                    <a:pt x="53" y="377"/>
                  </a:lnTo>
                  <a:lnTo>
                    <a:pt x="64" y="371"/>
                  </a:lnTo>
                  <a:lnTo>
                    <a:pt x="76" y="365"/>
                  </a:lnTo>
                  <a:lnTo>
                    <a:pt x="88" y="359"/>
                  </a:lnTo>
                  <a:lnTo>
                    <a:pt x="94" y="347"/>
                  </a:lnTo>
                  <a:lnTo>
                    <a:pt x="106" y="341"/>
                  </a:lnTo>
                  <a:lnTo>
                    <a:pt x="117" y="336"/>
                  </a:lnTo>
                  <a:lnTo>
                    <a:pt x="123" y="330"/>
                  </a:lnTo>
                  <a:lnTo>
                    <a:pt x="135" y="324"/>
                  </a:lnTo>
                  <a:lnTo>
                    <a:pt x="147" y="312"/>
                  </a:lnTo>
                  <a:lnTo>
                    <a:pt x="153" y="306"/>
                  </a:lnTo>
                  <a:lnTo>
                    <a:pt x="165" y="300"/>
                  </a:lnTo>
                  <a:lnTo>
                    <a:pt x="176" y="289"/>
                  </a:lnTo>
                  <a:lnTo>
                    <a:pt x="182" y="283"/>
                  </a:lnTo>
                  <a:lnTo>
                    <a:pt x="194" y="277"/>
                  </a:lnTo>
                  <a:lnTo>
                    <a:pt x="200" y="265"/>
                  </a:lnTo>
                  <a:lnTo>
                    <a:pt x="212" y="259"/>
                  </a:lnTo>
                  <a:lnTo>
                    <a:pt x="217" y="247"/>
                  </a:lnTo>
                  <a:lnTo>
                    <a:pt x="229" y="241"/>
                  </a:lnTo>
                  <a:lnTo>
                    <a:pt x="235" y="230"/>
                  </a:lnTo>
                  <a:lnTo>
                    <a:pt x="241" y="218"/>
                  </a:lnTo>
                  <a:lnTo>
                    <a:pt x="253" y="212"/>
                  </a:lnTo>
                  <a:lnTo>
                    <a:pt x="259" y="200"/>
                  </a:lnTo>
                  <a:lnTo>
                    <a:pt x="265" y="194"/>
                  </a:lnTo>
                  <a:lnTo>
                    <a:pt x="276" y="183"/>
                  </a:lnTo>
                  <a:lnTo>
                    <a:pt x="282" y="171"/>
                  </a:lnTo>
                  <a:lnTo>
                    <a:pt x="288" y="165"/>
                  </a:lnTo>
                  <a:lnTo>
                    <a:pt x="294" y="153"/>
                  </a:lnTo>
                  <a:lnTo>
                    <a:pt x="300" y="141"/>
                  </a:lnTo>
                  <a:lnTo>
                    <a:pt x="312" y="130"/>
                  </a:lnTo>
                  <a:lnTo>
                    <a:pt x="318" y="124"/>
                  </a:lnTo>
                  <a:lnTo>
                    <a:pt x="323" y="112"/>
                  </a:lnTo>
                  <a:lnTo>
                    <a:pt x="329" y="100"/>
                  </a:lnTo>
                  <a:lnTo>
                    <a:pt x="335" y="88"/>
                  </a:lnTo>
                  <a:lnTo>
                    <a:pt x="341" y="77"/>
                  </a:lnTo>
                  <a:lnTo>
                    <a:pt x="347" y="65"/>
                  </a:lnTo>
                  <a:lnTo>
                    <a:pt x="353" y="53"/>
                  </a:lnTo>
                  <a:lnTo>
                    <a:pt x="353" y="47"/>
                  </a:lnTo>
                  <a:lnTo>
                    <a:pt x="359" y="35"/>
                  </a:lnTo>
                  <a:lnTo>
                    <a:pt x="365" y="24"/>
                  </a:lnTo>
                  <a:lnTo>
                    <a:pt x="370" y="12"/>
                  </a:lnTo>
                  <a:lnTo>
                    <a:pt x="376" y="0"/>
                  </a:lnTo>
                  <a:lnTo>
                    <a:pt x="1035" y="24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6680" y="5397480"/>
              <a:ext cx="2579400" cy="1494000"/>
            </a:xfrm>
            <a:custGeom>
              <a:avLst/>
              <a:gdLst/>
              <a:ahLst/>
              <a:rect l="l" t="t" r="r" b="b"/>
              <a:pathLst>
                <a:path w="1625" h="941">
                  <a:moveTo>
                    <a:pt x="1625" y="818"/>
                  </a:moveTo>
                  <a:lnTo>
                    <a:pt x="1601" y="829"/>
                  </a:lnTo>
                  <a:lnTo>
                    <a:pt x="1577" y="835"/>
                  </a:lnTo>
                  <a:lnTo>
                    <a:pt x="1554" y="847"/>
                  </a:lnTo>
                  <a:lnTo>
                    <a:pt x="1530" y="853"/>
                  </a:lnTo>
                  <a:lnTo>
                    <a:pt x="1507" y="865"/>
                  </a:lnTo>
                  <a:lnTo>
                    <a:pt x="1483" y="870"/>
                  </a:lnTo>
                  <a:lnTo>
                    <a:pt x="1460" y="876"/>
                  </a:lnTo>
                  <a:lnTo>
                    <a:pt x="1436" y="882"/>
                  </a:lnTo>
                  <a:lnTo>
                    <a:pt x="1413" y="894"/>
                  </a:lnTo>
                  <a:lnTo>
                    <a:pt x="1389" y="900"/>
                  </a:lnTo>
                  <a:lnTo>
                    <a:pt x="1366" y="906"/>
                  </a:lnTo>
                  <a:lnTo>
                    <a:pt x="1342" y="912"/>
                  </a:lnTo>
                  <a:lnTo>
                    <a:pt x="1319" y="912"/>
                  </a:lnTo>
                  <a:lnTo>
                    <a:pt x="1295" y="918"/>
                  </a:lnTo>
                  <a:lnTo>
                    <a:pt x="1271" y="923"/>
                  </a:lnTo>
                  <a:lnTo>
                    <a:pt x="1248" y="923"/>
                  </a:lnTo>
                  <a:lnTo>
                    <a:pt x="1219" y="929"/>
                  </a:lnTo>
                  <a:lnTo>
                    <a:pt x="1195" y="929"/>
                  </a:lnTo>
                  <a:lnTo>
                    <a:pt x="1171" y="935"/>
                  </a:lnTo>
                  <a:lnTo>
                    <a:pt x="1148" y="935"/>
                  </a:lnTo>
                  <a:lnTo>
                    <a:pt x="1124" y="935"/>
                  </a:lnTo>
                  <a:lnTo>
                    <a:pt x="1101" y="941"/>
                  </a:lnTo>
                  <a:lnTo>
                    <a:pt x="1071" y="941"/>
                  </a:lnTo>
                  <a:lnTo>
                    <a:pt x="1048" y="941"/>
                  </a:lnTo>
                  <a:lnTo>
                    <a:pt x="1024" y="941"/>
                  </a:lnTo>
                  <a:lnTo>
                    <a:pt x="1001" y="941"/>
                  </a:lnTo>
                  <a:lnTo>
                    <a:pt x="977" y="935"/>
                  </a:lnTo>
                  <a:lnTo>
                    <a:pt x="954" y="935"/>
                  </a:lnTo>
                  <a:lnTo>
                    <a:pt x="924" y="935"/>
                  </a:lnTo>
                  <a:lnTo>
                    <a:pt x="901" y="929"/>
                  </a:lnTo>
                  <a:lnTo>
                    <a:pt x="877" y="929"/>
                  </a:lnTo>
                  <a:lnTo>
                    <a:pt x="854" y="923"/>
                  </a:lnTo>
                  <a:lnTo>
                    <a:pt x="830" y="923"/>
                  </a:lnTo>
                  <a:lnTo>
                    <a:pt x="807" y="918"/>
                  </a:lnTo>
                  <a:lnTo>
                    <a:pt x="783" y="912"/>
                  </a:lnTo>
                  <a:lnTo>
                    <a:pt x="754" y="912"/>
                  </a:lnTo>
                  <a:lnTo>
                    <a:pt x="730" y="906"/>
                  </a:lnTo>
                  <a:lnTo>
                    <a:pt x="707" y="900"/>
                  </a:lnTo>
                  <a:lnTo>
                    <a:pt x="683" y="894"/>
                  </a:lnTo>
                  <a:lnTo>
                    <a:pt x="659" y="882"/>
                  </a:lnTo>
                  <a:lnTo>
                    <a:pt x="636" y="876"/>
                  </a:lnTo>
                  <a:lnTo>
                    <a:pt x="612" y="870"/>
                  </a:lnTo>
                  <a:lnTo>
                    <a:pt x="589" y="865"/>
                  </a:lnTo>
                  <a:lnTo>
                    <a:pt x="565" y="853"/>
                  </a:lnTo>
                  <a:lnTo>
                    <a:pt x="542" y="847"/>
                  </a:lnTo>
                  <a:lnTo>
                    <a:pt x="524" y="835"/>
                  </a:lnTo>
                  <a:lnTo>
                    <a:pt x="501" y="829"/>
                  </a:lnTo>
                  <a:lnTo>
                    <a:pt x="477" y="818"/>
                  </a:lnTo>
                  <a:lnTo>
                    <a:pt x="454" y="806"/>
                  </a:lnTo>
                  <a:lnTo>
                    <a:pt x="430" y="794"/>
                  </a:lnTo>
                  <a:lnTo>
                    <a:pt x="412" y="788"/>
                  </a:lnTo>
                  <a:lnTo>
                    <a:pt x="389" y="776"/>
                  </a:lnTo>
                  <a:lnTo>
                    <a:pt x="365" y="765"/>
                  </a:lnTo>
                  <a:lnTo>
                    <a:pt x="342" y="753"/>
                  </a:lnTo>
                  <a:lnTo>
                    <a:pt x="324" y="735"/>
                  </a:lnTo>
                  <a:lnTo>
                    <a:pt x="301" y="723"/>
                  </a:lnTo>
                  <a:lnTo>
                    <a:pt x="283" y="712"/>
                  </a:lnTo>
                  <a:lnTo>
                    <a:pt x="259" y="700"/>
                  </a:lnTo>
                  <a:lnTo>
                    <a:pt x="242" y="682"/>
                  </a:lnTo>
                  <a:lnTo>
                    <a:pt x="218" y="670"/>
                  </a:lnTo>
                  <a:lnTo>
                    <a:pt x="200" y="653"/>
                  </a:lnTo>
                  <a:lnTo>
                    <a:pt x="183" y="641"/>
                  </a:lnTo>
                  <a:lnTo>
                    <a:pt x="165" y="623"/>
                  </a:lnTo>
                  <a:lnTo>
                    <a:pt x="142" y="612"/>
                  </a:lnTo>
                  <a:lnTo>
                    <a:pt x="124" y="594"/>
                  </a:lnTo>
                  <a:lnTo>
                    <a:pt x="106" y="576"/>
                  </a:lnTo>
                  <a:lnTo>
                    <a:pt x="89" y="559"/>
                  </a:lnTo>
                  <a:lnTo>
                    <a:pt x="71" y="541"/>
                  </a:lnTo>
                  <a:lnTo>
                    <a:pt x="53" y="523"/>
                  </a:lnTo>
                  <a:lnTo>
                    <a:pt x="36" y="506"/>
                  </a:lnTo>
                  <a:lnTo>
                    <a:pt x="18" y="488"/>
                  </a:lnTo>
                  <a:lnTo>
                    <a:pt x="0" y="470"/>
                  </a:lnTo>
                  <a:lnTo>
                    <a:pt x="524" y="0"/>
                  </a:lnTo>
                  <a:lnTo>
                    <a:pt x="536" y="11"/>
                  </a:lnTo>
                  <a:lnTo>
                    <a:pt x="542" y="17"/>
                  </a:lnTo>
                  <a:lnTo>
                    <a:pt x="554" y="29"/>
                  </a:lnTo>
                  <a:lnTo>
                    <a:pt x="559" y="35"/>
                  </a:lnTo>
                  <a:lnTo>
                    <a:pt x="571" y="47"/>
                  </a:lnTo>
                  <a:lnTo>
                    <a:pt x="577" y="53"/>
                  </a:lnTo>
                  <a:lnTo>
                    <a:pt x="589" y="58"/>
                  </a:lnTo>
                  <a:lnTo>
                    <a:pt x="595" y="70"/>
                  </a:lnTo>
                  <a:lnTo>
                    <a:pt x="607" y="76"/>
                  </a:lnTo>
                  <a:lnTo>
                    <a:pt x="618" y="82"/>
                  </a:lnTo>
                  <a:lnTo>
                    <a:pt x="624" y="94"/>
                  </a:lnTo>
                  <a:lnTo>
                    <a:pt x="636" y="100"/>
                  </a:lnTo>
                  <a:lnTo>
                    <a:pt x="648" y="106"/>
                  </a:lnTo>
                  <a:lnTo>
                    <a:pt x="654" y="111"/>
                  </a:lnTo>
                  <a:lnTo>
                    <a:pt x="665" y="117"/>
                  </a:lnTo>
                  <a:lnTo>
                    <a:pt x="677" y="129"/>
                  </a:lnTo>
                  <a:lnTo>
                    <a:pt x="689" y="135"/>
                  </a:lnTo>
                  <a:lnTo>
                    <a:pt x="695" y="141"/>
                  </a:lnTo>
                  <a:lnTo>
                    <a:pt x="707" y="147"/>
                  </a:lnTo>
                  <a:lnTo>
                    <a:pt x="718" y="153"/>
                  </a:lnTo>
                  <a:lnTo>
                    <a:pt x="730" y="158"/>
                  </a:lnTo>
                  <a:lnTo>
                    <a:pt x="742" y="164"/>
                  </a:lnTo>
                  <a:lnTo>
                    <a:pt x="754" y="170"/>
                  </a:lnTo>
                  <a:lnTo>
                    <a:pt x="765" y="170"/>
                  </a:lnTo>
                  <a:lnTo>
                    <a:pt x="777" y="176"/>
                  </a:lnTo>
                  <a:lnTo>
                    <a:pt x="783" y="182"/>
                  </a:lnTo>
                  <a:lnTo>
                    <a:pt x="795" y="188"/>
                  </a:lnTo>
                  <a:lnTo>
                    <a:pt x="807" y="194"/>
                  </a:lnTo>
                  <a:lnTo>
                    <a:pt x="818" y="194"/>
                  </a:lnTo>
                  <a:lnTo>
                    <a:pt x="830" y="200"/>
                  </a:lnTo>
                  <a:lnTo>
                    <a:pt x="842" y="206"/>
                  </a:lnTo>
                  <a:lnTo>
                    <a:pt x="854" y="206"/>
                  </a:lnTo>
                  <a:lnTo>
                    <a:pt x="865" y="211"/>
                  </a:lnTo>
                  <a:lnTo>
                    <a:pt x="877" y="211"/>
                  </a:lnTo>
                  <a:lnTo>
                    <a:pt x="889" y="217"/>
                  </a:lnTo>
                  <a:lnTo>
                    <a:pt x="901" y="217"/>
                  </a:lnTo>
                  <a:lnTo>
                    <a:pt x="913" y="223"/>
                  </a:lnTo>
                  <a:lnTo>
                    <a:pt x="924" y="223"/>
                  </a:lnTo>
                  <a:lnTo>
                    <a:pt x="942" y="223"/>
                  </a:lnTo>
                  <a:lnTo>
                    <a:pt x="954" y="229"/>
                  </a:lnTo>
                  <a:lnTo>
                    <a:pt x="965" y="229"/>
                  </a:lnTo>
                  <a:lnTo>
                    <a:pt x="977" y="229"/>
                  </a:lnTo>
                  <a:lnTo>
                    <a:pt x="989" y="229"/>
                  </a:lnTo>
                  <a:lnTo>
                    <a:pt x="1001" y="229"/>
                  </a:lnTo>
                  <a:lnTo>
                    <a:pt x="1013" y="235"/>
                  </a:lnTo>
                  <a:lnTo>
                    <a:pt x="1024" y="235"/>
                  </a:lnTo>
                  <a:lnTo>
                    <a:pt x="1036" y="235"/>
                  </a:lnTo>
                  <a:lnTo>
                    <a:pt x="1048" y="235"/>
                  </a:lnTo>
                  <a:lnTo>
                    <a:pt x="1060" y="235"/>
                  </a:lnTo>
                  <a:lnTo>
                    <a:pt x="1071" y="235"/>
                  </a:lnTo>
                  <a:lnTo>
                    <a:pt x="1089" y="235"/>
                  </a:lnTo>
                  <a:lnTo>
                    <a:pt x="1101" y="229"/>
                  </a:lnTo>
                  <a:lnTo>
                    <a:pt x="1113" y="229"/>
                  </a:lnTo>
                  <a:lnTo>
                    <a:pt x="1124" y="229"/>
                  </a:lnTo>
                  <a:lnTo>
                    <a:pt x="1136" y="229"/>
                  </a:lnTo>
                  <a:lnTo>
                    <a:pt x="1148" y="229"/>
                  </a:lnTo>
                  <a:lnTo>
                    <a:pt x="1160" y="223"/>
                  </a:lnTo>
                  <a:lnTo>
                    <a:pt x="1171" y="223"/>
                  </a:lnTo>
                  <a:lnTo>
                    <a:pt x="1183" y="223"/>
                  </a:lnTo>
                  <a:lnTo>
                    <a:pt x="1195" y="217"/>
                  </a:lnTo>
                  <a:lnTo>
                    <a:pt x="1207" y="217"/>
                  </a:lnTo>
                  <a:lnTo>
                    <a:pt x="1219" y="211"/>
                  </a:lnTo>
                  <a:lnTo>
                    <a:pt x="1230" y="211"/>
                  </a:lnTo>
                  <a:lnTo>
                    <a:pt x="1242" y="206"/>
                  </a:lnTo>
                  <a:lnTo>
                    <a:pt x="1254" y="206"/>
                  </a:lnTo>
                  <a:lnTo>
                    <a:pt x="1266" y="200"/>
                  </a:lnTo>
                  <a:lnTo>
                    <a:pt x="1277" y="194"/>
                  </a:lnTo>
                  <a:lnTo>
                    <a:pt x="1289" y="194"/>
                  </a:lnTo>
                  <a:lnTo>
                    <a:pt x="1301" y="188"/>
                  </a:lnTo>
                  <a:lnTo>
                    <a:pt x="1313" y="182"/>
                  </a:lnTo>
                  <a:lnTo>
                    <a:pt x="1324" y="176"/>
                  </a:lnTo>
                  <a:lnTo>
                    <a:pt x="1336" y="170"/>
                  </a:lnTo>
                  <a:lnTo>
                    <a:pt x="1625" y="81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19320" y="2959200"/>
              <a:ext cx="1401480" cy="2681280"/>
            </a:xfrm>
            <a:custGeom>
              <a:avLst/>
              <a:gdLst/>
              <a:ahLst/>
              <a:rect l="l" t="t" r="r" b="b"/>
              <a:pathLst>
                <a:path w="883" h="1689">
                  <a:moveTo>
                    <a:pt x="359" y="1689"/>
                  </a:moveTo>
                  <a:lnTo>
                    <a:pt x="341" y="1671"/>
                  </a:lnTo>
                  <a:lnTo>
                    <a:pt x="330" y="1653"/>
                  </a:lnTo>
                  <a:lnTo>
                    <a:pt x="312" y="1636"/>
                  </a:lnTo>
                  <a:lnTo>
                    <a:pt x="300" y="1618"/>
                  </a:lnTo>
                  <a:lnTo>
                    <a:pt x="282" y="1594"/>
                  </a:lnTo>
                  <a:lnTo>
                    <a:pt x="265" y="1577"/>
                  </a:lnTo>
                  <a:lnTo>
                    <a:pt x="253" y="1553"/>
                  </a:lnTo>
                  <a:lnTo>
                    <a:pt x="241" y="1536"/>
                  </a:lnTo>
                  <a:lnTo>
                    <a:pt x="224" y="1512"/>
                  </a:lnTo>
                  <a:lnTo>
                    <a:pt x="212" y="1494"/>
                  </a:lnTo>
                  <a:lnTo>
                    <a:pt x="200" y="1471"/>
                  </a:lnTo>
                  <a:lnTo>
                    <a:pt x="188" y="1453"/>
                  </a:lnTo>
                  <a:lnTo>
                    <a:pt x="177" y="1430"/>
                  </a:lnTo>
                  <a:lnTo>
                    <a:pt x="165" y="1406"/>
                  </a:lnTo>
                  <a:lnTo>
                    <a:pt x="153" y="1388"/>
                  </a:lnTo>
                  <a:lnTo>
                    <a:pt x="141" y="1365"/>
                  </a:lnTo>
                  <a:lnTo>
                    <a:pt x="129" y="1341"/>
                  </a:lnTo>
                  <a:lnTo>
                    <a:pt x="118" y="1318"/>
                  </a:lnTo>
                  <a:lnTo>
                    <a:pt x="112" y="1300"/>
                  </a:lnTo>
                  <a:lnTo>
                    <a:pt x="100" y="1277"/>
                  </a:lnTo>
                  <a:lnTo>
                    <a:pt x="94" y="1253"/>
                  </a:lnTo>
                  <a:lnTo>
                    <a:pt x="82" y="1230"/>
                  </a:lnTo>
                  <a:lnTo>
                    <a:pt x="76" y="1206"/>
                  </a:lnTo>
                  <a:lnTo>
                    <a:pt x="65" y="1183"/>
                  </a:lnTo>
                  <a:lnTo>
                    <a:pt x="59" y="1159"/>
                  </a:lnTo>
                  <a:lnTo>
                    <a:pt x="53" y="1135"/>
                  </a:lnTo>
                  <a:lnTo>
                    <a:pt x="47" y="1112"/>
                  </a:lnTo>
                  <a:lnTo>
                    <a:pt x="41" y="1088"/>
                  </a:lnTo>
                  <a:lnTo>
                    <a:pt x="35" y="1065"/>
                  </a:lnTo>
                  <a:lnTo>
                    <a:pt x="29" y="1041"/>
                  </a:lnTo>
                  <a:lnTo>
                    <a:pt x="24" y="1018"/>
                  </a:lnTo>
                  <a:lnTo>
                    <a:pt x="18" y="988"/>
                  </a:lnTo>
                  <a:lnTo>
                    <a:pt x="18" y="965"/>
                  </a:lnTo>
                  <a:lnTo>
                    <a:pt x="12" y="941"/>
                  </a:lnTo>
                  <a:lnTo>
                    <a:pt x="12" y="918"/>
                  </a:lnTo>
                  <a:lnTo>
                    <a:pt x="6" y="894"/>
                  </a:lnTo>
                  <a:lnTo>
                    <a:pt x="6" y="871"/>
                  </a:lnTo>
                  <a:lnTo>
                    <a:pt x="0" y="841"/>
                  </a:lnTo>
                  <a:lnTo>
                    <a:pt x="0" y="818"/>
                  </a:lnTo>
                  <a:lnTo>
                    <a:pt x="0" y="794"/>
                  </a:lnTo>
                  <a:lnTo>
                    <a:pt x="0" y="771"/>
                  </a:lnTo>
                  <a:lnTo>
                    <a:pt x="0" y="747"/>
                  </a:lnTo>
                  <a:lnTo>
                    <a:pt x="0" y="724"/>
                  </a:lnTo>
                  <a:lnTo>
                    <a:pt x="0" y="694"/>
                  </a:lnTo>
                  <a:lnTo>
                    <a:pt x="0" y="671"/>
                  </a:lnTo>
                  <a:lnTo>
                    <a:pt x="0" y="647"/>
                  </a:lnTo>
                  <a:lnTo>
                    <a:pt x="6" y="623"/>
                  </a:lnTo>
                  <a:lnTo>
                    <a:pt x="6" y="600"/>
                  </a:lnTo>
                  <a:lnTo>
                    <a:pt x="12" y="576"/>
                  </a:lnTo>
                  <a:lnTo>
                    <a:pt x="12" y="547"/>
                  </a:lnTo>
                  <a:lnTo>
                    <a:pt x="18" y="523"/>
                  </a:lnTo>
                  <a:lnTo>
                    <a:pt x="18" y="500"/>
                  </a:lnTo>
                  <a:lnTo>
                    <a:pt x="24" y="476"/>
                  </a:lnTo>
                  <a:lnTo>
                    <a:pt x="29" y="453"/>
                  </a:lnTo>
                  <a:lnTo>
                    <a:pt x="35" y="429"/>
                  </a:lnTo>
                  <a:lnTo>
                    <a:pt x="41" y="406"/>
                  </a:lnTo>
                  <a:lnTo>
                    <a:pt x="47" y="382"/>
                  </a:lnTo>
                  <a:lnTo>
                    <a:pt x="53" y="359"/>
                  </a:lnTo>
                  <a:lnTo>
                    <a:pt x="59" y="335"/>
                  </a:lnTo>
                  <a:lnTo>
                    <a:pt x="65" y="312"/>
                  </a:lnTo>
                  <a:lnTo>
                    <a:pt x="76" y="288"/>
                  </a:lnTo>
                  <a:lnTo>
                    <a:pt x="82" y="265"/>
                  </a:lnTo>
                  <a:lnTo>
                    <a:pt x="94" y="241"/>
                  </a:lnTo>
                  <a:lnTo>
                    <a:pt x="100" y="217"/>
                  </a:lnTo>
                  <a:lnTo>
                    <a:pt x="112" y="194"/>
                  </a:lnTo>
                  <a:lnTo>
                    <a:pt x="118" y="170"/>
                  </a:lnTo>
                  <a:lnTo>
                    <a:pt x="129" y="147"/>
                  </a:lnTo>
                  <a:lnTo>
                    <a:pt x="141" y="129"/>
                  </a:lnTo>
                  <a:lnTo>
                    <a:pt x="153" y="106"/>
                  </a:lnTo>
                  <a:lnTo>
                    <a:pt x="165" y="82"/>
                  </a:lnTo>
                  <a:lnTo>
                    <a:pt x="177" y="59"/>
                  </a:lnTo>
                  <a:lnTo>
                    <a:pt x="188" y="41"/>
                  </a:lnTo>
                  <a:lnTo>
                    <a:pt x="200" y="17"/>
                  </a:lnTo>
                  <a:lnTo>
                    <a:pt x="212" y="0"/>
                  </a:lnTo>
                  <a:lnTo>
                    <a:pt x="812" y="370"/>
                  </a:lnTo>
                  <a:lnTo>
                    <a:pt x="806" y="382"/>
                  </a:lnTo>
                  <a:lnTo>
                    <a:pt x="800" y="394"/>
                  </a:lnTo>
                  <a:lnTo>
                    <a:pt x="794" y="406"/>
                  </a:lnTo>
                  <a:lnTo>
                    <a:pt x="789" y="412"/>
                  </a:lnTo>
                  <a:lnTo>
                    <a:pt x="783" y="423"/>
                  </a:lnTo>
                  <a:lnTo>
                    <a:pt x="777" y="435"/>
                  </a:lnTo>
                  <a:lnTo>
                    <a:pt x="771" y="447"/>
                  </a:lnTo>
                  <a:lnTo>
                    <a:pt x="765" y="459"/>
                  </a:lnTo>
                  <a:lnTo>
                    <a:pt x="759" y="470"/>
                  </a:lnTo>
                  <a:lnTo>
                    <a:pt x="753" y="482"/>
                  </a:lnTo>
                  <a:lnTo>
                    <a:pt x="753" y="494"/>
                  </a:lnTo>
                  <a:lnTo>
                    <a:pt x="747" y="506"/>
                  </a:lnTo>
                  <a:lnTo>
                    <a:pt x="741" y="518"/>
                  </a:lnTo>
                  <a:lnTo>
                    <a:pt x="741" y="529"/>
                  </a:lnTo>
                  <a:lnTo>
                    <a:pt x="736" y="541"/>
                  </a:lnTo>
                  <a:lnTo>
                    <a:pt x="730" y="553"/>
                  </a:lnTo>
                  <a:lnTo>
                    <a:pt x="730" y="565"/>
                  </a:lnTo>
                  <a:lnTo>
                    <a:pt x="724" y="576"/>
                  </a:lnTo>
                  <a:lnTo>
                    <a:pt x="724" y="588"/>
                  </a:lnTo>
                  <a:lnTo>
                    <a:pt x="718" y="600"/>
                  </a:lnTo>
                  <a:lnTo>
                    <a:pt x="718" y="612"/>
                  </a:lnTo>
                  <a:lnTo>
                    <a:pt x="718" y="623"/>
                  </a:lnTo>
                  <a:lnTo>
                    <a:pt x="712" y="635"/>
                  </a:lnTo>
                  <a:lnTo>
                    <a:pt x="712" y="647"/>
                  </a:lnTo>
                  <a:lnTo>
                    <a:pt x="712" y="659"/>
                  </a:lnTo>
                  <a:lnTo>
                    <a:pt x="706" y="671"/>
                  </a:lnTo>
                  <a:lnTo>
                    <a:pt x="706" y="682"/>
                  </a:lnTo>
                  <a:lnTo>
                    <a:pt x="706" y="694"/>
                  </a:lnTo>
                  <a:lnTo>
                    <a:pt x="706" y="706"/>
                  </a:lnTo>
                  <a:lnTo>
                    <a:pt x="706" y="724"/>
                  </a:lnTo>
                  <a:lnTo>
                    <a:pt x="706" y="735"/>
                  </a:lnTo>
                  <a:lnTo>
                    <a:pt x="706" y="747"/>
                  </a:lnTo>
                  <a:lnTo>
                    <a:pt x="706" y="759"/>
                  </a:lnTo>
                  <a:lnTo>
                    <a:pt x="706" y="771"/>
                  </a:lnTo>
                  <a:lnTo>
                    <a:pt x="706" y="782"/>
                  </a:lnTo>
                  <a:lnTo>
                    <a:pt x="706" y="794"/>
                  </a:lnTo>
                  <a:lnTo>
                    <a:pt x="706" y="806"/>
                  </a:lnTo>
                  <a:lnTo>
                    <a:pt x="706" y="818"/>
                  </a:lnTo>
                  <a:lnTo>
                    <a:pt x="712" y="829"/>
                  </a:lnTo>
                  <a:lnTo>
                    <a:pt x="712" y="841"/>
                  </a:lnTo>
                  <a:lnTo>
                    <a:pt x="712" y="859"/>
                  </a:lnTo>
                  <a:lnTo>
                    <a:pt x="718" y="871"/>
                  </a:lnTo>
                  <a:lnTo>
                    <a:pt x="718" y="882"/>
                  </a:lnTo>
                  <a:lnTo>
                    <a:pt x="718" y="894"/>
                  </a:lnTo>
                  <a:lnTo>
                    <a:pt x="724" y="906"/>
                  </a:lnTo>
                  <a:lnTo>
                    <a:pt x="724" y="918"/>
                  </a:lnTo>
                  <a:lnTo>
                    <a:pt x="730" y="929"/>
                  </a:lnTo>
                  <a:lnTo>
                    <a:pt x="730" y="941"/>
                  </a:lnTo>
                  <a:lnTo>
                    <a:pt x="736" y="953"/>
                  </a:lnTo>
                  <a:lnTo>
                    <a:pt x="741" y="965"/>
                  </a:lnTo>
                  <a:lnTo>
                    <a:pt x="741" y="977"/>
                  </a:lnTo>
                  <a:lnTo>
                    <a:pt x="747" y="988"/>
                  </a:lnTo>
                  <a:lnTo>
                    <a:pt x="753" y="1000"/>
                  </a:lnTo>
                  <a:lnTo>
                    <a:pt x="753" y="1012"/>
                  </a:lnTo>
                  <a:lnTo>
                    <a:pt x="759" y="1024"/>
                  </a:lnTo>
                  <a:lnTo>
                    <a:pt x="765" y="1035"/>
                  </a:lnTo>
                  <a:lnTo>
                    <a:pt x="771" y="1041"/>
                  </a:lnTo>
                  <a:lnTo>
                    <a:pt x="777" y="1053"/>
                  </a:lnTo>
                  <a:lnTo>
                    <a:pt x="783" y="1065"/>
                  </a:lnTo>
                  <a:lnTo>
                    <a:pt x="789" y="1077"/>
                  </a:lnTo>
                  <a:lnTo>
                    <a:pt x="794" y="1088"/>
                  </a:lnTo>
                  <a:lnTo>
                    <a:pt x="800" y="1100"/>
                  </a:lnTo>
                  <a:lnTo>
                    <a:pt x="806" y="1112"/>
                  </a:lnTo>
                  <a:lnTo>
                    <a:pt x="812" y="1118"/>
                  </a:lnTo>
                  <a:lnTo>
                    <a:pt x="818" y="1130"/>
                  </a:lnTo>
                  <a:lnTo>
                    <a:pt x="824" y="1141"/>
                  </a:lnTo>
                  <a:lnTo>
                    <a:pt x="830" y="1153"/>
                  </a:lnTo>
                  <a:lnTo>
                    <a:pt x="841" y="1159"/>
                  </a:lnTo>
                  <a:lnTo>
                    <a:pt x="847" y="1171"/>
                  </a:lnTo>
                  <a:lnTo>
                    <a:pt x="853" y="1183"/>
                  </a:lnTo>
                  <a:lnTo>
                    <a:pt x="859" y="1188"/>
                  </a:lnTo>
                  <a:lnTo>
                    <a:pt x="871" y="1200"/>
                  </a:lnTo>
                  <a:lnTo>
                    <a:pt x="877" y="1206"/>
                  </a:lnTo>
                  <a:lnTo>
                    <a:pt x="883" y="1218"/>
                  </a:lnTo>
                  <a:lnTo>
                    <a:pt x="359" y="1689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4640" y="1370160"/>
              <a:ext cx="1896840" cy="1644480"/>
            </a:xfrm>
            <a:custGeom>
              <a:avLst/>
              <a:gdLst/>
              <a:ahLst/>
              <a:rect l="l" t="t" r="r" b="b"/>
              <a:pathLst>
                <a:path w="1195" h="1036">
                  <a:moveTo>
                    <a:pt x="0" y="665"/>
                  </a:moveTo>
                  <a:lnTo>
                    <a:pt x="12" y="642"/>
                  </a:lnTo>
                  <a:lnTo>
                    <a:pt x="30" y="624"/>
                  </a:lnTo>
                  <a:lnTo>
                    <a:pt x="41" y="601"/>
                  </a:lnTo>
                  <a:lnTo>
                    <a:pt x="53" y="583"/>
                  </a:lnTo>
                  <a:lnTo>
                    <a:pt x="71" y="559"/>
                  </a:lnTo>
                  <a:lnTo>
                    <a:pt x="89" y="542"/>
                  </a:lnTo>
                  <a:lnTo>
                    <a:pt x="100" y="524"/>
                  </a:lnTo>
                  <a:lnTo>
                    <a:pt x="118" y="501"/>
                  </a:lnTo>
                  <a:lnTo>
                    <a:pt x="130" y="483"/>
                  </a:lnTo>
                  <a:lnTo>
                    <a:pt x="147" y="465"/>
                  </a:lnTo>
                  <a:lnTo>
                    <a:pt x="165" y="448"/>
                  </a:lnTo>
                  <a:lnTo>
                    <a:pt x="183" y="430"/>
                  </a:lnTo>
                  <a:lnTo>
                    <a:pt x="200" y="412"/>
                  </a:lnTo>
                  <a:lnTo>
                    <a:pt x="218" y="395"/>
                  </a:lnTo>
                  <a:lnTo>
                    <a:pt x="236" y="377"/>
                  </a:lnTo>
                  <a:lnTo>
                    <a:pt x="253" y="359"/>
                  </a:lnTo>
                  <a:lnTo>
                    <a:pt x="271" y="348"/>
                  </a:lnTo>
                  <a:lnTo>
                    <a:pt x="289" y="330"/>
                  </a:lnTo>
                  <a:lnTo>
                    <a:pt x="312" y="312"/>
                  </a:lnTo>
                  <a:lnTo>
                    <a:pt x="330" y="300"/>
                  </a:lnTo>
                  <a:lnTo>
                    <a:pt x="347" y="283"/>
                  </a:lnTo>
                  <a:lnTo>
                    <a:pt x="365" y="271"/>
                  </a:lnTo>
                  <a:lnTo>
                    <a:pt x="389" y="253"/>
                  </a:lnTo>
                  <a:lnTo>
                    <a:pt x="406" y="242"/>
                  </a:lnTo>
                  <a:lnTo>
                    <a:pt x="430" y="224"/>
                  </a:lnTo>
                  <a:lnTo>
                    <a:pt x="447" y="212"/>
                  </a:lnTo>
                  <a:lnTo>
                    <a:pt x="471" y="200"/>
                  </a:lnTo>
                  <a:lnTo>
                    <a:pt x="489" y="189"/>
                  </a:lnTo>
                  <a:lnTo>
                    <a:pt x="512" y="177"/>
                  </a:lnTo>
                  <a:lnTo>
                    <a:pt x="536" y="165"/>
                  </a:lnTo>
                  <a:lnTo>
                    <a:pt x="559" y="153"/>
                  </a:lnTo>
                  <a:lnTo>
                    <a:pt x="577" y="142"/>
                  </a:lnTo>
                  <a:lnTo>
                    <a:pt x="600" y="130"/>
                  </a:lnTo>
                  <a:lnTo>
                    <a:pt x="624" y="124"/>
                  </a:lnTo>
                  <a:lnTo>
                    <a:pt x="648" y="112"/>
                  </a:lnTo>
                  <a:lnTo>
                    <a:pt x="671" y="100"/>
                  </a:lnTo>
                  <a:lnTo>
                    <a:pt x="689" y="94"/>
                  </a:lnTo>
                  <a:lnTo>
                    <a:pt x="712" y="83"/>
                  </a:lnTo>
                  <a:lnTo>
                    <a:pt x="736" y="77"/>
                  </a:lnTo>
                  <a:lnTo>
                    <a:pt x="759" y="65"/>
                  </a:lnTo>
                  <a:lnTo>
                    <a:pt x="783" y="59"/>
                  </a:lnTo>
                  <a:lnTo>
                    <a:pt x="806" y="53"/>
                  </a:lnTo>
                  <a:lnTo>
                    <a:pt x="830" y="47"/>
                  </a:lnTo>
                  <a:lnTo>
                    <a:pt x="854" y="42"/>
                  </a:lnTo>
                  <a:lnTo>
                    <a:pt x="877" y="36"/>
                  </a:lnTo>
                  <a:lnTo>
                    <a:pt x="901" y="30"/>
                  </a:lnTo>
                  <a:lnTo>
                    <a:pt x="930" y="24"/>
                  </a:lnTo>
                  <a:lnTo>
                    <a:pt x="954" y="18"/>
                  </a:lnTo>
                  <a:lnTo>
                    <a:pt x="977" y="18"/>
                  </a:lnTo>
                  <a:lnTo>
                    <a:pt x="1001" y="12"/>
                  </a:lnTo>
                  <a:lnTo>
                    <a:pt x="1024" y="12"/>
                  </a:lnTo>
                  <a:lnTo>
                    <a:pt x="1048" y="6"/>
                  </a:lnTo>
                  <a:lnTo>
                    <a:pt x="1071" y="6"/>
                  </a:lnTo>
                  <a:lnTo>
                    <a:pt x="1101" y="0"/>
                  </a:lnTo>
                  <a:lnTo>
                    <a:pt x="1124" y="0"/>
                  </a:lnTo>
                  <a:lnTo>
                    <a:pt x="1148" y="0"/>
                  </a:lnTo>
                  <a:lnTo>
                    <a:pt x="1171" y="0"/>
                  </a:lnTo>
                  <a:lnTo>
                    <a:pt x="1195" y="0"/>
                  </a:lnTo>
                  <a:lnTo>
                    <a:pt x="1195" y="706"/>
                  </a:lnTo>
                  <a:lnTo>
                    <a:pt x="1183" y="706"/>
                  </a:lnTo>
                  <a:lnTo>
                    <a:pt x="1171" y="706"/>
                  </a:lnTo>
                  <a:lnTo>
                    <a:pt x="1160" y="706"/>
                  </a:lnTo>
                  <a:lnTo>
                    <a:pt x="1148" y="706"/>
                  </a:lnTo>
                  <a:lnTo>
                    <a:pt x="1136" y="706"/>
                  </a:lnTo>
                  <a:lnTo>
                    <a:pt x="1124" y="706"/>
                  </a:lnTo>
                  <a:lnTo>
                    <a:pt x="1112" y="712"/>
                  </a:lnTo>
                  <a:lnTo>
                    <a:pt x="1101" y="712"/>
                  </a:lnTo>
                  <a:lnTo>
                    <a:pt x="1089" y="712"/>
                  </a:lnTo>
                  <a:lnTo>
                    <a:pt x="1071" y="718"/>
                  </a:lnTo>
                  <a:lnTo>
                    <a:pt x="1059" y="718"/>
                  </a:lnTo>
                  <a:lnTo>
                    <a:pt x="1048" y="718"/>
                  </a:lnTo>
                  <a:lnTo>
                    <a:pt x="1036" y="724"/>
                  </a:lnTo>
                  <a:lnTo>
                    <a:pt x="1024" y="724"/>
                  </a:lnTo>
                  <a:lnTo>
                    <a:pt x="1012" y="730"/>
                  </a:lnTo>
                  <a:lnTo>
                    <a:pt x="1001" y="730"/>
                  </a:lnTo>
                  <a:lnTo>
                    <a:pt x="989" y="736"/>
                  </a:lnTo>
                  <a:lnTo>
                    <a:pt x="977" y="742"/>
                  </a:lnTo>
                  <a:lnTo>
                    <a:pt x="965" y="742"/>
                  </a:lnTo>
                  <a:lnTo>
                    <a:pt x="954" y="748"/>
                  </a:lnTo>
                  <a:lnTo>
                    <a:pt x="942" y="754"/>
                  </a:lnTo>
                  <a:lnTo>
                    <a:pt x="930" y="754"/>
                  </a:lnTo>
                  <a:lnTo>
                    <a:pt x="924" y="759"/>
                  </a:lnTo>
                  <a:lnTo>
                    <a:pt x="912" y="765"/>
                  </a:lnTo>
                  <a:lnTo>
                    <a:pt x="901" y="771"/>
                  </a:lnTo>
                  <a:lnTo>
                    <a:pt x="889" y="777"/>
                  </a:lnTo>
                  <a:lnTo>
                    <a:pt x="877" y="783"/>
                  </a:lnTo>
                  <a:lnTo>
                    <a:pt x="865" y="789"/>
                  </a:lnTo>
                  <a:lnTo>
                    <a:pt x="854" y="795"/>
                  </a:lnTo>
                  <a:lnTo>
                    <a:pt x="842" y="801"/>
                  </a:lnTo>
                  <a:lnTo>
                    <a:pt x="836" y="807"/>
                  </a:lnTo>
                  <a:lnTo>
                    <a:pt x="824" y="812"/>
                  </a:lnTo>
                  <a:lnTo>
                    <a:pt x="812" y="818"/>
                  </a:lnTo>
                  <a:lnTo>
                    <a:pt x="801" y="824"/>
                  </a:lnTo>
                  <a:lnTo>
                    <a:pt x="795" y="830"/>
                  </a:lnTo>
                  <a:lnTo>
                    <a:pt x="783" y="842"/>
                  </a:lnTo>
                  <a:lnTo>
                    <a:pt x="771" y="848"/>
                  </a:lnTo>
                  <a:lnTo>
                    <a:pt x="765" y="854"/>
                  </a:lnTo>
                  <a:lnTo>
                    <a:pt x="753" y="859"/>
                  </a:lnTo>
                  <a:lnTo>
                    <a:pt x="742" y="871"/>
                  </a:lnTo>
                  <a:lnTo>
                    <a:pt x="736" y="877"/>
                  </a:lnTo>
                  <a:lnTo>
                    <a:pt x="724" y="889"/>
                  </a:lnTo>
                  <a:lnTo>
                    <a:pt x="718" y="895"/>
                  </a:lnTo>
                  <a:lnTo>
                    <a:pt x="706" y="901"/>
                  </a:lnTo>
                  <a:lnTo>
                    <a:pt x="701" y="912"/>
                  </a:lnTo>
                  <a:lnTo>
                    <a:pt x="689" y="918"/>
                  </a:lnTo>
                  <a:lnTo>
                    <a:pt x="683" y="930"/>
                  </a:lnTo>
                  <a:lnTo>
                    <a:pt x="671" y="936"/>
                  </a:lnTo>
                  <a:lnTo>
                    <a:pt x="665" y="948"/>
                  </a:lnTo>
                  <a:lnTo>
                    <a:pt x="659" y="960"/>
                  </a:lnTo>
                  <a:lnTo>
                    <a:pt x="648" y="965"/>
                  </a:lnTo>
                  <a:lnTo>
                    <a:pt x="642" y="977"/>
                  </a:lnTo>
                  <a:lnTo>
                    <a:pt x="636" y="989"/>
                  </a:lnTo>
                  <a:lnTo>
                    <a:pt x="630" y="995"/>
                  </a:lnTo>
                  <a:lnTo>
                    <a:pt x="618" y="1007"/>
                  </a:lnTo>
                  <a:lnTo>
                    <a:pt x="612" y="1018"/>
                  </a:lnTo>
                  <a:lnTo>
                    <a:pt x="606" y="1024"/>
                  </a:lnTo>
                  <a:lnTo>
                    <a:pt x="600" y="1036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24720" y="6480000"/>
            <a:ext cx="222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Garamond"/>
              </a:rPr>
              <a:t>Макіївка; 1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94360" y="6143760"/>
            <a:ext cx="152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Торез; 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167760" y="3197160"/>
            <a:ext cx="250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Маріуполь; 1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1080" y="1363680"/>
            <a:ext cx="256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Краматорск; 8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63480" y="144288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Донецьк; 9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64480" y="3789360"/>
            <a:ext cx="20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Garamond"/>
              </a:rPr>
              <a:t>Горлівка; 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69760" y="3743280"/>
            <a:ext cx="123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74680" y="4118040"/>
            <a:ext cx="53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5280" y="188640"/>
            <a:ext cx="875052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720" y="157968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720" y="240840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720" y="470052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091760" y="1519200"/>
            <a:ext cx="5299560" cy="5104800"/>
            <a:chOff x="4091760" y="1519200"/>
            <a:chExt cx="5299560" cy="5104800"/>
          </a:xfrm>
        </p:grpSpPr>
        <p:sp>
          <p:nvSpPr>
            <p:cNvPr id="207" name=""/>
            <p:cNvSpPr/>
            <p:nvPr/>
          </p:nvSpPr>
          <p:spPr>
            <a:xfrm>
              <a:off x="4123080" y="1519200"/>
              <a:ext cx="117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Доруч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99200" y="1519200"/>
              <a:ext cx="127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езиден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45160" y="1519200"/>
              <a:ext cx="875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Украї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04920" y="151920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06320" y="1519200"/>
              <a:ext cx="102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19.11.20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28840" y="2347920"/>
              <a:ext cx="114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стан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83360" y="2347920"/>
              <a:ext cx="48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03280" y="234792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19000" y="234792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08.10.2010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18160" y="2347920"/>
              <a:ext cx="20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30200" y="2347920"/>
              <a:ext cx="50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1255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48600" y="23479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37880" y="2347920"/>
              <a:ext cx="53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«П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98960" y="269568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затверд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94040" y="2695680"/>
              <a:ext cx="125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ло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73840" y="269568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65880" y="269568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оек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2360" y="2695680"/>
              <a:ext cx="17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і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3044880"/>
              <a:ext cx="149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іоритет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53720" y="3044880"/>
              <a:ext cx="102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напрям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02400" y="3044880"/>
              <a:ext cx="108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соціаль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38120" y="30448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31280" y="304488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економіч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54440" y="30448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11920" y="339264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ультур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79560" y="3392640"/>
              <a:ext cx="99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розвит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99080" y="3392640"/>
              <a:ext cx="8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17800" y="3392640"/>
              <a:ext cx="1328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національн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31080" y="339264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оек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99400" y="33926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)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28840" y="4640400"/>
              <a:ext cx="114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стан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83360" y="4640400"/>
              <a:ext cx="48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4480" y="464040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33840" y="4640400"/>
              <a:ext cx="107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17.03.2011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75680" y="46404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№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21560" y="464040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331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21880" y="4640400"/>
              <a:ext cx="53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«П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32080" y="498780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ряд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18400" y="4994280"/>
              <a:ext cx="154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икорист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68200" y="4994280"/>
              <a:ext cx="76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ошт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90360" y="4994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30320" y="4987800"/>
              <a:ext cx="1538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ередбаче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69520" y="533700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80400" y="5337000"/>
              <a:ext cx="136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державно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96920" y="5337000"/>
              <a:ext cx="92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бюджет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20320" y="5337000"/>
              <a:ext cx="262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20200" y="5337000"/>
              <a:ext cx="75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захо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0600" y="5329080"/>
              <a:ext cx="58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щод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62280" y="5329080"/>
              <a:ext cx="112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створ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11200" y="5683320"/>
              <a:ext cx="797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мереж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66120" y="568332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регіональ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86320" y="5683320"/>
              <a:ext cx="168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еринаталь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34760" y="5688000"/>
              <a:ext cx="83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центр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46200" y="568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08320" y="6031080"/>
              <a:ext cx="1494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забезпече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74960" y="6031080"/>
              <a:ext cx="167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інноваційни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56440" y="6031080"/>
              <a:ext cx="15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технологі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50440" y="63802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99920" y="6380280"/>
              <a:ext cx="1047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сучасн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15120" y="6380280"/>
              <a:ext cx="158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обладнанням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3920" y="1728720"/>
            <a:ext cx="3228480" cy="4957560"/>
            <a:chOff x="223920" y="1728720"/>
            <a:chExt cx="3228480" cy="4957560"/>
          </a:xfrm>
        </p:grpSpPr>
        <p:sp>
          <p:nvSpPr>
            <p:cNvPr id="268" name=""/>
            <p:cNvSpPr/>
            <p:nvPr/>
          </p:nvSpPr>
          <p:spPr>
            <a:xfrm>
              <a:off x="576360" y="1728720"/>
              <a:ext cx="2658960" cy="168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1480" y="222372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바탕"/>
                  <a:ea typeface="Arial"/>
                </a:rPr>
                <a:t>ЗАКО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41040" y="2223720"/>
              <a:ext cx="4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바탕"/>
                  <a:ea typeface="Arial"/>
                </a:rPr>
                <a:t>УКРАЇН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743120" y="1814400"/>
              <a:ext cx="249120" cy="343080"/>
              <a:chOff x="1743120" y="1814400"/>
              <a:chExt cx="249120" cy="343080"/>
            </a:xfrm>
          </p:grpSpPr>
          <p:sp>
            <p:nvSpPr>
              <p:cNvPr id="272" name=""/>
              <p:cNvSpPr/>
              <p:nvPr/>
            </p:nvSpPr>
            <p:spPr>
              <a:xfrm>
                <a:off x="1743120" y="1814400"/>
                <a:ext cx="24732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43120" y="1814400"/>
                <a:ext cx="24732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1823760"/>
                <a:ext cx="239760" cy="33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1823760"/>
                <a:ext cx="23976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1004760" y="2634840"/>
              <a:ext cx="2447640" cy="33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223920" y="3426480"/>
              <a:ext cx="2529000" cy="325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769080" y="1017720"/>
            <a:ext cx="2844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3200" spc="-1" strike="noStrike">
                <a:solidFill>
                  <a:srgbClr val="003300"/>
                </a:solidFill>
                <a:latin typeface="Bookman Old Style"/>
              </a:rPr>
              <a:t>Третин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3200" spc="-1" strike="noStrike">
                <a:solidFill>
                  <a:srgbClr val="003300"/>
                </a:solidFill>
                <a:latin typeface="Bookman Old Style"/>
              </a:rPr>
              <a:t>рі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184640" y="2600280"/>
            <a:ext cx="1770120" cy="2755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58680"/>
            <a:ext cx="972180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Оптимізація ресурсів високоспеціалізова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перинаталь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97120" y="1316160"/>
            <a:ext cx="2832120" cy="1285920"/>
          </a:xfrm>
          <a:custGeom>
            <a:avLst/>
            <a:gdLst>
              <a:gd name="textAreaLeft" fmla="*/ 151560 w 2832120"/>
              <a:gd name="textAreaRight" fmla="*/ 2680560 w 2832120"/>
              <a:gd name="textAreaTop" fmla="*/ 151560 h 1285920"/>
              <a:gd name="textAreaBottom" fmla="*/ 1134360 h 1285920"/>
            </a:gdLst>
            <a:ahLst/>
            <a:rect l="textAreaLeft" t="textAreaTop" r="textAreaRight" b="textAreaBottom"/>
            <a:pathLst>
              <a:path w="475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3965" y="21600"/>
                </a:lnTo>
                <a:arcTo wR="3600" hR="3600" stAng="10800000" swAng="5400000"/>
                <a:lnTo>
                  <a:pt x="47565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man Old Style"/>
              </a:rPr>
              <a:t>ДРЦОМ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3213000"/>
            <a:ext cx="2832120" cy="1285920"/>
          </a:xfrm>
          <a:custGeom>
            <a:avLst/>
            <a:gdLst>
              <a:gd name="textAreaLeft" fmla="*/ 151560 w 2832120"/>
              <a:gd name="textAreaRight" fmla="*/ 2680560 w 2832120"/>
              <a:gd name="textAreaTop" fmla="*/ 151560 h 1285920"/>
              <a:gd name="textAreaBottom" fmla="*/ 1134360 h 1285920"/>
            </a:gdLst>
            <a:ahLst/>
            <a:rect l="textAreaLeft" t="textAreaTop" r="textAreaRight" b="textAreaBottom"/>
            <a:pathLst>
              <a:path w="475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3965" y="21600"/>
                </a:lnTo>
                <a:arcTo wR="3600" hR="3600" stAng="10800000" swAng="5400000"/>
                <a:lnTo>
                  <a:pt x="47565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Медико-генетич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цент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69960" y="5187960"/>
            <a:ext cx="2832120" cy="1284120"/>
          </a:xfrm>
          <a:custGeom>
            <a:avLst/>
            <a:gdLst>
              <a:gd name="textAreaLeft" fmla="*/ 151200 w 2832120"/>
              <a:gd name="textAreaRight" fmla="*/ 2680920 w 2832120"/>
              <a:gd name="textAreaTop" fmla="*/ 151200 h 1284120"/>
              <a:gd name="textAreaBottom" fmla="*/ 1132920 h 1284120"/>
            </a:gdLst>
            <a:ahLst/>
            <a:rect l="textAreaLeft" t="textAreaTop" r="textAreaRight" b="textAreaBottom"/>
            <a:pathLst>
              <a:path w="476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4031" y="21600"/>
                </a:lnTo>
                <a:arcTo wR="3600" hR="3600" stAng="10800000" swAng="5400000"/>
                <a:lnTo>
                  <a:pt x="47631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Донецьк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національ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медич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університ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99240" y="3094200"/>
            <a:ext cx="2679840" cy="1436400"/>
          </a:xfrm>
          <a:custGeom>
            <a:avLst/>
            <a:gdLst>
              <a:gd name="textAreaLeft" fmla="*/ 169200 w 2679840"/>
              <a:gd name="textAreaRight" fmla="*/ 2510640 w 2679840"/>
              <a:gd name="textAreaTop" fmla="*/ 169200 h 1436400"/>
              <a:gd name="textAreaBottom" fmla="*/ 1267200 h 1436400"/>
            </a:gdLst>
            <a:ahLst/>
            <a:rect l="textAreaLeft" t="textAreaTop" r="textAreaRight" b="textAreaBottom"/>
            <a:pathLst>
              <a:path w="402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6694" y="21600"/>
                </a:lnTo>
                <a:arcTo wR="3600" hR="3600" stAng="10800000" swAng="5400000"/>
                <a:lnTo>
                  <a:pt x="40294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Обласна дитяч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лікар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7480" y="5022720"/>
            <a:ext cx="2909880" cy="1511280"/>
          </a:xfrm>
          <a:prstGeom prst="hexagon">
            <a:avLst>
              <a:gd name="adj" fmla="val 48136"/>
              <a:gd name="vf" fmla="val 115470"/>
            </a:avLst>
          </a:pr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иїзні лікарсько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к</a:t>
            </a:r>
            <a:r>
              <a:rPr b="1" lang="ru-RU" sz="1900" spc="-1" strike="noStrike">
                <a:solidFill>
                  <a:srgbClr val="000000"/>
                </a:solidFill>
                <a:latin typeface="Bookman Old Style"/>
              </a:rPr>
              <a:t>онсультатив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рига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396440" y="365400"/>
            <a:ext cx="6903360" cy="6835680"/>
            <a:chOff x="1396440" y="365400"/>
            <a:chExt cx="6903360" cy="6835680"/>
          </a:xfrm>
        </p:grpSpPr>
        <p:sp>
          <p:nvSpPr>
            <p:cNvPr id="288" name=""/>
            <p:cNvSpPr/>
            <p:nvPr/>
          </p:nvSpPr>
          <p:spPr>
            <a:xfrm rot="2700000">
              <a:off x="1892880" y="2606040"/>
              <a:ext cx="2358000" cy="2381760"/>
            </a:xfrm>
            <a:custGeom>
              <a:avLst/>
              <a:gdLst/>
              <a:ahLst/>
              <a:rect l="l" t="t" r="r" b="b"/>
              <a:pathLst>
                <a:path w="235" h="234">
                  <a:moveTo>
                    <a:pt x="0" y="0"/>
                  </a:moveTo>
                  <a:cubicBezTo>
                    <a:pt x="0" y="129"/>
                    <a:pt x="105" y="234"/>
                    <a:pt x="234" y="234"/>
                  </a:cubicBez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700000">
              <a:off x="5441400" y="2616120"/>
              <a:ext cx="2358720" cy="23900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5" y="235"/>
                  </a:moveTo>
                  <a:cubicBezTo>
                    <a:pt x="235" y="105"/>
                    <a:pt x="129" y="0"/>
                    <a:pt x="0" y="0"/>
                  </a:cubicBezTo>
                  <a:lnTo>
                    <a:pt x="0" y="235"/>
                  </a:lnTo>
                  <a:lnTo>
                    <a:pt x="235" y="235"/>
                  </a:lnTo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700000">
              <a:off x="3670200" y="4325040"/>
              <a:ext cx="2358720" cy="239220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cubicBezTo>
                    <a:pt x="129" y="235"/>
                    <a:pt x="235" y="129"/>
                    <a:pt x="235" y="0"/>
                  </a:cubicBezTo>
                  <a:lnTo>
                    <a:pt x="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700000">
              <a:off x="3667680" y="848880"/>
              <a:ext cx="2358000" cy="23900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cubicBezTo>
                    <a:pt x="105" y="0"/>
                    <a:pt x="0" y="105"/>
                    <a:pt x="0" y="234"/>
                  </a:cubicBezTo>
                  <a:lnTo>
                    <a:pt x="235" y="235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80560" y="3480120"/>
              <a:ext cx="10731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Дитяч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лікран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52600" y="2148120"/>
              <a:ext cx="1319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003300"/>
                  </a:solidFill>
                  <a:latin typeface="Bookman Old Style"/>
                </a:rPr>
                <a:t>ДРЦОМ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7840" y="5225040"/>
              <a:ext cx="280440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ffffff"/>
                  </a:solidFill>
                  <a:latin typeface="Bookman Old Style"/>
                </a:rPr>
                <a:t>Медико-генетични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ffffff"/>
                  </a:solidFill>
                  <a:latin typeface="Bookman Old Style"/>
                </a:rPr>
                <a:t>цент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0480" y="3501720"/>
              <a:ext cx="2165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Кардіохіругіч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цент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390840" y="3086280"/>
            <a:ext cx="2909880" cy="1420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Виїзні лікарсь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нсультатив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бриг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2239E-006 L 0 0.25717 E">
                                      <p:cBhvr>
                                        <p:cTn id="174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3469E-006 L -0.32691 2.53469E-006 E">
                                      <p:cBhvr>
                                        <p:cTn id="17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80204E-006 L 0.31892 0.00023 E">
                                      <p:cBhvr>
                                        <p:cTn id="17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3284E-007 L 0.19288 -0.27775 E">
                                      <p:cBhvr>
                                        <p:cTn id="18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66512E-006 L -0.20486 -0.27266 E">
                                      <p:cBhvr>
                                        <p:cTn id="18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5280" y="144000"/>
            <a:ext cx="8750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Аудит відповідності міжнародним стандар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23920" y="936720"/>
          <a:ext cx="9288360" cy="6080040"/>
        </p:xfrm>
        <a:graphic>
          <a:graphicData uri="http://schemas.openxmlformats.org/drawingml/2006/table">
            <a:tbl>
              <a:tblPr/>
              <a:tblGrid>
                <a:gridCol w="534960"/>
                <a:gridCol w="3151080"/>
                <a:gridCol w="1965240"/>
                <a:gridCol w="3637080"/>
              </a:tblGrid>
              <a:tr h="77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№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Характеристика Донецького регіонального центру охорони материнства та дити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ність до міжнародних стандартів з організаці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обхідні заходи для приведення закладу до міжнародних стандар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2620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труктура лікувального закла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обота підрозділів, завантаженість, кількість полог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Кваліфікація лікарів та середнього медичного персон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 част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роведення навчальних тренінгів, особливо з середнім медичним персон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Оснащення необхідним обладнанн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 част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отребує  дооснащення дихальною апаратурою відділення реанімації новонароджених (особливо для мало вагових); оновлення обладнання для операційного блоку, наркозно-дихальна та слідкуюча для відділення акушерської реані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иїзна консультативно-транспортна бригада екстреної акушерської та неонатологі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 част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Забезпечення медичним транспортом з можливістю транспортування вагітних, роділь, породіль та новонароджених в тяжких стан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истема вентиля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 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еконструктивні роботи згідно з проектно-кошторисною документацією, розробленою сумісно з технічними консультантами  Проект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истема повітря та газопостачання в блоках інтенсивної терап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 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еконструктивні роботи згідно з проектно-кошторисною документацією, розробленою сумісно з технічними консультантами  Прое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Штатний розк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 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озробка штатного розкладу для перинатального центру ІІІ рівня та погодження з МОЗ Украї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9469800" y="683424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71280"/>
            <a:ext cx="9721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Існуюча організація на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неонаталь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2979720"/>
            <a:ext cx="635292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993300"/>
                </a:solidFill>
                <a:latin typeface="Bookman Old Style"/>
              </a:rPr>
              <a:t>Вторинни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993300"/>
                </a:solidFill>
                <a:latin typeface="Bookman Old Style"/>
              </a:rPr>
              <a:t>рівень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3120" y="1297080"/>
            <a:ext cx="2144520" cy="151272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ідділе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(ЦМЛ, ЦР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уди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89360" y="3157560"/>
            <a:ext cx="2143080" cy="1359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Неонат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регіон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центр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75560" y="5408640"/>
            <a:ext cx="2219040" cy="13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Жіноч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консульт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(ЦМЛ, ЦРЛ, М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0:56:55Z</dcterms:created>
  <dc:creator>promo</dc:creator>
  <dc:description/>
  <dc:language>en-US</dc:language>
  <cp:lastModifiedBy>MIHP</cp:lastModifiedBy>
  <dcterms:modified xsi:type="dcterms:W3CDTF">2011-08-17T08:07:39Z</dcterms:modified>
  <cp:revision>439</cp:revision>
  <dc:subject/>
  <dc:title>Слайд 1</dc:title>
</cp:coreProperties>
</file>