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8944-D5D2-4E23-8D66-D91264468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94D-F1FC-4A25-9904-FDEE09041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724-087D-40DB-B520-96E57E73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742-3B4B-48DB-96CE-CB8E4CDE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937-47FD-49E2-9653-B8A33656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A8E-EB97-4A1B-94C9-E92AFF33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26DF-B858-4292-8CC0-C69A220D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F101-2BFD-4412-BDEB-21EF077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1B59-7C24-46D8-81B8-9456CB4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F095-D250-4589-BB33-FD74A110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3E4-06EA-435E-A054-D5B3046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9BE3-8D54-4C55-BDC0-186D36D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37F-A1E4-4A0B-A085-5B85044E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E54-2B62-4C55-B6EC-6874760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2D6D-0150-4934-8757-271E28E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DAAE-C704-4111-987F-7315F6A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544F-871B-4B90-BC34-49CB904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D27-EC6D-4AC7-B3DF-EF33560A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284-6AB4-4ADB-8857-8F0CA7EB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4C65-44CF-432A-919E-AC200666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98AB-77DB-4A12-A6F6-84276BE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BE64-2684-46E2-9108-232EEEA0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078A-5B76-4BF4-AE03-64B196D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05D2-7922-4BD6-9B6E-CEEA1AF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346-55DA-4524-B05E-1C34012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B328-D31E-4466-BE72-1B83A3C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02F8-3F8E-4651-A6B0-365CA53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45EE-91C1-4E9C-9DE2-8AF585B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6D4D-63C2-476D-A940-35E3769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AACF-90FB-487E-AD80-152881C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6C7C-04B7-409B-A7B9-2135B0F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ACE3-DE7C-44D0-A448-9C36C7D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AFF-A094-492D-B1C0-42C895C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E39-745F-41DA-A2EE-0006757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378-2D27-4ABA-96AB-5596A82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4CD-3B92-46A9-8B10-C1544F9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084-B901-4D94-9DEC-B75467E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616-142D-4E05-B634-D6DD1A6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B85-9641-4C0C-9568-66F903C472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CB7-7574-4522-90F2-77EF69FEC1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413B-19CD-4BBD-BD7C-2B2368AEDA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Організація Одеського регіонального перинатального центру у складі Одеської обласної клінічної лікарні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87980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ст. головного лікаря з акушерства та гінекології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.мед.н., проф. Посохова С.П</a:t>
            </a:r>
            <a:r>
              <a:rPr b="1" lang="uk-UA" sz="2800" spc="-1" strike="noStrike">
                <a:solidFill>
                  <a:srgbClr val="89898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F1"/>
          <p:cNvPicPr/>
          <p:nvPr/>
        </p:nvPicPr>
        <p:blipFill>
          <a:blip r:embed="rId1"/>
          <a:stretch/>
        </p:blipFill>
        <p:spPr>
          <a:xfrm>
            <a:off x="152280" y="30492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омплектованість лікарями – 110%, М\С – 100%, мол. мед. пер.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овлений лікарський і середній медичний персонал, який володіє знаннями і практичними навичками для надання  високотехнологічної акушерсько-гінекологічної та неонатологічної допомоги у тому числі жінкам з екстрагенітальною патологією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івля ОПЦ – акушерський корпус – 5 поверхів  (27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Потребує капітального ремо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5 поверх – пологово-операційне відді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логових залів 12 – не відповідають сучасним вимогам за площею та оснащенням (без санітарних вузлів – 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утні ліжка - трансфор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ащення недостатнє: відсутні сучасні апарати для КТГ, відсутній апарат для УЗ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– 60% палат на 2-4 матері та ди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ез санітарних кім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вагітності – 60% палат на 4-8 жі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дорослих – всього 6 міс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– не відповідає сучасним вимо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. терапії новонароджених на 12 ліжок – площі реанімаційних залів невеликі, перенасиченість апаратур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Проблеми перинатального центру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ування кафедри акушерства та гінекології ОНМУ на 5 поверсі  - порушення санепідрежи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достатність 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медичних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а вентиляції, кондиці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рдеробні для персо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рх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Вирішення проблем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а площа 8387 кв.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пус -1, поверхів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раховуючи недостатність площ для запровадження сучасних перинатальних технологій – рекомендована розчистка підвальних приміщень для створення першого поверху   - всього – 6 поверх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екомендована структура РП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1. Центр планування сі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2. Консультативна жіноча консульт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3. Медико-генетична консульт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приміщення знаходяться на базі консультативної поліклініки у задовільному ста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11"/>
          <p:cNvPicPr/>
          <p:nvPr/>
        </p:nvPicPr>
        <p:blipFill>
          <a:blip r:embed="rId1"/>
          <a:stretch/>
        </p:blipFill>
        <p:spPr>
          <a:xfrm>
            <a:off x="7956720" y="83808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2. Акушерськ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75c01"/>
                </a:solidFill>
                <a:latin typeface="Arial"/>
              </a:rPr>
              <a:t>2.1. Пологово-операційне відділ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ивідуальні пологові зали –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мейні пологові зали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ераційні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екційні бокси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2.2. Відділення сумісного перебування матері та дитини – 6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3. Відділення патології вагітності та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4. Відділення медицини плода на 3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5. Відділення реанімації та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Cj02381200000[1]"/>
          <p:cNvPicPr/>
          <p:nvPr/>
        </p:nvPicPr>
        <p:blipFill>
          <a:blip r:embed="rId1"/>
          <a:stretch/>
        </p:blipFill>
        <p:spPr>
          <a:xfrm>
            <a:off x="7010280" y="1143000"/>
            <a:ext cx="19051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1" lang="uk-UA" sz="3400" spc="-1" strike="noStrike">
                <a:solidFill>
                  <a:srgbClr val="cc3300"/>
                </a:solidFill>
                <a:latin typeface="Arial"/>
              </a:rPr>
              <a:t>Неонатологічний та педіатричний блок</a:t>
            </a:r>
            <a:r>
              <a:rPr b="1" lang="uk-UA" sz="3400" spc="-1" strike="noStrike">
                <a:solidFill>
                  <a:srgbClr val="e75c01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1.Відділення інтенсивної терапії для новонароджених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2. Відділення патології новонароджених та виходжування недоношених новонароджених на 20 ліж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. Гінекологічн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оване у головному корпусі О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5. Центр невідкладної та планово-консультативної акушерсько-гінекологічної  допом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Навчальний центр (кафедра акушерства та гінекології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04920" y="1523880"/>
            <a:ext cx="761976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по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11430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121932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11430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"/>
          <p:cNvSpPr/>
          <p:nvPr/>
        </p:nvSpPr>
        <p:spPr>
          <a:xfrm>
            <a:off x="297180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8"/>
          <p:cNvSpPr/>
          <p:nvPr/>
        </p:nvSpPr>
        <p:spPr>
          <a:xfrm>
            <a:off x="57913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9"/>
          <p:cNvSpPr/>
          <p:nvPr/>
        </p:nvSpPr>
        <p:spPr>
          <a:xfrm>
            <a:off x="44197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0"/>
          <p:cNvSpPr/>
          <p:nvPr/>
        </p:nvSpPr>
        <p:spPr>
          <a:xfrm>
            <a:off x="75438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2514600" y="403848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ардероб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2743200" y="525780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Calibri"/>
              </a:rPr>
              <a:t>Центр екстреної допом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авнобедренный треугольник 13"/>
          <p:cNvSpPr/>
          <p:nvPr/>
        </p:nvSpPr>
        <p:spPr>
          <a:xfrm>
            <a:off x="7086600" y="3657600"/>
            <a:ext cx="175248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рхів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авнобедренный треугольник 14"/>
          <p:cNvSpPr/>
          <p:nvPr/>
        </p:nvSpPr>
        <p:spPr>
          <a:xfrm>
            <a:off x="6477120" y="5029200"/>
            <a:ext cx="236196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. центр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Демографічна характеристика Одеської обла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елення Одеської області – 2, 4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інки фертильного віку – 616 8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зменшення на 14581 за 5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ежа ЛП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ський обласний перинатальний центр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 пологових будинків м. О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0 Ж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акушерсько-гінекологічних відділень в ЦР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2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Розташування відділень 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2 повер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rganization Chart 5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200" name="_s102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29"/>
            <p:cNvCxnSpPr>
              <a:stCxn id="204" idx="0"/>
              <a:endCxn id="202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1030"/>
            <p:cNvCxnSpPr>
              <a:stCxn id="206" idx="0"/>
              <a:endCxn id="202" idx="2"/>
            </p:cNvCxnSpPr>
            <p:nvPr/>
          </p:nvCxnSpPr>
          <p:spPr>
            <a:xfrm flipH="1" flipV="1" rot="5400000">
              <a:off x="2679480" y="242532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2" name="_s103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ймальн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Операційний бл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реанімаці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а інт. терапії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9 ліжо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інт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ерапії новонароджни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12 ліж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14475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Відділення реанімації та інтенсивної терапії для вагітних, породіль на 9 лі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 реанімаційних зали  - на 3 ліжка кож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індивідуальні палати інтенсивної терап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міщення відповідно до чинних нормативно - правових докумен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ідділення інтенсивної терапії для новонароджених 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німаційні зали на 4 ліжка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лятор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лата для виходжування методом кенгуру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даткові приміщ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Відділення РПЦ </a:t>
            </a:r>
            <a:br>
              <a:rPr sz="3400"/>
            </a:b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3 повер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Diagram 5"/>
          <p:cNvGrpSpPr/>
          <p:nvPr/>
        </p:nvGrpSpPr>
        <p:grpSpPr>
          <a:xfrm>
            <a:off x="3600360" y="2459160"/>
            <a:ext cx="1943280" cy="1942920"/>
            <a:chOff x="3600360" y="2459160"/>
            <a:chExt cx="1943280" cy="1942920"/>
          </a:xfrm>
        </p:grpSpPr>
        <p:sp>
          <p:nvSpPr>
            <p:cNvPr id="213" name="_s2052"/>
            <p:cNvSpPr/>
            <p:nvPr/>
          </p:nvSpPr>
          <p:spPr>
            <a:xfrm>
              <a:off x="3600360" y="2459160"/>
              <a:ext cx="1943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Organization Chart 15"/>
          <p:cNvGrpSpPr/>
          <p:nvPr/>
        </p:nvGrpSpPr>
        <p:grpSpPr>
          <a:xfrm>
            <a:off x="457200" y="1676520"/>
            <a:ext cx="8228880" cy="4529160"/>
            <a:chOff x="457200" y="1676520"/>
            <a:chExt cx="8228880" cy="4529160"/>
          </a:xfrm>
        </p:grpSpPr>
        <p:cxnSp>
          <p:nvCxnSpPr>
            <p:cNvPr id="215" name="_s2055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558400" y="250020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2056"/>
            <p:cNvCxnSpPr>
              <a:stCxn id="219" idx="0"/>
              <a:endCxn id="217" idx="2"/>
            </p:cNvCxnSpPr>
            <p:nvPr/>
          </p:nvCxnSpPr>
          <p:spPr>
            <a:xfrm flipV="1">
              <a:off x="4571280" y="348768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057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679480" y="250164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2058"/>
            <p:cNvSpPr/>
            <p:nvPr/>
          </p:nvSpPr>
          <p:spPr>
            <a:xfrm>
              <a:off x="3337200" y="167652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Акушерськ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9"/>
            <p:cNvSpPr/>
            <p:nvPr/>
          </p:nvSpPr>
          <p:spPr>
            <a:xfrm>
              <a:off x="45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і за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60"/>
            <p:cNvSpPr/>
            <p:nvPr/>
          </p:nvSpPr>
          <p:spPr>
            <a:xfrm>
              <a:off x="333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Сімей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061"/>
            <p:cNvSpPr/>
            <p:nvPr/>
          </p:nvSpPr>
          <p:spPr>
            <a:xfrm>
              <a:off x="621756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Додатков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міщ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25"/>
          <p:cNvSpPr/>
          <p:nvPr/>
        </p:nvSpPr>
        <p:spPr>
          <a:xfrm>
            <a:off x="6400800" y="1752480"/>
            <a:ext cx="24382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ді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толо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 лі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Відділення РПЦ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 4 поверх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09480" y="1752480"/>
            <a:ext cx="73152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ділення сумі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бування матері та ди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палати – “мати-дитин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санітарними вузл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057400" y="47242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к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на 6 діте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5943600" y="4724280"/>
            <a:ext cx="2438280" cy="129564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датк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5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медицини плода на 3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6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екстрагенітальної патології та патології вагітності на 4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мейні пологові зали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ІНШІ ДІАГНОСТИЧНІ ВІДДІЛЕНН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 базі О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ін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актеріологічна та вірусолог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ЛР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Т, МРТ, рентгенологічна служб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Центральна стерилізаці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ух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пітальний ремонт приміщень акушерського корпусу у відповідності з нормативною документаціє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акушерського корпусу для розподілення потоків госпіталізованих хвор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інфекційних боксів на 3 ліжка, палат для матерів без дітей ( 1 повер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аудиторій та лекційної зали навчального центра та для кафедри акушерства та гінекології ОН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Розчистка підвальних приміщень для створення господарських приміщень, архіву, роздягальних кімнат, гардеробу для співробітни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нових додаткових пологових залів та палат для перебування  матері та дитини, відділення патології новонароджених шляхом реконструкції старих приміщ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операційного блоку для створення двох незалежних операційних та пологової зали (2 повер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3300"/>
                </a:solidFill>
                <a:latin typeface="Arial"/>
              </a:rPr>
              <a:t>Показники Одеської області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акушерських ліжок не скорочувалось – 1375 (2,2 на 1000 жінок фертильного ві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Кількість полог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09 – 28 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10 – 28 565 (менше на 3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С – 11,7%о (2009 – 11,9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С- 3,42%о (2009- 4,04%о) – 0,62%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твонародження – 8, 33 %о( 2009- 7,91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Р:РНС- 1: 2,4  (ВООЗ 1: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планування приміщень для можливості виділення «чистих зон» у реанімаційних відділенн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ь анестезіології та інтенсивної терапії для вагітних, породі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ня реанімації новонароджених та відділення патології новонарод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ворення додаткового першого поверху з підвальних приміщень шляхом розчистки підвальних приміщень та зміни ре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фу території.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c3300"/>
                </a:solidFill>
                <a:latin typeface="Arial"/>
              </a:rPr>
              <a:t>Порядок реалізації проекту</a:t>
            </a: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удит 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ворення регіональної робочої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обка та затвердження концепції перинатальної допомоги в регіоні з календарним пл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ОРМАТИВНЕ ЗАБЕЗПЕЧЕННЯ  РЕОРГАНІЗАЦІЇ ПЕРИНАТАЛЬНОЇ ДОПОМОГИ В РЕГІОНІ З ПРИЗНАЧЕННЯМ КЕРІВНИКА ПЕРИНАТАЛЬНОГО ЦЕНТРУ ТА ПЛАНУ ПІДГОТОВКИ КАД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медичного завд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технічного завдання на обладнання (дооснащ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ЕННЯ «ЗАМОВНИКА» ГЕНПРОЕКТУ – ТЕНДЕРНІ ПРОЦЕД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КСПЕРТНА ОЦІНКА РОБОЧОГО ПРОЕКТУ (ЕКСПЕРТНА КОМІС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ДАННЯ В АІНП РОБОЧОГО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ІНАНСУВАННЯ ЗАХОДІВ СТВОРЕННЯ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Администратор\Рабочий стол\PA090004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C:\Documents and Settings\Администратор\Рабочий стол\фото 006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cc3300"/>
                </a:solidFill>
                <a:latin typeface="Arial"/>
              </a:rPr>
              <a:t>ВІТ новонароджени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Администратор\Рабочий стол\P3280058.JPG"/>
          <p:cNvPicPr/>
          <p:nvPr/>
        </p:nvPicPr>
        <p:blipFill>
          <a:blip r:embed="rId1"/>
          <a:stretch/>
        </p:blipFill>
        <p:spPr>
          <a:xfrm>
            <a:off x="-4495680" y="-6400800"/>
            <a:ext cx="14630400" cy="19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42557f"/>
                </a:solidFill>
                <a:latin typeface="Arial"/>
              </a:rPr>
              <a:t>Дякую за увагу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аист"/>
          <p:cNvPicPr/>
          <p:nvPr/>
        </p:nvPicPr>
        <p:blipFill>
          <a:blip r:embed="rId1"/>
          <a:stretch/>
        </p:blipFill>
        <p:spPr>
          <a:xfrm>
            <a:off x="7238880" y="457200"/>
            <a:ext cx="1366920" cy="1871640"/>
          </a:xfrm>
          <a:prstGeom prst="rect">
            <a:avLst/>
          </a:prstGeom>
          <a:ln w="9360">
            <a:solidFill>
              <a:srgbClr val="d9d8ec"/>
            </a:solidFill>
            <a:miter/>
          </a:ln>
        </p:spPr>
      </p:pic>
      <p:pic>
        <p:nvPicPr>
          <p:cNvPr id="253" name="Picture 7" descr="дети цветы жизни - дети"/>
          <p:cNvPicPr/>
          <p:nvPr/>
        </p:nvPicPr>
        <p:blipFill>
          <a:blip r:embed="rId2"/>
          <a:stretch/>
        </p:blipFill>
        <p:spPr>
          <a:xfrm>
            <a:off x="1447920" y="1676520"/>
            <a:ext cx="5486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Базовий заклад для РПЦ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Обласний перинатальний центр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“Лікарня, доброзичлива до дитин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ий на базі пологового будинку ОКЛ з 2006 року на 21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5c01"/>
                </a:solidFill>
                <a:latin typeface="Arial"/>
              </a:rPr>
              <a:t>1. 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ласний центр планування сі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дико-генетична консульта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ультація суміжними спеціалістами в обласній конс. полікліні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 невідкладної АГ допомоги (з 3 реанімобіл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Відділення існуючого  ОПЦ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гово-операційне відділення – 12 індивідуальних пологових залів, 2 операц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на 7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невиношування вагітності на 3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новонароджених на 12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на 1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Показники роботи О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ього пологів – 28 6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логів в ОПЦ – 4747 -1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ологи у сільських жителів – 4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e5"/>
                </a:solidFill>
                <a:latin typeface="Arial Black"/>
              </a:rPr>
              <a:t>Пологи у жінок з ЕП – 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С – 3 вип.  в ОКЛ (2009 – 8 вип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сі не попереджуваль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Роль ПЦ для надання перинатальної допомоги в регіон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1. Організаційно-методична робота (кураторська ро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. Лікувально-діагнос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у  т. ч. невідкладна допомога в районах області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3. Консультативна ро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аукова робота (підготовка кадрів, кафедри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натальний центр створюється на базі обласного пологового відділення (ОКЛ) багатопрофільного лікувального закладу, </a:t>
            </a:r>
            <a:r>
              <a:rPr b="0" lang="uk-UA" sz="2800" spc="-1" strike="noStrike">
                <a:solidFill>
                  <a:srgbClr val="0033cc"/>
                </a:solidFill>
                <a:latin typeface="Arial"/>
              </a:rPr>
              <a:t>оскільки основними причинами материнських та плодових втрат є екстрагенітальні захворювання жінок та передчасні полог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потребує антенатального спостереження вузькими спеціалістами, наявність яких у лікувальному закладі в одному правовому полі, унормовує медичну допомогу жінкам та поліпшує її якість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а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Ц має спеціальне оснащення та обладнання для надання акушерсько-гінекологічної і неонатологічної допомоги з метою дотримання принципу Концепції національного проекту «Нове життя» щодо створення перинатального центру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методом дооснащення сучасними інженерними та медичними технологія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ля забезпечення санітарно-протиепідемічного режиму структурних підрозділів перинатального центру, безпечних умов перебування жінок і дітей  та ум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20:45:34Z</dcterms:created>
  <dc:creator>BGastel</dc:creator>
  <dc:description/>
  <dc:language>en-US</dc:language>
  <cp:lastModifiedBy>user</cp:lastModifiedBy>
  <dcterms:modified xsi:type="dcterms:W3CDTF">2011-08-31T06:57:54Z</dcterms:modified>
  <cp:revision>45</cp:revision>
  <dc:subject/>
  <dc:title>Slide 1</dc:title>
</cp:coreProperties>
</file>