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3EA-4072-44EC-A146-B3B992A2C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E595-48DA-40AB-9BA2-27C212D85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310-49E2-4AAA-914E-69C51093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563-00E8-4955-B311-3A171DC1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2CA-FFDC-496C-96B1-FEB1DE21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089-8DD1-4F9B-91D0-54517333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96BD-DC15-4389-89D1-9AC32DEF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1A72-D725-4BC7-A69F-27BA8F3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758-829C-4C0B-917D-BEE9BE2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A72D-FBE0-401C-A50D-CE57F34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5F7C-9E6B-454D-84C6-D5BE8BF5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AE8-6238-4C4D-B89F-7F428190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264B-8A37-4D5F-8232-928B4BF0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61D-FD32-4794-ACD2-3AF26A3D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0453-2B3E-4B60-99F6-7AA2EE3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7168-373B-4939-A68D-CC46A46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2849-6CFE-40FE-B443-D34B565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D010-036C-41FD-B8B6-DCAD8081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88B5-F4B8-43FA-B669-FF7611FF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CD86-06CB-4931-B668-219F3CF1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1971-4B66-43A9-A131-A7E32B11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5902-92C7-4B47-B8F6-27C13C4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534B-DBBE-4C46-AD01-2CB7E9B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BD3A-C3B3-4CF5-8979-6927FA8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316-9F58-4ACF-AC0F-3C5AE444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8684-9CF2-4864-9298-6785C20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DF52-6F00-4036-BB96-E4854E06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CBCF-822E-48F4-B4FE-84CE68A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FB2E-6DAC-456B-BAFD-4CC5077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6B6B-9DC2-48A1-A87F-74918724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216D-AA27-4FA4-B4D4-B201B97D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2124-8B51-429A-B66C-B126296C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E41-2DA4-4C6B-8F2A-CEA7D87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F86-707F-490D-BEDA-B9AE248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5FA-15CA-4359-8B7B-F813D779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3AB-26FD-40D3-98E0-E3FFAC6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1A1-155A-47A1-B9E1-1AD9F7E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113-6D2C-43E4-B6A0-4A81B93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6ABD-126E-422A-9854-A5FA1E83FE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7BD-1A15-466F-B852-D9DE74F405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F5B9-65AF-444F-BF91-C14D8ED47A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Організація Одеського регіонального перинатального центру у складі Одеської обласної клінічної лікарні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87980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аст. головного лікаря з акушерства та гінекології О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Д.мед.н., проф. Посохова С.П</a:t>
            </a:r>
            <a:r>
              <a:rPr b="1" lang="uk-UA" sz="2800" spc="-1" strike="noStrike">
                <a:solidFill>
                  <a:srgbClr val="89898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F1"/>
          <p:cNvPicPr/>
          <p:nvPr/>
        </p:nvPicPr>
        <p:blipFill>
          <a:blip r:embed="rId1"/>
          <a:stretch/>
        </p:blipFill>
        <p:spPr>
          <a:xfrm>
            <a:off x="152280" y="30492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омплектованість лікарями – 110%, М\С – 100%, мол. мед. пер.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овлений лікарський і середній медичний персонал, який володіє знаннями і практичними навичками для надання  високотехнологічної акушерсько-гінекологічної та неонатологічної допомоги у тому числі жінкам з екстрагенітальною патологією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c00000"/>
                </a:solidFill>
                <a:latin typeface="Arial"/>
              </a:rPr>
              <a:t>Проблеми перинатального центру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івля ОПЦ – акушерський корпус – 5 поверхів  (27 рок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Потребує капітального ремон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75c01"/>
                </a:solidFill>
                <a:latin typeface="Arial"/>
              </a:rPr>
              <a:t>5 поверх – пологово-операційне відді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логових залів 12 – не відповідають сучасним вимогам за площею та оснащенням (без санітарних вузлів – 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утні ліжка - трансформ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ащення недостатнє: відсутні сучасні апарати для КТГ, відсутній апарат для УЗ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Проблеми перинатального цент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сумісного перебування матері та дитини – 60% палат на 2-4 матері та ди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ез санітарних кім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вагітності – 60% палат на 4-8 жі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для дорослих – всього 6 міс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новонароджених – не відповідає сучасним вимог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. терапії новонароджених на 12 ліжок – площі реанімаційних залів невеликі, перенасиченість апаратур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Проблеми перинатального центру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ташування кафедри акушерства та гінекології ОНМУ на 5 поверсі  - порушення санепідрежи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достатність  ліф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медичних ліф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а вентиляції, кондиціон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рдеробні для персо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рх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00000"/>
                </a:solidFill>
                <a:latin typeface="Arial"/>
              </a:rPr>
              <a:t>Вирішення проблем</a:t>
            </a: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а площа 8387 кв.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рпус -1, поверхів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Враховуючи недостатність площ для запровадження сучасних перинатальних технологій – рекомендована розчистка підвальних приміщень для створення першого поверху   - всього – 6 поверх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екомендована структура РПЦ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Амбулаторна допом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1. Центр планування сі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2. Консультативна жіноча консульт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3. Медико-генетична консульт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приміщення знаходяться на базі консультативної поліклініки у задовільному ста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11"/>
          <p:cNvPicPr/>
          <p:nvPr/>
        </p:nvPicPr>
        <p:blipFill>
          <a:blip r:embed="rId1"/>
          <a:stretch/>
        </p:blipFill>
        <p:spPr>
          <a:xfrm>
            <a:off x="7956720" y="83808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2. Акушерський бло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75c01"/>
                </a:solidFill>
                <a:latin typeface="Arial"/>
              </a:rPr>
              <a:t>2.1. Пологово-операційне відділе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ивідуальні пологові зали –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мейні пологові зали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ераційні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екційні бокси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2.2. Відділення сумісного перебування матері та дитини – 6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3. Відділення патології вагітності та екстрагенітальної патології на 4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4. Відділення медицини плода на 3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5. Відділення реанімації та інтенсивної терапії на 9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MCj02381200000[1]"/>
          <p:cNvPicPr/>
          <p:nvPr/>
        </p:nvPicPr>
        <p:blipFill>
          <a:blip r:embed="rId1"/>
          <a:stretch/>
        </p:blipFill>
        <p:spPr>
          <a:xfrm>
            <a:off x="7010280" y="1143000"/>
            <a:ext cx="19051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1" lang="uk-UA" sz="3400" spc="-1" strike="noStrike">
                <a:solidFill>
                  <a:srgbClr val="cc3300"/>
                </a:solidFill>
                <a:latin typeface="Arial"/>
              </a:rPr>
              <a:t>Неонатологічний та педіатричний блок</a:t>
            </a:r>
            <a:r>
              <a:rPr b="1" lang="uk-UA" sz="3400" spc="-1" strike="noStrike">
                <a:solidFill>
                  <a:srgbClr val="e75c01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1.Відділення інтенсивної терапії для новонароджених на 12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2. Відділення патології новонароджених та виходжування недоношених новонароджених на 20 ліж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. Гінекологічний бло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некологічне відділення на 50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ташоване у головному корпусі О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5. Центр невідкладної та планово-консультативної акушерсько-гінекологічної  допом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Навчальний центр (кафедра акушерства та гінекології ОН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04920" y="1523880"/>
            <a:ext cx="761976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по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1143000" y="25909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121932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11430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"/>
          <p:cNvSpPr/>
          <p:nvPr/>
        </p:nvSpPr>
        <p:spPr>
          <a:xfrm>
            <a:off x="297180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8"/>
          <p:cNvSpPr/>
          <p:nvPr/>
        </p:nvSpPr>
        <p:spPr>
          <a:xfrm>
            <a:off x="579132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9"/>
          <p:cNvSpPr/>
          <p:nvPr/>
        </p:nvSpPr>
        <p:spPr>
          <a:xfrm>
            <a:off x="441972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10"/>
          <p:cNvSpPr/>
          <p:nvPr/>
        </p:nvSpPr>
        <p:spPr>
          <a:xfrm>
            <a:off x="7543800" y="25909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1"/>
          <p:cNvSpPr/>
          <p:nvPr/>
        </p:nvSpPr>
        <p:spPr>
          <a:xfrm>
            <a:off x="2514600" y="4038480"/>
            <a:ext cx="35812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ардероб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2"/>
          <p:cNvSpPr/>
          <p:nvPr/>
        </p:nvSpPr>
        <p:spPr>
          <a:xfrm>
            <a:off x="2743200" y="5257800"/>
            <a:ext cx="35812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Calibri"/>
              </a:rPr>
              <a:t>Центр екстреної допом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Равнобедренный треугольник 13"/>
          <p:cNvSpPr/>
          <p:nvPr/>
        </p:nvSpPr>
        <p:spPr>
          <a:xfrm>
            <a:off x="7086600" y="3657600"/>
            <a:ext cx="1752480" cy="1295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рхів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Равнобедренный треугольник 14"/>
          <p:cNvSpPr/>
          <p:nvPr/>
        </p:nvSpPr>
        <p:spPr>
          <a:xfrm>
            <a:off x="6477120" y="5029200"/>
            <a:ext cx="2361960" cy="1295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вч. центр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Демографічна характеристика Одеської обла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селення Одеської області – 2, 4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інки фертильного віку – 616 8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зменшення на 14581 за 5 рок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режа ЛП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ський обласний перинатальний центр О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 пологових будинків м. О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0 Ж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5 акушерсько-гінекологічних відділень в ЦР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772400" y="914400"/>
            <a:ext cx="125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Розташування відділень </a:t>
            </a:r>
            <a:br>
              <a:rPr sz="3400"/>
            </a:b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2 повер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Organization Chart 5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200" name="_s102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29"/>
            <p:cNvCxnSpPr>
              <a:stCxn id="204" idx="0"/>
              <a:endCxn id="202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1030"/>
            <p:cNvCxnSpPr>
              <a:stCxn id="206" idx="0"/>
              <a:endCxn id="202" idx="2"/>
            </p:cNvCxnSpPr>
            <p:nvPr/>
          </p:nvCxnSpPr>
          <p:spPr>
            <a:xfrm flipH="1" flipV="1" rot="5400000">
              <a:off x="2679480" y="2425320"/>
              <a:ext cx="906480" cy="287820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2" name="_s103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риймальн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Операційний бло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Індивідуальн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а зал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реанімаці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та інт. терапії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на 9 ліжо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 інт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терапії новонароджни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На 12 ліжо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14475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75c01"/>
                </a:solidFill>
                <a:latin typeface="Arial"/>
              </a:rPr>
              <a:t>Відділення реанімації та інтенсивної терапії для вагітних, породіль на 9 лі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 реанімаційних зали  - на 3 ліжка кож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 індивідуальні палати інтенсивної терап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міщення відповідно до чинних нормативно - правових докумен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Відділення інтенсивної терапії для новонароджених  на 12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німаційні зали на 4 ліжка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олятор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алата для виходжування методом кенгуру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даткові приміщ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Відділення РПЦ </a:t>
            </a:r>
            <a:br>
              <a:rPr sz="3400"/>
            </a:b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3 поверх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Diagram 5"/>
          <p:cNvGrpSpPr/>
          <p:nvPr/>
        </p:nvGrpSpPr>
        <p:grpSpPr>
          <a:xfrm>
            <a:off x="3600360" y="2459160"/>
            <a:ext cx="1943280" cy="1942920"/>
            <a:chOff x="3600360" y="2459160"/>
            <a:chExt cx="1943280" cy="1942920"/>
          </a:xfrm>
        </p:grpSpPr>
        <p:sp>
          <p:nvSpPr>
            <p:cNvPr id="213" name="_s2052"/>
            <p:cNvSpPr/>
            <p:nvPr/>
          </p:nvSpPr>
          <p:spPr>
            <a:xfrm>
              <a:off x="3600360" y="2459160"/>
              <a:ext cx="1943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Organization Chart 15"/>
          <p:cNvGrpSpPr/>
          <p:nvPr/>
        </p:nvGrpSpPr>
        <p:grpSpPr>
          <a:xfrm>
            <a:off x="457200" y="1676520"/>
            <a:ext cx="8228880" cy="4529160"/>
            <a:chOff x="457200" y="1676520"/>
            <a:chExt cx="8228880" cy="4529160"/>
          </a:xfrm>
        </p:grpSpPr>
        <p:cxnSp>
          <p:nvCxnSpPr>
            <p:cNvPr id="215" name="_s2055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558400" y="2500200"/>
              <a:ext cx="906480" cy="288072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2056"/>
            <p:cNvCxnSpPr>
              <a:stCxn id="219" idx="0"/>
              <a:endCxn id="217" idx="2"/>
            </p:cNvCxnSpPr>
            <p:nvPr/>
          </p:nvCxnSpPr>
          <p:spPr>
            <a:xfrm flipV="1">
              <a:off x="4571280" y="348768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057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679480" y="2501640"/>
              <a:ext cx="906480" cy="287820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2058"/>
            <p:cNvSpPr/>
            <p:nvPr/>
          </p:nvSpPr>
          <p:spPr>
            <a:xfrm>
              <a:off x="3337200" y="167652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Акушерськ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9"/>
            <p:cNvSpPr/>
            <p:nvPr/>
          </p:nvSpPr>
          <p:spPr>
            <a:xfrm>
              <a:off x="45720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Індивідуаль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і за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2060"/>
            <p:cNvSpPr/>
            <p:nvPr/>
          </p:nvSpPr>
          <p:spPr>
            <a:xfrm>
              <a:off x="333720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Сімейн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а зал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061"/>
            <p:cNvSpPr/>
            <p:nvPr/>
          </p:nvSpPr>
          <p:spPr>
            <a:xfrm>
              <a:off x="621756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Додатков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риміщен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25"/>
          <p:cNvSpPr/>
          <p:nvPr/>
        </p:nvSpPr>
        <p:spPr>
          <a:xfrm>
            <a:off x="6400800" y="1752480"/>
            <a:ext cx="243828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ді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толо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онародж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20 лі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Відділення РПЦ</a:t>
            </a:r>
            <a:br>
              <a:rPr sz="3400"/>
            </a:b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 4 поверх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09480" y="1752480"/>
            <a:ext cx="73152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ділення суміс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бування матері та дит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палати – “мати-дитина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санітарними вузла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057400" y="47242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к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новонародж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на 6 діте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5943600" y="4724280"/>
            <a:ext cx="2438280" cy="129564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датк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5 повер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відділення медицини плода на 35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6 повер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відділення екстрагенітальної патології та патології вагітності на 45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мейні пологові зали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ІНШІ ДІАГНОСТИЧНІ ВІДДІЛЕННЯ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 базі О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лінічна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актеріологічна та вірусологічна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ЛР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Т, МРТ, рентгенологічна служб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Центральна стерилізаці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ух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пітальний ремонт приміщень акушерського корпусу у відповідності з нормативною документаціє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ове перепланування акушерського корпусу для розподілення потоків госпіталізованих хвор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інфекційних боксів на 3 ліжка, палат для матерів без дітей ( 1 повер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аудиторій та лекційної зали навчального центра та для кафедри акушерства та гінекології ОН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Розчистка підвальних приміщень для створення господарських приміщень, архіву, роздягальних кімнат, гардеробу для співробітни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Заплановані робо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нових додаткових пологових залів та палат для перебування  матері та дитини, відділення патології новонароджених шляхом реконструкції старих приміщ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ове перепланування операційного блоку для створення двох незалежних операційних та пологової зали (2 повер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3300"/>
                </a:solidFill>
                <a:latin typeface="Arial"/>
              </a:rPr>
              <a:t>Показники Одеської області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акушерських ліжок не скорочувалось – 1375 (2,2 на 1000 жінок фертильного ві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Кількість полог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09 – 28 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10 – 28 565 (менше на 3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С – 11,7%о (2009 – 11,9%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С- 3,42%о (2009- 4,04%о) – 0,62%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ртвонародження – 8, 33 %о( 2009- 7,91%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Р:РНС- 1: 2,4  (ВООЗ 1: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планування приміщень для можливості виділення «чистих зон» у реанімаційних відділенн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ліжкового фонду для відділень анестезіології та інтенсивної терапії для вагітних, породі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ліжкового фонду для відділення реанімації новонароджених та відділення патології новонарод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Заплановані робо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ворення додаткового першого поверху з підвальних приміщень шляхом розчистки підвальних приміщень та зміни ре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фу території.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c3300"/>
                </a:solidFill>
                <a:latin typeface="Arial"/>
              </a:rPr>
              <a:t>Порядок реалізації проекту</a:t>
            </a: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удит перинаталь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ворення регіональної робочої г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обка та затвердження концепції перинатальної допомоги в регіоні з календарним пл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ОРМАТИВНЕ ЗАБЕЗПЕЧЕННЯ  РЕОРГАНІЗАЦІЇ ПЕРИНАТАЛЬНОЇ ДОПОМОГИ В РЕГІОНІ З ПРИЗНАЧЕННЯМ КЕРІВНИКА ПЕРИНАТАЛЬНОГО ЦЕНТРУ ТА ПЛАНУ ПІДГОТОВКИ КАД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Times New Roman"/>
              </a:rPr>
              <a:t>Подання медичного завд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Times New Roman"/>
              </a:rPr>
              <a:t>Подання технічного завдання на обладнання (дооснаще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ЕННЯ «ЗАМОВНИКА» ГЕНПРОЕКТУ – ТЕНДЕРНІ ПРОЦЕД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КСПЕРТНА ОЦІНКА РОБОЧОГО ПРОЕКТУ (ЕКСПЕРТНА КОМІС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ДАННЯ В АІНП РОБОЧОГО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ІНАНСУВАННЯ ЗАХОДІВ СТВОРЕННЯ ПЕРИНАТАЛЬНОГО ЦЕН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Администратор\Рабочий стол\PA090004.JPG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C:\Documents and Settings\Администратор\Рабочий стол\фото 006.jpg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cc3300"/>
                </a:solidFill>
                <a:latin typeface="Arial"/>
              </a:rPr>
              <a:t>ВІТ новонароджени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Администратор\Рабочий стол\P3280058.JPG"/>
          <p:cNvPicPr/>
          <p:nvPr/>
        </p:nvPicPr>
        <p:blipFill>
          <a:blip r:embed="rId1"/>
          <a:stretch/>
        </p:blipFill>
        <p:spPr>
          <a:xfrm>
            <a:off x="-4495680" y="-6400800"/>
            <a:ext cx="14630400" cy="195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42557f"/>
                </a:solidFill>
                <a:latin typeface="Arial"/>
              </a:rPr>
              <a:t>Дякую за увагу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аист"/>
          <p:cNvPicPr/>
          <p:nvPr/>
        </p:nvPicPr>
        <p:blipFill>
          <a:blip r:embed="rId1"/>
          <a:stretch/>
        </p:blipFill>
        <p:spPr>
          <a:xfrm>
            <a:off x="7238880" y="457200"/>
            <a:ext cx="1366920" cy="1871640"/>
          </a:xfrm>
          <a:prstGeom prst="rect">
            <a:avLst/>
          </a:prstGeom>
          <a:ln w="9360">
            <a:solidFill>
              <a:srgbClr val="d9d8ec"/>
            </a:solidFill>
            <a:miter/>
          </a:ln>
        </p:spPr>
      </p:pic>
      <p:pic>
        <p:nvPicPr>
          <p:cNvPr id="253" name="Picture 7" descr="дети цветы жизни - дети"/>
          <p:cNvPicPr/>
          <p:nvPr/>
        </p:nvPicPr>
        <p:blipFill>
          <a:blip r:embed="rId2"/>
          <a:stretch/>
        </p:blipFill>
        <p:spPr>
          <a:xfrm>
            <a:off x="1447920" y="1676520"/>
            <a:ext cx="54864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Базовий заклад для РПЦ</a:t>
            </a:r>
            <a:br>
              <a:rPr sz="2500"/>
            </a:b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Обласний перинатальний центр</a:t>
            </a:r>
            <a:br>
              <a:rPr sz="2500"/>
            </a:b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“Лікарня, доброзичлива до дитин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критий на базі пологового будинку ОКЛ з 2006 року на 21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5c01"/>
                </a:solidFill>
                <a:latin typeface="Arial"/>
              </a:rPr>
              <a:t>1. Амбулаторна допом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ласний центр планування сі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дико-генетична консульта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ультація суміжними спеціалістами в обласній конс. поліклініц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нтр невідкладної АГ допомоги (з 3 реанімобіл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Відділення існуючого  ОПЦ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гово-операційне відділення – 12 індивідуальних пологових залів, 2 операц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сумісного перебування матері та дитини на 7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дділення екстрагенітальної патології на 4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дділення невиношування вагітності на 3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на 9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для новонароджених на 12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новонароджених на 1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інекологічне відділення на 50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00000"/>
                </a:solidFill>
                <a:latin typeface="Arial"/>
              </a:rPr>
              <a:t>Показники роботи О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ього пологів – 28 6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логів в ОПЦ – 4747 -16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ологи у сільських жителів – 4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e5"/>
                </a:solidFill>
                <a:latin typeface="Arial Black"/>
              </a:rPr>
              <a:t>Пологи у жінок з ЕП – 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С – 3 вип.  в ОКЛ (2009 – 8 вип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сі не попереджуваль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Роль ПЦ для надання перинатальної допомоги в регіон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1. Організаційно-методична робота (кураторська ро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. Лікувально-діагностич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у  т. ч. невідкладна допомога в районах області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3. Консультативна ро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аукова робота (підготовка кадрів, кафедри ОН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натальний центр створюється на базі обласного пологового відділення (ОКЛ) багатопрофільного лікувального закладу, </a:t>
            </a:r>
            <a:r>
              <a:rPr b="0" lang="uk-UA" sz="2800" spc="-1" strike="noStrike">
                <a:solidFill>
                  <a:srgbClr val="0033cc"/>
                </a:solidFill>
                <a:latin typeface="Arial"/>
              </a:rPr>
              <a:t>оскільки основними причинами материнських та плодових втрат є екстрагенітальні захворювання жінок та передчасні полог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потребує антенатального спостереження вузькими спеціалістами, наявність яких у лікувальному закладі в одному правовому полі, унормовує медичну допомогу жінкам та поліпшує її якість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ащ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Ц має спеціальне оснащення та обладнання для надання акушерсько-гінекологічної і неонатологічної допомоги з метою дотримання принципу Концепції національного проекту «Нове життя» щодо створення перинатального центру 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методом дооснащення сучасними інженерними та медичними технологія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ля забезпечення санітарно-протиепідемічного режиму структурних підрозділів перинатального центру, безпечних умов перебування жінок і дітей  та ум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20:45:34Z</dcterms:created>
  <dc:creator>BGastel</dc:creator>
  <dc:description/>
  <dc:language>en-US</dc:language>
  <cp:lastModifiedBy>user</cp:lastModifiedBy>
  <dcterms:modified xsi:type="dcterms:W3CDTF">2011-08-31T06:57:54Z</dcterms:modified>
  <cp:revision>45</cp:revision>
  <dc:subject/>
  <dc:title>Slide 1</dc:title>
</cp:coreProperties>
</file>