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281D-3448-408B-AAFC-A9A7127426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A0EE-F625-4F82-A256-AFEADCA9A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B7C-52D9-4EDF-B7D6-63680432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CEE-C036-47B8-A3AB-A4ECE903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09A-F39D-4F3F-8103-CE149215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C05-44F0-48D0-B4AC-AA4DAFEF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BE2E-3521-425C-9FE3-ACE4FF699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E064-1C8A-422E-BE78-0BCA544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6C8D-A40C-46BF-9DB4-C8EB7D23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EB87-284E-4FA3-81F7-E6810D4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A28F-11CB-42B4-85A0-4DB97FF5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08BB-866A-47FC-9D07-513D15E3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62DE-FA36-4C32-B4DA-BC061579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505-5F9B-4657-8449-F6BB8ED9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5730-1CA1-448C-B0B6-FBC1DA4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A980-D5AA-4EEC-8441-E61A5978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BC4A-AB0A-498A-9E88-79371BE9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FA32-D369-467E-BA49-56959D1E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7E17-706A-4EB8-B79D-E07ECBBC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04A9-0D31-40B6-9A18-026D5113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894C4-C5BB-45FC-9D23-7C671A1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98B90-38AA-435E-BDC8-D5BE71A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2C8A-E6C3-4260-BDE6-42D69374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E59A-6211-4FA3-A808-DDBF1548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AAC-693E-4789-8AB2-A6C046D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93EB3-3598-4C10-BD05-01DC4653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5F664-7D09-4967-A57C-23335E4A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B874-6B69-4576-877B-C52BA9D7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9443-F5C7-4125-B765-C5211EE0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C1F2-8193-46F3-94B5-18BA60D1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01EAC-5783-4D2A-9041-EC926C3E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2D214-8C6C-49F9-BB5F-5DF1D352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E2D-ADA6-4CFF-917C-6B82F4A7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C20-88C8-409E-B403-4C01BDD7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783-6C0A-4D0C-8EE5-9462E321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00F-FEDD-4EB7-AD36-B396EBC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722-4682-4CFA-A9CE-2F6D6FC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F54-24CF-4CC9-9459-564773B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7A2F-6863-4896-A5AA-35E9D678A1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8D15-E5E1-4D8A-A691-5CEDC741B00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761C-6A53-4103-A397-666D603DF9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Організація Одеського регіонального перинатального центру у складі Одеської обласної клінічної лікарні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87980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Заст. головного лікаря з акушерства та гінекології О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2060"/>
                </a:solidFill>
                <a:latin typeface="Arial"/>
              </a:rPr>
              <a:t>Д.мед.н., проф. Посохова С.П</a:t>
            </a:r>
            <a:r>
              <a:rPr b="1" lang="uk-UA" sz="2800" spc="-1" strike="noStrike">
                <a:solidFill>
                  <a:srgbClr val="89898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BF1"/>
          <p:cNvPicPr/>
          <p:nvPr/>
        </p:nvPicPr>
        <p:blipFill>
          <a:blip r:embed="rId1"/>
          <a:stretch/>
        </p:blipFill>
        <p:spPr>
          <a:xfrm>
            <a:off x="152280" y="304920"/>
            <a:ext cx="1600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д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омплектованість лікарями – 110%, М\С – 100%, мол. мед. пер.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ідготовлений лікарський і середній медичний персонал, який володіє знаннями і практичними навичками для надання  високотехнологічної акушерсько-гінекологічної та неонатологічної допомоги у тому числі жінкам з екстрагенітальною патологією.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700" spc="-1" strike="noStrike">
                <a:solidFill>
                  <a:srgbClr val="c00000"/>
                </a:solidFill>
                <a:latin typeface="Arial"/>
              </a:rPr>
              <a:t>Проблеми перинатального центру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удівля ОПЦ – акушерський корпус – 5 поверхів  (27 рок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Потребує капітального ремон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75c01"/>
                </a:solidFill>
                <a:latin typeface="Arial"/>
              </a:rPr>
              <a:t>5 поверх – пологово-операційне відді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ологових залів 12 – не відповідають сучасним вимогам за площею та оснащенням (без санітарних вузлів – 5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сутні ліжка - трансформ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снащення недостатнє: відсутні сучасні апарати для КТГ, відсутній апарат для УЗ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Проблеми перинатального цент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сумісного перебування матері та дитини – 60% палат на 2-4 матері та ди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Без санітарних кім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вагітності – 60% палат на 4-8 жін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для дорослих – всього 6 міс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новонароджених – не відповідає сучасним вимог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. терапії новонароджених на 12 ліжок – площі реанімаційних залів невеликі, перенасиченість апаратур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Проблеми перинатального центру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ташування кафедри акушерства та гінекології ОНМУ на 5 поверсі  - порушення санепідрежим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едостатність  ліф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утність медичних ліф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истема вентиляції, кондиціон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ардеробні для персо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рх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00000"/>
                </a:solidFill>
                <a:latin typeface="Arial"/>
              </a:rPr>
              <a:t>Вирішення проблем</a:t>
            </a: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а площа 8387 кв. 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рпус -1, поверхів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Враховуючи недостатність площ для запровадження сучасних перинатальних технологій – рекомендована розчистка підвальних приміщень для створення першого поверху   - всього – 6 поверх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екомендована структура РПЦ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uk-UA" sz="3200" spc="-1" strike="noStrike">
                <a:solidFill>
                  <a:srgbClr val="ff0000"/>
                </a:solidFill>
                <a:latin typeface="Arial"/>
              </a:rPr>
              <a:t>Амбулаторна допом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1. Центр планування сі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2. Консультативна жіноча консультаці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3. Медико-генетична консультац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сі приміщення знаходяться на базі консультативної поліклініки у задовільному ста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11"/>
          <p:cNvPicPr/>
          <p:nvPr/>
        </p:nvPicPr>
        <p:blipFill>
          <a:blip r:embed="rId1"/>
          <a:stretch/>
        </p:blipFill>
        <p:spPr>
          <a:xfrm>
            <a:off x="7956720" y="838080"/>
            <a:ext cx="118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2. Акушерський бло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8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e75c01"/>
                </a:solidFill>
                <a:latin typeface="Arial"/>
              </a:rPr>
              <a:t>2.1. Пологово-операційне відділе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дивідуальні пологові зали –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імейні пологові зали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ераційні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нфекційні бокси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Arial"/>
              </a:rPr>
              <a:t>2.2. Відділення сумісного перебування матері та дитини – 6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3. Відділення патології вагітності та екстрагенітальної патології на 4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4. Відділення медицини плода на 3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2.5. Відділення реанімації та інтенсивної терапії на 9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MCj02381200000[1]"/>
          <p:cNvPicPr/>
          <p:nvPr/>
        </p:nvPicPr>
        <p:blipFill>
          <a:blip r:embed="rId1"/>
          <a:stretch/>
        </p:blipFill>
        <p:spPr>
          <a:xfrm>
            <a:off x="7010280" y="1143000"/>
            <a:ext cx="19051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3. </a:t>
            </a:r>
            <a:r>
              <a:rPr b="1" lang="uk-UA" sz="3400" spc="-1" strike="noStrike">
                <a:solidFill>
                  <a:srgbClr val="cc3300"/>
                </a:solidFill>
                <a:latin typeface="Arial"/>
              </a:rPr>
              <a:t>Неонатологічний та педіатричний блок</a:t>
            </a:r>
            <a:r>
              <a:rPr b="1" lang="uk-UA" sz="3400" spc="-1" strike="noStrike">
                <a:solidFill>
                  <a:srgbClr val="e75c01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1.Відділення інтенсивної терапії для новонароджених на 12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.2. Відділення патології новонароджених та виходжування недоношених новонароджених на 20 ліж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6858000" y="4343400"/>
            <a:ext cx="167652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. Гінекологічний блок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інекологічне відділення на 50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ташоване у головному корпусі О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5. Центр невідкладної та планово-консультативної акушерсько-гінекологічної  допом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Навчальний центр (кафедра акушерства та гінекології ОН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3"/>
          <p:cNvSpPr/>
          <p:nvPr/>
        </p:nvSpPr>
        <p:spPr>
          <a:xfrm>
            <a:off x="304920" y="1523880"/>
            <a:ext cx="761976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 по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4"/>
          <p:cNvSpPr/>
          <p:nvPr/>
        </p:nvSpPr>
        <p:spPr>
          <a:xfrm>
            <a:off x="1143000" y="25909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5"/>
          <p:cNvSpPr/>
          <p:nvPr/>
        </p:nvSpPr>
        <p:spPr>
          <a:xfrm>
            <a:off x="121932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"/>
          <p:cNvSpPr/>
          <p:nvPr/>
        </p:nvSpPr>
        <p:spPr>
          <a:xfrm>
            <a:off x="1143000" y="40384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ІБ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"/>
          <p:cNvSpPr/>
          <p:nvPr/>
        </p:nvSpPr>
        <p:spPr>
          <a:xfrm>
            <a:off x="297180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8"/>
          <p:cNvSpPr/>
          <p:nvPr/>
        </p:nvSpPr>
        <p:spPr>
          <a:xfrm>
            <a:off x="579132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9"/>
          <p:cNvSpPr/>
          <p:nvPr/>
        </p:nvSpPr>
        <p:spPr>
          <a:xfrm>
            <a:off x="4419720" y="2666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10"/>
          <p:cNvSpPr/>
          <p:nvPr/>
        </p:nvSpPr>
        <p:spPr>
          <a:xfrm>
            <a:off x="7543800" y="25909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1"/>
          <p:cNvSpPr/>
          <p:nvPr/>
        </p:nvSpPr>
        <p:spPr>
          <a:xfrm>
            <a:off x="2514600" y="4038480"/>
            <a:ext cx="35812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Гардероб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Овал 12"/>
          <p:cNvSpPr/>
          <p:nvPr/>
        </p:nvSpPr>
        <p:spPr>
          <a:xfrm>
            <a:off x="2743200" y="5257800"/>
            <a:ext cx="3581280" cy="914400"/>
          </a:xfrm>
          <a:prstGeom prst="ellipse">
            <a:avLst/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3300"/>
                </a:solidFill>
                <a:latin typeface="Calibri"/>
              </a:rPr>
              <a:t>Центр екстреної допом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Равнобедренный треугольник 13"/>
          <p:cNvSpPr/>
          <p:nvPr/>
        </p:nvSpPr>
        <p:spPr>
          <a:xfrm>
            <a:off x="7086600" y="3657600"/>
            <a:ext cx="1752480" cy="1295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Архів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Равнобедренный треугольник 14"/>
          <p:cNvSpPr/>
          <p:nvPr/>
        </p:nvSpPr>
        <p:spPr>
          <a:xfrm>
            <a:off x="6477120" y="5029200"/>
            <a:ext cx="2361960" cy="1295280"/>
          </a:xfrm>
          <a:prstGeom prst="triangle">
            <a:avLst>
              <a:gd name="adj" fmla="val 50000"/>
            </a:avLst>
          </a:prstGeom>
          <a:solidFill>
            <a:srgbClr val="ccccff"/>
          </a:solidFill>
          <a:ln w="2556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Навч. центр</a:t>
            </a: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Демографічна характеристика Одеської област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селення Одеської області – 2, 4 мл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Жінки фертильного віку – 616 84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зменшення на 14581 за 5 рокі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режа ЛП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еський обласний перинатальний центр О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ДК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 пологових будинків м. Од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0 Ж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5 акушерсько-гінекологічних відділень в ЦР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7772400" y="914400"/>
            <a:ext cx="1257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Розташування відділень </a:t>
            </a:r>
            <a:br>
              <a:rPr sz="3400"/>
            </a:b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2 повер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Organization Chart 5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200" name="_s102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3" name="_s1029"/>
            <p:cNvCxnSpPr>
              <a:stCxn id="204" idx="0"/>
              <a:endCxn id="202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1030"/>
            <p:cNvCxnSpPr>
              <a:stCxn id="206" idx="0"/>
              <a:endCxn id="202" idx="2"/>
            </p:cNvCxnSpPr>
            <p:nvPr/>
          </p:nvCxnSpPr>
          <p:spPr>
            <a:xfrm flipH="1" flipV="1" rot="5400000">
              <a:off x="2679480" y="2425320"/>
              <a:ext cx="906480" cy="287820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2" name="_s103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риймальн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3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Операційний бло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Індивідуальн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а зал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реанімації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та інт. терапії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на 9 ліжок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 інт.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терапії новонароджних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На 12 ліжо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1920" y="1447560"/>
            <a:ext cx="815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e75c01"/>
                </a:solidFill>
                <a:latin typeface="Arial"/>
              </a:rPr>
              <a:t>Відділення реанімації та інтенсивної терапії для вагітних, породіль на 9 ліж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 реанімаційних зали  - на 3 ліжка кож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 індивідуальні палати інтенсивної терап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риміщення відповідно до чинних нормативно - правових документі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Відділення інтенсивної терапії для новонароджених  на 12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анімаційні зали на 4 ліжка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золятор –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алата для виходжування методом кенгуру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одаткові приміщен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Відділення РПЦ </a:t>
            </a:r>
            <a:br>
              <a:rPr sz="3400"/>
            </a:b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3 поверх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Diagram 5"/>
          <p:cNvGrpSpPr/>
          <p:nvPr/>
        </p:nvGrpSpPr>
        <p:grpSpPr>
          <a:xfrm>
            <a:off x="3600360" y="2459160"/>
            <a:ext cx="1943280" cy="1942920"/>
            <a:chOff x="3600360" y="2459160"/>
            <a:chExt cx="1943280" cy="1942920"/>
          </a:xfrm>
        </p:grpSpPr>
        <p:sp>
          <p:nvSpPr>
            <p:cNvPr id="213" name="_s2052"/>
            <p:cNvSpPr/>
            <p:nvPr/>
          </p:nvSpPr>
          <p:spPr>
            <a:xfrm>
              <a:off x="3600360" y="2459160"/>
              <a:ext cx="19432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Organization Chart 15"/>
          <p:cNvGrpSpPr/>
          <p:nvPr/>
        </p:nvGrpSpPr>
        <p:grpSpPr>
          <a:xfrm>
            <a:off x="457200" y="1676520"/>
            <a:ext cx="8228880" cy="4529160"/>
            <a:chOff x="457200" y="1676520"/>
            <a:chExt cx="8228880" cy="4529160"/>
          </a:xfrm>
        </p:grpSpPr>
        <p:cxnSp>
          <p:nvCxnSpPr>
            <p:cNvPr id="215" name="_s2055"/>
            <p:cNvCxnSpPr>
              <a:stCxn id="216" idx="0"/>
              <a:endCxn id="217" idx="2"/>
            </p:cNvCxnSpPr>
            <p:nvPr/>
          </p:nvCxnSpPr>
          <p:spPr>
            <a:xfrm flipV="1" rot="16200000">
              <a:off x="5558400" y="2500200"/>
              <a:ext cx="906480" cy="288072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2056"/>
            <p:cNvCxnSpPr>
              <a:stCxn id="219" idx="0"/>
              <a:endCxn id="217" idx="2"/>
            </p:cNvCxnSpPr>
            <p:nvPr/>
          </p:nvCxnSpPr>
          <p:spPr>
            <a:xfrm flipV="1">
              <a:off x="4571280" y="3487680"/>
              <a:ext cx="3240" cy="90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_s2057"/>
            <p:cNvCxnSpPr>
              <a:stCxn id="221" idx="0"/>
              <a:endCxn id="217" idx="2"/>
            </p:cNvCxnSpPr>
            <p:nvPr/>
          </p:nvCxnSpPr>
          <p:spPr>
            <a:xfrm flipH="1" flipV="1" rot="5400000">
              <a:off x="2679480" y="2501640"/>
              <a:ext cx="906480" cy="2878200"/>
            </a:xfrm>
            <a:prstGeom prst="bentConnector3">
              <a:avLst>
                <a:gd name="adj1" fmla="val 207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7" name="_s2058"/>
            <p:cNvSpPr/>
            <p:nvPr/>
          </p:nvSpPr>
          <p:spPr>
            <a:xfrm>
              <a:off x="3337200" y="167652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Акушерськ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відділен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9"/>
            <p:cNvSpPr/>
            <p:nvPr/>
          </p:nvSpPr>
          <p:spPr>
            <a:xfrm>
              <a:off x="45720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Індивідуальн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і за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10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2060"/>
            <p:cNvSpPr/>
            <p:nvPr/>
          </p:nvSpPr>
          <p:spPr>
            <a:xfrm>
              <a:off x="333720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Сімейн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ологова зала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2061"/>
            <p:cNvSpPr/>
            <p:nvPr/>
          </p:nvSpPr>
          <p:spPr>
            <a:xfrm>
              <a:off x="6217560" y="439416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Додаткові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Arial"/>
                </a:rPr>
                <a:t>приміщення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Rectangle 25"/>
          <p:cNvSpPr/>
          <p:nvPr/>
        </p:nvSpPr>
        <p:spPr>
          <a:xfrm>
            <a:off x="6400800" y="1752480"/>
            <a:ext cx="2438280" cy="129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ідділ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атоло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онародж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20 ліж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Відділення РПЦ</a:t>
            </a:r>
            <a:br>
              <a:rPr sz="3400"/>
            </a:br>
            <a:r>
              <a:rPr b="0" lang="uk-UA" sz="3400" spc="-1" strike="noStrike">
                <a:solidFill>
                  <a:srgbClr val="cc3300"/>
                </a:solidFill>
                <a:latin typeface="Arial"/>
              </a:rPr>
              <a:t> 4 поверх</a:t>
            </a:r>
            <a:r>
              <a:rPr b="0" lang="uk-UA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609480" y="1752480"/>
            <a:ext cx="731520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ідділення суміс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ебування матері та дит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(палати – “мати-дитина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 санітарними вузлам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057400" y="4724280"/>
            <a:ext cx="2971800" cy="12193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к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новонародже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(на 6 дітей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5943600" y="4724280"/>
            <a:ext cx="2438280" cy="129564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одатк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иміщ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Розташування відділень Р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5 повер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відділення медицини плода на 35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6 поверх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відділення екстрагенітальної патології та патології вагітності на 45 лі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імейні пологові зали –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ІНШІ ДІАГНОСТИЧНІ ВІДДІЛЕННЯ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На базі ОК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лінічна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Бактеріологічна та вірусологічна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ПЛР лабораторі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Т, МРТ, рентгенологічна служб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Центральна стерилізацій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Кух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Адміністраці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пітальний ремонт приміщень акушерського корпусу у відповідності з нормативною документаціє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ове перепланування акушерського корпусу для розподілення потоків госпіталізованих хвор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інфекційних боксів на 3 ліжка, палат для матерів без дітей ( 1 повер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аудиторій та лекційної зали навчального центра та для кафедри акушерства та гінекології ОН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33cc"/>
                </a:solidFill>
                <a:latin typeface="Arial"/>
              </a:rPr>
              <a:t>Розчистка підвальних приміщень для створення господарських приміщень, архіву, роздягальних кімнат, гардеробу для співробітник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Заплановані робо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творення нових додаткових пологових залів та палат для перебування  матері та дитини, відділення патології новонароджених шляхом реконструкції старих приміщ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асткове перепланування операційного блоку для створення двох незалежних операційних та пологової зали (2 повер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c3300"/>
                </a:solidFill>
                <a:latin typeface="Arial"/>
              </a:rPr>
              <a:t>Показники Одеської області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ількість акушерських ліжок не скорочувалось – 1375 (2,2 на 1000 жінок фертильного вік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3300"/>
                </a:solidFill>
                <a:latin typeface="Arial"/>
              </a:rPr>
              <a:t>Кількість пологі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09 – 28 9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010 – 28 565 (менше на 36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С – 11,7%о (2009 – 11,9%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НС- 3,42%о (2009- 4,04%о) – 0,62%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ртвонародження – 8, 33 %о( 2009- 7,91%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Р:РНС- 1: 2,4  (ВООЗ 1: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ff0000"/>
                </a:solidFill>
                <a:latin typeface="Arial"/>
              </a:rPr>
              <a:t>Заплановані будівельні робо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планування приміщень для можливості виділення «чистих зон» у реанімаційних відділенн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ліжкового фонду для відділень анестезіології та інтенсивної терапії для вагітних, породі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ширення ліжкового фонду для відділення реанімації новонароджених та відділення патології новонародже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00000"/>
                </a:solidFill>
                <a:latin typeface="Arial"/>
              </a:rPr>
              <a:t>Заплановані робо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творення додаткового першого поверху з підвальних приміщень шляхом розчистки підвальних приміщень та зміни ре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єфу території.</a:t>
            </a: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cc3300"/>
                </a:solidFill>
                <a:latin typeface="Arial"/>
              </a:rPr>
              <a:t>Порядок реалізації проекту</a:t>
            </a:r>
            <a:r>
              <a:rPr b="0" lang="uk-UA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удит перинаталь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творення регіональної робочої груп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озробка та затвердження концепції перинатальної допомоги в регіоні з календарним пл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ОРМАТИВНЕ ЗАБЕЗПЕЧЕННЯ  РЕОРГАНІЗАЦІЇ ПЕРИНАТАЛЬНОЇ ДОПОМОГИ В РЕГІОНІ З ПРИЗНАЧЕННЯМ КЕРІВНИКА ПЕРИНАТАЛЬНОГО ЦЕНТРУ ТА ПЛАНУ ПІДГОТОВКИ КАДР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Times New Roman"/>
              </a:rPr>
              <a:t>Подання медичного завдан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cc"/>
                </a:solidFill>
                <a:latin typeface="Times New Roman"/>
              </a:rPr>
              <a:t>Подання технічного завдання на обладнання (дооснаще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ИЗНАЧЕННЯ «ЗАМОВНИКА» ГЕНПРОЕКТУ – ТЕНДЕРНІ ПРОЦЕДУ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КСПЕРТНА ОЦІНКА РОБОЧОГО ПРОЕКТУ (ЕКСПЕРТНА КОМІСІ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ДАННЯ В АІНП РОБОЧОГО ПРО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ФІНАНСУВАННЯ ЗАХОДІВ СТВОРЕННЯ ПЕРИНАТАЛЬНОГО ЦЕН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:\Documents and Settings\Администратор\Рабочий стол\PA090004.JPG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C:\Documents and Settings\Администратор\Рабочий стол\фото 006.jpg"/>
          <p:cNvPicPr/>
          <p:nvPr/>
        </p:nvPicPr>
        <p:blipFill>
          <a:blip r:embed="rId1"/>
          <a:stretch/>
        </p:blipFill>
        <p:spPr>
          <a:xfrm>
            <a:off x="-5181480" y="-3886200"/>
            <a:ext cx="19506960" cy="146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cc3300"/>
                </a:solidFill>
                <a:latin typeface="Arial"/>
              </a:rPr>
              <a:t>ВІТ новонароджених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Администратор\Рабочий стол\P3280058.JPG"/>
          <p:cNvPicPr/>
          <p:nvPr/>
        </p:nvPicPr>
        <p:blipFill>
          <a:blip r:embed="rId1"/>
          <a:stretch/>
        </p:blipFill>
        <p:spPr>
          <a:xfrm>
            <a:off x="-4495680" y="-6400800"/>
            <a:ext cx="14630400" cy="195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42557f"/>
                </a:solidFill>
                <a:latin typeface="Arial"/>
              </a:rPr>
              <a:t>Дякую за увагу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аист"/>
          <p:cNvPicPr/>
          <p:nvPr/>
        </p:nvPicPr>
        <p:blipFill>
          <a:blip r:embed="rId1"/>
          <a:stretch/>
        </p:blipFill>
        <p:spPr>
          <a:xfrm>
            <a:off x="7238880" y="457200"/>
            <a:ext cx="1366920" cy="1871640"/>
          </a:xfrm>
          <a:prstGeom prst="rect">
            <a:avLst/>
          </a:prstGeom>
          <a:ln w="9360">
            <a:solidFill>
              <a:srgbClr val="d9d8ec"/>
            </a:solidFill>
            <a:miter/>
          </a:ln>
        </p:spPr>
      </p:pic>
      <p:pic>
        <p:nvPicPr>
          <p:cNvPr id="253" name="Picture 7" descr="дети цветы жизни - дети"/>
          <p:cNvPicPr/>
          <p:nvPr/>
        </p:nvPicPr>
        <p:blipFill>
          <a:blip r:embed="rId2"/>
          <a:stretch/>
        </p:blipFill>
        <p:spPr>
          <a:xfrm>
            <a:off x="1447920" y="1676520"/>
            <a:ext cx="54864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Базовий заклад для РПЦ</a:t>
            </a:r>
            <a:br>
              <a:rPr sz="2500"/>
            </a:b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Обласний перинатальний центр</a:t>
            </a:r>
            <a:br>
              <a:rPr sz="2500"/>
            </a:br>
            <a:r>
              <a:rPr b="1" lang="uk-UA" sz="2500" spc="-1" strike="noStrike">
                <a:solidFill>
                  <a:srgbClr val="cc3300"/>
                </a:solidFill>
                <a:latin typeface="Arial"/>
              </a:rPr>
              <a:t>“Лікарня, доброзичлива до дитин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критий на базі пологового будинку ОКЛ з 2006 року на 21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75c01"/>
                </a:solidFill>
                <a:latin typeface="Arial"/>
              </a:rPr>
              <a:t>1. Амбулаторна допом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ласний центр планування сі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дико-генетична консульта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нсультація суміжними спеціалістами в обласній конс. поліклініц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ентр невідкладної АГ допомоги (з 3 реанімобіля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Arial"/>
              </a:rPr>
              <a:t>Відділення існуючого  ОПЦ</a:t>
            </a:r>
            <a:r>
              <a:rPr b="0" lang="uk-UA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ологово-операційне відділення – 12 індивідуальних пологових залів, 2 операційн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сумісного перебування матері та дитини на 7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дділення екстрагенітальної патології на 4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Arial"/>
              </a:rPr>
              <a:t>Відділення невиношування вагітності на 30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на 9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інтенсивної терапії для новонароджених на 12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ідділення патології новонароджених на 15 ліж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Гінекологічне відділення на 50 ліж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c00000"/>
                </a:solidFill>
                <a:latin typeface="Arial"/>
              </a:rPr>
              <a:t>Показники роботи ОП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Всього пологів – 28 69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ологів в ОПЦ – 4747 -16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Пологи у сільських жителів – 4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e5"/>
                </a:solidFill>
                <a:latin typeface="Arial Black"/>
              </a:rPr>
              <a:t>Пологи у жінок з ЕП – 8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МС – 3 вип.  в ОКЛ (2009 – 8 вип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 Black"/>
              </a:rPr>
              <a:t>Всі не попереджувальні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Роль ПЦ для надання перинатальної допомоги в регіон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1. Організаційно-методична робота (кураторська робо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2. Лікувально-діагностич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(у  т. ч. невідкладна допомога в районах області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3. Консультативна робо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Наукова робота (підготовка кадрів, кафедри ОНМ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еринатальний центр створюється на базі обласного пологового відділення (ОКЛ) багатопрофільного лікувального закладу, </a:t>
            </a:r>
            <a:r>
              <a:rPr b="0" lang="uk-UA" sz="2800" spc="-1" strike="noStrike">
                <a:solidFill>
                  <a:srgbClr val="0033cc"/>
                </a:solidFill>
                <a:latin typeface="Arial"/>
              </a:rPr>
              <a:t>оскільки основними причинами материнських та плодових втрат є екстрагенітальні захворювання жінок та передчасні пологи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, що потребує антенатального спостереження вузькими спеціалістами, наявність яких у лікувальному закладі в одному правовому полі, унормовує медичну допомогу жінкам та поліпшує її якість.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c00000"/>
                </a:solidFill>
                <a:latin typeface="Arial"/>
              </a:rPr>
              <a:t>Критерії для створення </a:t>
            </a:r>
            <a:r>
              <a:rPr b="1" lang="uk-UA" sz="3400" spc="-1" strike="noStrike">
                <a:solidFill>
                  <a:srgbClr val="c00000"/>
                </a:solidFill>
                <a:latin typeface="Calibri"/>
              </a:rPr>
              <a:t>регіонального перинатального центру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снащен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ПЦ має спеціальне оснащення та обладнання для надання акушерсько-гінекологічної і неонатологічної допомоги з метою дотримання принципу Концепції національного проекту «Нове життя» щодо створення перинатального центру </a:t>
            </a:r>
            <a:r>
              <a:rPr b="0" lang="uk-UA" sz="2400" spc="-1" strike="noStrike">
                <a:solidFill>
                  <a:srgbClr val="0033cc"/>
                </a:solidFill>
                <a:latin typeface="Arial"/>
              </a:rPr>
              <a:t>методом дооснащення сучасними інженерними та медичними технологіям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для забезпечення санітарно-протиепідемічного режиму структурних підрозділів перинатального центру, безпечних умов перебування жінок і дітей  та ум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20:45:34Z</dcterms:created>
  <dc:creator>BGastel</dc:creator>
  <dc:description/>
  <dc:language>en-US</dc:language>
  <cp:lastModifiedBy>user</cp:lastModifiedBy>
  <dcterms:modified xsi:type="dcterms:W3CDTF">2011-08-31T06:57:54Z</dcterms:modified>
  <cp:revision>45</cp:revision>
  <dc:subject/>
  <dc:title>Slide 1</dc:title>
</cp:coreProperties>
</file>