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AF97-F4AC-4155-AB6F-2BBEBDA9F3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411B182-5099-4590-8DA1-466D5EED4F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FC90C2D-03C0-4FE9-83CD-54CDB96046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Розподіл народжених живими та мертвими за ваговою категорією має тенденцію щодо покращення достовірності реєстрації маловагових категорі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Відсоток народжених до 1500 гр збільшений з 1,16 до 1,35 відсоткі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50448D-61BD-434B-8E2B-8CA55B9BB8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EE2BF57-6C3C-42E4-B23D-082CC49733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6EB48AA-7172-4F20-86E0-8B11F1C0D0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9EEEC96-8EBF-4A8C-871A-EDD3539AA2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52FB-8DE6-4A10-A89C-56840C679D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43D7-F3C5-4B3B-8AAB-D8C8450B62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46C2-AEDA-4E34-8E2B-12A954009B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CFB8-5060-4AD9-9200-D63BE3AD2C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DB2D-3516-415A-93E9-FD166B33C8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43F0-0024-4C6A-9038-6A1B940E27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39E-2D4B-4427-BDFE-3C8008FE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8E8-BFB5-4638-B3CB-B732ABA1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E06-3972-44C5-B3F2-E8523A4F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B73-47B5-4DCB-95BC-837A0C17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73EB-F80E-4BD2-BA6A-C49F2BC3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70F2-61ED-496D-A930-3683E0BD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381D-8E03-4987-9484-54C28C04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61E6-F49F-49AF-8A12-89834326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0482-740E-4AF7-BBA0-2F1A1146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C5F2-18AA-4BB8-A42A-C9AE85DB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583F-388B-4821-93F2-B81EBAD1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1AF-7DE7-4912-866C-923F69A0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1DCC-F138-4BB1-A8A5-6D5CCFB9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6A2F-6B13-4B6B-9D43-53B91556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1CA7-7CF5-4287-BF95-61703206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012D-1175-4379-92E0-E43636E6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702C-582C-43D1-A1AB-062E3A25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2EB6-92BF-4446-882A-39D034EC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404B-7786-403E-8384-490CC364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EE9B-98AD-4C34-9BB4-ACFE281C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D980-A087-4A0B-9DCB-2B13EC8C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53FC1-FEFC-4966-9AB4-3F344118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467-DC49-4B10-8DEC-98AD703E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8394-31A1-4EEF-BBA3-6D4F7C48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C15C-5424-4BFF-BD12-D133F782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B5B5-6E05-41CB-9B37-68BBB789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721C-567F-4C22-9CB1-13AB7232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678C-CBF9-49E7-B69E-7E835C12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8D512-9EAC-4139-B1D1-67ADC3D9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FBAA-0146-4436-9DE2-4E351F54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EA54-ECCA-4693-81ED-282C99CC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8B607-9BB5-4885-935E-64B5639B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B5CE0-10B4-4DC5-93A7-8E658A45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43F-2DE2-4620-8498-926A6BA4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868B-D916-41C4-BA48-E1AE05F1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4A5F9-6D8C-4448-8C55-560E71ED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BADBE-00EB-4EE2-8A28-69F30898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4EA3-3CDB-49C3-B712-A8446FB2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53AA-E12F-459D-B085-291496E4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8F3AC-F30C-4FA7-B47A-15FE2B8E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10ED-93D9-46B0-B205-F94330D4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AFB31-6D21-41A2-9B24-5463BB7D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0388B-9B4A-4DB7-82E3-AC48D458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8F2D-1726-4523-8DE3-F7AD7361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6FC-C5EE-41EB-9942-C47C1D93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785EE-9A7D-4F69-9F73-59240350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F5873-FB22-4B7F-953E-A29D1F3D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1F8C8-DF93-4E43-A067-911DC4B8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1F3D0-492D-4737-ADAB-5853D5BA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6CBAF-A75C-4C4F-9EEC-2EF82106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FC7AF-69D3-4D9D-BEAD-D849806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7B5C9-6BE5-411F-98A0-93DF42AF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F90FE-3DCE-44C9-ACCF-6664068D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96585-9A8D-4656-8B60-D2078FD8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BBBFF-0D5E-4456-8FDD-28F92436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B83-1B5A-459A-A9FB-D51B3B06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52239-1403-4A4E-986B-02FF7667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C6B-522A-47B4-BE38-2D0779E2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502-10B4-41EF-A880-739A30F2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D9D-640F-4475-9D2F-E346FA2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21b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FE3B-0E07-48DC-852D-C576DCF3807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576f"/>
            </a:gs>
            <a:gs pos="100000">
              <a:srgbClr val="023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B96F-69A8-4395-9089-609F6F81748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576f"/>
            </a:gs>
            <a:gs pos="100000">
              <a:srgbClr val="023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0C77-0E9B-45F9-A070-72181ECF93D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21b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285B-9462-44E1-AB49-D4B5234270D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21b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F36D-0544-43FF-A954-9581BAA885C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18229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14200" y="357120"/>
            <a:ext cx="8572680" cy="6281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93560" y="1133640"/>
            <a:ext cx="8137800" cy="1536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85840" y="4071960"/>
            <a:ext cx="3598920" cy="43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400" spc="-1" strike="noStrike">
                <a:solidFill>
                  <a:srgbClr val="262699"/>
                </a:solidFill>
                <a:latin typeface="Arial"/>
              </a:rPr>
              <a:t>Головне управління охорони здоров</a:t>
            </a:r>
            <a:r>
              <a:rPr b="1" lang="en-US" sz="1400" spc="-1" strike="noStrike">
                <a:solidFill>
                  <a:srgbClr val="262699"/>
                </a:solidFill>
                <a:latin typeface="Arial"/>
              </a:rPr>
              <a:t>’</a:t>
            </a:r>
            <a:r>
              <a:rPr b="1" lang="uk-UA" sz="1400" spc="-1" strike="noStrike">
                <a:solidFill>
                  <a:srgbClr val="262699"/>
                </a:solidFill>
                <a:latin typeface="Arial"/>
              </a:rPr>
              <a:t>я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400" spc="-1" strike="noStrike">
                <a:solidFill>
                  <a:srgbClr val="262699"/>
                </a:solidFill>
                <a:latin typeface="Arial"/>
              </a:rPr>
              <a:t>облдержадміністрації</a:t>
            </a:r>
            <a:r>
              <a:rPr b="1" lang="uk-UA" sz="600" spc="-1" strike="noStrike">
                <a:solidFill>
                  <a:srgbClr val="22228b"/>
                </a:solidFill>
                <a:latin typeface="Arial"/>
                <a:ea typeface="Arial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Подзаголовок 2"/>
          <p:cNvSpPr/>
          <p:nvPr/>
        </p:nvSpPr>
        <p:spPr>
          <a:xfrm>
            <a:off x="6732720" y="5229360"/>
            <a:ext cx="17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262699"/>
                </a:solidFill>
                <a:latin typeface="Arial"/>
              </a:rPr>
              <a:t>ДОПОВІДАЧ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262699"/>
                </a:solidFill>
                <a:latin typeface="Arial"/>
              </a:rPr>
              <a:t>ГІНЗБУРГ В.Г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Прямоугольник 10"/>
          <p:cNvSpPr/>
          <p:nvPr/>
        </p:nvSpPr>
        <p:spPr>
          <a:xfrm>
            <a:off x="0" y="1785960"/>
            <a:ext cx="2857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Равнобедренный треугольник 37"/>
          <p:cNvSpPr/>
          <p:nvPr/>
        </p:nvSpPr>
        <p:spPr>
          <a:xfrm rot="10800000">
            <a:off x="2285640" y="713520"/>
            <a:ext cx="4357800" cy="142920"/>
          </a:xfrm>
          <a:prstGeom prst="triangle">
            <a:avLst>
              <a:gd name="adj" fmla="val 50000"/>
            </a:avLst>
          </a:prstGeom>
          <a:solidFill>
            <a:srgbClr val="5c6ae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TextBox 43"/>
          <p:cNvSpPr/>
          <p:nvPr/>
        </p:nvSpPr>
        <p:spPr>
          <a:xfrm>
            <a:off x="2071800" y="2571840"/>
            <a:ext cx="6929280" cy="2559600"/>
          </a:xfrm>
          <a:prstGeom prst="rect">
            <a:avLst/>
          </a:prstGeom>
          <a:solidFill>
            <a:srgbClr val="c8e3fb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роведення на базах учбових центрів тренінгів з питань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реанімації новонароджених (4 тренінги – 8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впровадження перинатальних технологій, підтримки грудного вигодовування (8 тренінгів до 20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ланування сім*ї (4 тренінги до 10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роведення майстер-класів для лікарів УЗД-діагностики з питань пренатальної діагностики  ВВР (4 майстер-класи в рік – 16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Забезпечення підвищення кваліфікації фахівців, які будуть працювати в обласному перинатальному центрі згідно затвердженого плану графіку –  72 лікаря, 28 акушерок </a:t>
            </a:r>
            <a:r>
              <a:rPr b="1" lang="uk-UA" sz="1200" spc="-1" strike="noStrike">
                <a:solidFill>
                  <a:srgbClr val="c00000"/>
                </a:solidFill>
                <a:latin typeface="Verdana"/>
              </a:rPr>
              <a:t>Пройшли навчання – 20 лікарів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Забезпечення спеціалізації неонатологів та дитячих анестезіологів – 6 фахівців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Пятиугольник 8"/>
          <p:cNvSpPr/>
          <p:nvPr/>
        </p:nvSpPr>
        <p:spPr>
          <a:xfrm>
            <a:off x="357120" y="2714760"/>
            <a:ext cx="1785960" cy="240984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2409840"/>
              <a:gd name="textAreaBottom" fmla="*/ 2410200 h 24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5" y="0"/>
                </a:lnTo>
                <a:lnTo>
                  <a:pt x="21600" y="10800"/>
                </a:lnTo>
                <a:lnTo>
                  <a:pt x="152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c6aee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Для фахівців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вторинного та третинного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рівнів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Прямоугольник 11"/>
          <p:cNvSpPr/>
          <p:nvPr/>
        </p:nvSpPr>
        <p:spPr>
          <a:xfrm>
            <a:off x="214200" y="1285920"/>
            <a:ext cx="8643960" cy="2919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300" spc="-1" strike="noStrike">
                <a:solidFill>
                  <a:srgbClr val="0000cc"/>
                </a:solidFill>
                <a:latin typeface="Verdana"/>
              </a:rPr>
              <a:t>Укладання договору з ДУ “Інститут педіатрії, акушерства і гінекології НАМН України”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571680" y="28584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Шляхи підвищення кваліфікації та підготовки кадрі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2286000" y="3143160"/>
            <a:ext cx="6572160" cy="642960"/>
          </a:xfrm>
          <a:prstGeom prst="rect">
            <a:avLst/>
          </a:prstGeom>
          <a:solidFill>
            <a:srgbClr val="ff0000">
              <a:alpha val="14000"/>
            </a:srgbClr>
          </a:solidFill>
          <a:ln w="25560">
            <a:solidFill>
              <a:srgbClr val="0850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Calibri"/>
              </a:rPr>
              <a:t>Передумови створення обласного Перинатального центру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213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В області щорічно відбувається понад 25000 пологів у жінок з екстрагенітальною патологією та ускладненим перебігом вагітності, з них до 20% з важкою патологією (5000 пологів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Відбувається близько 2500 передчасних пологів та до 400 дітей народжується живими з вагою до 1500 г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явний  дефіцит неонатальних ліжок (60), в т. ч. реанімаційних (12) та відсутній потужний обласний пологовий центр (потужність існуючого – 1500 пологів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Децентралізована система надання неонатальної допомоги (2 ДЛ м. Дніпропетровська, 1 ДЛ м. Кривого Рогу,1 ДЛ м. Дніпродзержинська) – вкрай високі ризики для новонароджених при перетранспортуванні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Активне впровадження в практику хірургічної допомоги новонародженим при ВВР (загальна хірургія, кардіо- та нейрохірургія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5"/>
          <p:cNvGraphicFramePr/>
          <p:nvPr/>
        </p:nvGraphicFramePr>
        <p:xfrm>
          <a:off x="214200" y="2489040"/>
          <a:ext cx="8358480" cy="43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489040"/>
                    <a:ext cx="835848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Группа 7"/>
          <p:cNvGrpSpPr/>
          <p:nvPr/>
        </p:nvGrpSpPr>
        <p:grpSpPr>
          <a:xfrm>
            <a:off x="357120" y="357120"/>
            <a:ext cx="8501040" cy="928800"/>
            <a:chOff x="357120" y="357120"/>
            <a:chExt cx="8501040" cy="928800"/>
          </a:xfrm>
        </p:grpSpPr>
        <p:sp>
          <p:nvSpPr>
            <p:cNvPr id="370" name="Скругленный прямоугольник 13"/>
            <p:cNvSpPr/>
            <p:nvPr/>
          </p:nvSpPr>
          <p:spPr>
            <a:xfrm>
              <a:off x="357120" y="357120"/>
              <a:ext cx="8501040" cy="928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Скругленный прямоугольник 4"/>
            <p:cNvSpPr/>
            <p:nvPr/>
          </p:nvSpPr>
          <p:spPr>
            <a:xfrm>
              <a:off x="357120" y="498240"/>
              <a:ext cx="85010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uk-UA" sz="2000" spc="-1" strike="noStrike">
                  <a:solidFill>
                    <a:srgbClr val="000066"/>
                  </a:solidFill>
                  <a:latin typeface="Verdana"/>
                </a:rPr>
                <a:t>Достовірність реєстрації новонароджених  живих та мертвих з низькою масою тіла (500 -1499 гр)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2" name="Стрелка вниз 8"/>
          <p:cNvSpPr/>
          <p:nvPr/>
        </p:nvSpPr>
        <p:spPr>
          <a:xfrm>
            <a:off x="785880" y="1285920"/>
            <a:ext cx="2857320" cy="121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beac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Народжених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у ваговій категорії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1000-1499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(питома вага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Стрелка вниз 12"/>
          <p:cNvSpPr/>
          <p:nvPr/>
        </p:nvSpPr>
        <p:spPr>
          <a:xfrm>
            <a:off x="5643720" y="1285920"/>
            <a:ext cx="2857320" cy="121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df3d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Народжених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у ваговій категорії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500-999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(питома вага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06480" y="2515680"/>
            <a:ext cx="3322440" cy="2192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002060"/>
                </a:solidFill>
                <a:latin typeface="Calibri"/>
              </a:rPr>
              <a:t>0,59-----------Україна-------0,34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63520" y="274680"/>
            <a:ext cx="861696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500" spc="-1" strike="noStrike">
                <a:solidFill>
                  <a:srgbClr val="000066"/>
                </a:solidFill>
                <a:latin typeface="Calibri"/>
              </a:rPr>
              <a:t>Структура малюкової смертності за місцем смерті</a:t>
            </a:r>
            <a:br>
              <a:rPr sz="2500"/>
            </a:b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(Україна за 2010р – 53,2% смертність на рівні ВРІТ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6" name="Object 3"/>
          <p:cNvGraphicFramePr/>
          <p:nvPr/>
        </p:nvGraphicFramePr>
        <p:xfrm>
          <a:off x="190440" y="1092240"/>
          <a:ext cx="8302680" cy="54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092240"/>
                    <a:ext cx="830268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Овал 4"/>
          <p:cNvSpPr/>
          <p:nvPr/>
        </p:nvSpPr>
        <p:spPr>
          <a:xfrm>
            <a:off x="227160" y="4487760"/>
            <a:ext cx="1241280" cy="1131840"/>
          </a:xfrm>
          <a:prstGeom prst="ellipse">
            <a:avLst/>
          </a:prstGeom>
          <a:solidFill>
            <a:srgbClr val="d6c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18 </a:t>
            </a:r>
            <a:r>
              <a:rPr b="0" lang="uk-UA" sz="1000" spc="-1" strike="noStrike">
                <a:solidFill>
                  <a:srgbClr val="000000"/>
                </a:solidFill>
                <a:latin typeface="Century Gothic"/>
              </a:rPr>
              <a:t>ліжк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 Gothic"/>
              </a:rPr>
              <a:t>РІТН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Овал 5"/>
          <p:cNvSpPr/>
          <p:nvPr/>
        </p:nvSpPr>
        <p:spPr>
          <a:xfrm>
            <a:off x="2637000" y="4597560"/>
            <a:ext cx="1350720" cy="1204920"/>
          </a:xfrm>
          <a:prstGeom prst="ellipse">
            <a:avLst/>
          </a:prstGeom>
          <a:solidFill>
            <a:srgbClr val="d6c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18 </a:t>
            </a:r>
            <a:r>
              <a:rPr b="0" lang="uk-UA" sz="1000" spc="-1" strike="noStrike">
                <a:solidFill>
                  <a:srgbClr val="000000"/>
                </a:solidFill>
                <a:latin typeface="Century Gothic"/>
              </a:rPr>
              <a:t>ліжок – </a:t>
            </a:r>
            <a:r>
              <a:rPr b="0" lang="uk-UA" sz="1600" spc="-1" strike="noStrike">
                <a:solidFill>
                  <a:srgbClr val="000000"/>
                </a:solidFill>
                <a:latin typeface="Century Gothic"/>
              </a:rPr>
              <a:t>РІТН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Овал 3"/>
          <p:cNvSpPr/>
          <p:nvPr/>
        </p:nvSpPr>
        <p:spPr>
          <a:xfrm>
            <a:off x="5302080" y="4633920"/>
            <a:ext cx="1497240" cy="1278000"/>
          </a:xfrm>
          <a:prstGeom prst="ellipse">
            <a:avLst/>
          </a:prstGeom>
          <a:solidFill>
            <a:srgbClr val="d6c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24 </a:t>
            </a:r>
            <a:r>
              <a:rPr b="0" lang="uk-UA" sz="1000" spc="-1" strike="noStrike">
                <a:solidFill>
                  <a:srgbClr val="000000"/>
                </a:solidFill>
                <a:latin typeface="Century Gothic"/>
              </a:rPr>
              <a:t>ліжк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 Gothic"/>
              </a:rPr>
              <a:t>РІТН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Стрелка вверх 10"/>
          <p:cNvSpPr/>
          <p:nvPr/>
        </p:nvSpPr>
        <p:spPr>
          <a:xfrm>
            <a:off x="5776920" y="2698920"/>
            <a:ext cx="584280" cy="192708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Стрелка вниз 11"/>
          <p:cNvSpPr/>
          <p:nvPr/>
        </p:nvSpPr>
        <p:spPr>
          <a:xfrm>
            <a:off x="3147840" y="3137040"/>
            <a:ext cx="484200" cy="14605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428760" y="214200"/>
            <a:ext cx="83581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Структура міського пологового будинку №2</a:t>
            </a:r>
            <a:br>
              <a:rPr sz="2000"/>
            </a:b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м. Дніпропетровськ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84" name="Группа 27"/>
          <p:cNvGrpSpPr/>
          <p:nvPr/>
        </p:nvGrpSpPr>
        <p:grpSpPr>
          <a:xfrm>
            <a:off x="0" y="1214280"/>
            <a:ext cx="8858160" cy="5000760"/>
            <a:chOff x="0" y="1214280"/>
            <a:chExt cx="8858160" cy="5000760"/>
          </a:xfrm>
        </p:grpSpPr>
        <p:sp>
          <p:nvSpPr>
            <p:cNvPr id="385" name="AutoShape 4"/>
            <p:cNvSpPr/>
            <p:nvPr/>
          </p:nvSpPr>
          <p:spPr>
            <a:xfrm>
              <a:off x="0" y="3624120"/>
              <a:ext cx="1357200" cy="9334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дміністративно -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осподарчий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6" name="AutoShape 5"/>
            <p:cNvSpPr/>
            <p:nvPr/>
          </p:nvSpPr>
          <p:spPr>
            <a:xfrm>
              <a:off x="1071360" y="1447560"/>
              <a:ext cx="1500120" cy="777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Лікувально –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тивний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7" name="AutoShape 8"/>
            <p:cNvSpPr/>
            <p:nvPr/>
          </p:nvSpPr>
          <p:spPr>
            <a:xfrm>
              <a:off x="3357360" y="1292040"/>
              <a:ext cx="1857240" cy="912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інекологіч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15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8" name="AutoShape 9"/>
            <p:cNvSpPr/>
            <p:nvPr/>
          </p:nvSpPr>
          <p:spPr>
            <a:xfrm>
              <a:off x="3357360" y="3390840"/>
              <a:ext cx="1857240" cy="912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00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9" name="AutoShape 10"/>
            <p:cNvSpPr/>
            <p:nvPr/>
          </p:nvSpPr>
          <p:spPr>
            <a:xfrm>
              <a:off x="3357360" y="2303280"/>
              <a:ext cx="1857240" cy="911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нестезіології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та ІТ для жін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6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0" name="AutoShape 11"/>
            <p:cNvSpPr/>
            <p:nvPr/>
          </p:nvSpPr>
          <p:spPr>
            <a:xfrm>
              <a:off x="3286080" y="4857840"/>
              <a:ext cx="1857240" cy="129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для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овонароджених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ВІТ на 4 ліжка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ого блоку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1" name="AutoShape 14"/>
            <p:cNvSpPr/>
            <p:nvPr/>
          </p:nvSpPr>
          <p:spPr>
            <a:xfrm>
              <a:off x="5357880" y="1214280"/>
              <a:ext cx="3500280" cy="29545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Виконує функції обласних центрів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Планування сім*ї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Підліткової гінекології та перинатології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Акушерсько-гінекологічної допомоги жінкам-інвалідам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  <a:ea typeface="Arial"/>
                </a:rPr>
                <a:t>Виконує функції міського центру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Надання хірургічної допомоги акушерським хворим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Респіраторний центр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2" name="AutoShape 15"/>
            <p:cNvSpPr/>
            <p:nvPr/>
          </p:nvSpPr>
          <p:spPr>
            <a:xfrm>
              <a:off x="928440" y="4714920"/>
              <a:ext cx="2143080" cy="1500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Інформаційно-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налітич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тренінговими центрами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.Планування сім*ї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2.Єфективний перина-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тальний догляд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3.Грудне вигодовування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3" name="AutoShape 16"/>
            <p:cNvSpPr/>
            <p:nvPr/>
          </p:nvSpPr>
          <p:spPr>
            <a:xfrm>
              <a:off x="1500120" y="3390840"/>
              <a:ext cx="1285560" cy="912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Діагностичний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r>
                <a:rPr b="0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4" name="AutoShape 18"/>
            <p:cNvSpPr/>
            <p:nvPr/>
          </p:nvSpPr>
          <p:spPr>
            <a:xfrm>
              <a:off x="5357880" y="4714920"/>
              <a:ext cx="3500280" cy="13906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Забезпечення неонатальної допомог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Реанімація та інтенсивна терапі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хворим новонародженим протягом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першого тижня житт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395" name="AutoShape 70"/>
            <p:cNvCxnSpPr>
              <a:endCxn id="386" idx="1"/>
            </p:cNvCxnSpPr>
            <p:nvPr/>
          </p:nvCxnSpPr>
          <p:spPr>
            <a:xfrm flipH="1" flipV="1" rot="5400000">
              <a:off x="-118080" y="2381760"/>
              <a:ext cx="1736280" cy="643320"/>
            </a:xfrm>
            <a:prstGeom prst="bentConnector2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6" name="AutoShape 71"/>
            <p:cNvCxnSpPr>
              <a:stCxn id="385" idx="3"/>
              <a:endCxn id="392" idx="1"/>
            </p:cNvCxnSpPr>
            <p:nvPr/>
          </p:nvCxnSpPr>
          <p:spPr>
            <a:xfrm flipH="1">
              <a:off x="928080" y="4091040"/>
              <a:ext cx="429120" cy="1374480"/>
            </a:xfrm>
            <a:prstGeom prst="bentConnector5">
              <a:avLst>
                <a:gd name="adj1" fmla="val -53316"/>
                <a:gd name="adj2" fmla="val 39664"/>
                <a:gd name="adj3" fmla="val 153316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7" name="AutoShape 72"/>
            <p:cNvCxnSpPr/>
            <p:nvPr/>
          </p:nvCxnSpPr>
          <p:spPr>
            <a:xfrm rot="5400000">
              <a:off x="1376280" y="2275920"/>
              <a:ext cx="389160" cy="2862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8" name="AutoShape 74"/>
            <p:cNvCxnSpPr>
              <a:stCxn id="386" idx="3"/>
              <a:endCxn id="387" idx="1"/>
            </p:cNvCxnSpPr>
            <p:nvPr/>
          </p:nvCxnSpPr>
          <p:spPr>
            <a:xfrm flipV="1">
              <a:off x="2571480" y="1747800"/>
              <a:ext cx="786240" cy="88560"/>
            </a:xfrm>
            <a:prstGeom prst="bentConnector3">
              <a:avLst>
                <a:gd name="adj1" fmla="val 49977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9" name="AutoShape 76"/>
            <p:cNvCxnSpPr/>
            <p:nvPr/>
          </p:nvCxnSpPr>
          <p:spPr>
            <a:xfrm>
              <a:off x="2785680" y="4214520"/>
              <a:ext cx="643320" cy="6224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00" name="AutoShape 77"/>
            <p:cNvCxnSpPr>
              <a:stCxn id="393" idx="3"/>
            </p:cNvCxnSpPr>
            <p:nvPr/>
          </p:nvCxnSpPr>
          <p:spPr>
            <a:xfrm flipV="1">
              <a:off x="2785680" y="3548160"/>
              <a:ext cx="572040" cy="2995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01" name="Стрелка вправо 26"/>
            <p:cNvSpPr/>
            <p:nvPr/>
          </p:nvSpPr>
          <p:spPr>
            <a:xfrm flipH="1">
              <a:off x="4929120" y="2760480"/>
              <a:ext cx="536400" cy="9414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02" name="AutoShape 75"/>
            <p:cNvCxnSpPr/>
            <p:nvPr/>
          </p:nvCxnSpPr>
          <p:spPr>
            <a:xfrm flipH="1" flipV="1" rot="5400000">
              <a:off x="2763000" y="2012760"/>
              <a:ext cx="544680" cy="5007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03" name="AutoShape 5"/>
            <p:cNvSpPr/>
            <p:nvPr/>
          </p:nvSpPr>
          <p:spPr>
            <a:xfrm>
              <a:off x="500040" y="2614320"/>
              <a:ext cx="1116000" cy="6318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жіноча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ція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4" name="AutoShape 5"/>
            <p:cNvSpPr/>
            <p:nvPr/>
          </p:nvSpPr>
          <p:spPr>
            <a:xfrm>
              <a:off x="1714320" y="2614320"/>
              <a:ext cx="1330200" cy="5428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центр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планування сім</a:t>
              </a:r>
              <a:r>
                <a:rPr b="1" lang="en-US" sz="1000" spc="-1" strike="noStrike">
                  <a:solidFill>
                    <a:srgbClr val="002060"/>
                  </a:solidFill>
                  <a:latin typeface="Verdana"/>
                </a:rPr>
                <a:t>’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ї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05" name="AutoShape 72"/>
            <p:cNvCxnSpPr/>
            <p:nvPr/>
          </p:nvCxnSpPr>
          <p:spPr>
            <a:xfrm flipH="1" rot="16200000">
              <a:off x="1912680" y="2239920"/>
              <a:ext cx="389160" cy="3578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06" name="Стрелка вправо 25"/>
            <p:cNvSpPr/>
            <p:nvPr/>
          </p:nvSpPr>
          <p:spPr>
            <a:xfrm flipH="1">
              <a:off x="5000760" y="4946760"/>
              <a:ext cx="536400" cy="9414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07" name="AutoShape 5"/>
          <p:cNvSpPr/>
          <p:nvPr/>
        </p:nvSpPr>
        <p:spPr>
          <a:xfrm>
            <a:off x="285840" y="785880"/>
            <a:ext cx="3500280" cy="4921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Кафедра акушерства, гінекології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та перинатології ДДМ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5" descr="Panorama 2.JPG"/>
          <p:cNvPicPr/>
          <p:nvPr/>
        </p:nvPicPr>
        <p:blipFill>
          <a:blip r:embed="rId1"/>
          <a:srcRect l="0" t="0" r="27047" b="0"/>
          <a:stretch/>
        </p:blipFill>
        <p:spPr>
          <a:xfrm>
            <a:off x="928800" y="2071800"/>
            <a:ext cx="4124160" cy="27144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6" descr="Panorama 1.JPG"/>
          <p:cNvPicPr/>
          <p:nvPr/>
        </p:nvPicPr>
        <p:blipFill>
          <a:blip r:embed="rId2"/>
          <a:stretch/>
        </p:blipFill>
        <p:spPr>
          <a:xfrm>
            <a:off x="4500720" y="2071800"/>
            <a:ext cx="4071960" cy="27144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4200" y="172800"/>
            <a:ext cx="842976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Базові медичні заклади для реалізації проекту – створення обласного перинатального центру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285840" y="714240"/>
            <a:ext cx="4786200" cy="128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ДП № 1 КЗ «Міська дитяча клінічна лікарня № 5»</a:t>
            </a:r>
            <a:br>
              <a:rPr sz="1200"/>
            </a:b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м. Дніпропетровська (вул. Космічна, 15а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66"/>
                </a:solidFill>
                <a:latin typeface="Verdana"/>
              </a:rPr>
              <a:t>3-х – поверхова будівля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ік забудови – 198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Загальна площа – 3741,7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 </a:t>
            </a: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обоча площа – 1366,0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4429080" y="4857840"/>
            <a:ext cx="4572000" cy="1571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КЗ «Міський пологовий будинок № 2»            м. Дніпропетровська (вул. Космічна, 17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 </a:t>
            </a: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5-ти – поверхова будівля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ік забудови – 1983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Загальна площа – 14976,5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обоча площа – 5862,3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28440"/>
            <a:ext cx="9144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Структура перинатального центру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14" name="Группа 27"/>
          <p:cNvGrpSpPr/>
          <p:nvPr/>
        </p:nvGrpSpPr>
        <p:grpSpPr>
          <a:xfrm>
            <a:off x="142920" y="1714680"/>
            <a:ext cx="8715240" cy="4351320"/>
            <a:chOff x="142920" y="1714680"/>
            <a:chExt cx="8715240" cy="4351320"/>
          </a:xfrm>
        </p:grpSpPr>
        <p:cxnSp>
          <p:nvCxnSpPr>
            <p:cNvPr id="415" name="AutoShape 75"/>
            <p:cNvCxnSpPr>
              <a:endCxn id="416" idx="1"/>
            </p:cNvCxnSpPr>
            <p:nvPr/>
          </p:nvCxnSpPr>
          <p:spPr>
            <a:xfrm flipH="1" rot="16200000">
              <a:off x="2075400" y="4352760"/>
              <a:ext cx="1634040" cy="929160"/>
            </a:xfrm>
            <a:prstGeom prst="bentConnector2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17" name="AutoShape 4"/>
            <p:cNvSpPr/>
            <p:nvPr/>
          </p:nvSpPr>
          <p:spPr>
            <a:xfrm>
              <a:off x="142920" y="3429000"/>
              <a:ext cx="1357200" cy="7142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дміністративно -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осподарчий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>
              <a:off x="500040" y="1857240"/>
              <a:ext cx="2286000" cy="5000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Лікувально –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тивний 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AutoShape 8"/>
            <p:cNvSpPr/>
            <p:nvPr/>
          </p:nvSpPr>
          <p:spPr>
            <a:xfrm>
              <a:off x="3429000" y="1785960"/>
              <a:ext cx="1857240" cy="5522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інекологіч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25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AutoShape 9"/>
            <p:cNvSpPr/>
            <p:nvPr/>
          </p:nvSpPr>
          <p:spPr>
            <a:xfrm>
              <a:off x="3357360" y="3429000"/>
              <a:ext cx="1857240" cy="57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94 ліжка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AutoShape 10"/>
            <p:cNvSpPr/>
            <p:nvPr/>
          </p:nvSpPr>
          <p:spPr>
            <a:xfrm>
              <a:off x="3357360" y="2500200"/>
              <a:ext cx="1857240" cy="7142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нестезіології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та ІТ для жін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c00000"/>
                  </a:solidFill>
                  <a:latin typeface="Verdana"/>
                </a:rPr>
                <a:t>13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AutoShape 11"/>
            <p:cNvSpPr/>
            <p:nvPr/>
          </p:nvSpPr>
          <p:spPr>
            <a:xfrm>
              <a:off x="3357360" y="4286520"/>
              <a:ext cx="1857240" cy="7095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для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овонароджених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ВІТ на </a:t>
              </a:r>
              <a:r>
                <a:rPr b="1" lang="uk-UA" sz="1000" spc="-1" strike="noStrike">
                  <a:solidFill>
                    <a:srgbClr val="c00000"/>
                  </a:solidFill>
                  <a:latin typeface="Verdana"/>
                </a:rPr>
                <a:t>7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ого блоку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AutoShape 14"/>
            <p:cNvSpPr/>
            <p:nvPr/>
          </p:nvSpPr>
          <p:spPr>
            <a:xfrm>
              <a:off x="5357880" y="1714680"/>
              <a:ext cx="3500280" cy="24289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Забезпечення акушерської допомог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- при передчасних пологах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дівчаток та підлітків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жінок-інвалідів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вагітних з пренатально діагностованими хворобам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плоду, в т.ч. ВВР, які підлягають хірургічній корекції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випадках ускладненого перебігу вагітності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AutoShape 16"/>
            <p:cNvSpPr/>
            <p:nvPr/>
          </p:nvSpPr>
          <p:spPr>
            <a:xfrm>
              <a:off x="1643040" y="3429000"/>
              <a:ext cx="1285560" cy="695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Діагностичний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r>
                <a:rPr b="0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AutoShape 18"/>
            <p:cNvSpPr/>
            <p:nvPr/>
          </p:nvSpPr>
          <p:spPr>
            <a:xfrm>
              <a:off x="5357880" y="4286520"/>
              <a:ext cx="3500280" cy="17794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Забезпечення неонатальної допомог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Виходжування недоношених дітей,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забезпечення їх реабілітації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Забезпечення</a:t>
              </a:r>
              <a:r>
                <a:rPr b="1" lang="ru-RU" sz="1200" spc="-1" strike="noStrike">
                  <a:solidFill>
                    <a:srgbClr val="002060"/>
                  </a:solidFill>
                  <a:latin typeface="Verdana"/>
                </a:rPr>
                <a:t> 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анестезіологічної,</a:t>
              </a:r>
              <a:r>
                <a:rPr b="1" lang="ru-RU" sz="12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хірургічної допомоги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новонародженим , у т.ч.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нейрохірургічної, кардіохірургічної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26" name="AutoShape 70"/>
            <p:cNvCxnSpPr>
              <a:endCxn id="418" idx="1"/>
            </p:cNvCxnSpPr>
            <p:nvPr/>
          </p:nvCxnSpPr>
          <p:spPr>
            <a:xfrm flipH="1" flipV="1" rot="5400000">
              <a:off x="-269280" y="2660400"/>
              <a:ext cx="1322280" cy="214920"/>
            </a:xfrm>
            <a:prstGeom prst="bentConnector2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7" name="AutoShape 71"/>
            <p:cNvCxnSpPr/>
            <p:nvPr/>
          </p:nvCxnSpPr>
          <p:spPr>
            <a:xfrm>
              <a:off x="500040" y="4143240"/>
              <a:ext cx="429120" cy="286200"/>
            </a:xfrm>
            <a:prstGeom prst="bentConnector3">
              <a:avLst>
                <a:gd name="adj1" fmla="val 49958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8" name="AutoShape 72"/>
            <p:cNvCxnSpPr/>
            <p:nvPr/>
          </p:nvCxnSpPr>
          <p:spPr>
            <a:xfrm rot="5400000">
              <a:off x="1034640" y="2393280"/>
              <a:ext cx="357840" cy="286200"/>
            </a:xfrm>
            <a:prstGeom prst="bentConnector3">
              <a:avLst>
                <a:gd name="adj1" fmla="val 49949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9" name="AutoShape 74"/>
            <p:cNvCxnSpPr>
              <a:stCxn id="418" idx="3"/>
              <a:endCxn id="419" idx="1"/>
            </p:cNvCxnSpPr>
            <p:nvPr/>
          </p:nvCxnSpPr>
          <p:spPr>
            <a:xfrm flipV="1">
              <a:off x="2785680" y="2061360"/>
              <a:ext cx="643320" cy="45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30" name="AutoShape 76"/>
            <p:cNvCxnSpPr/>
            <p:nvPr/>
          </p:nvCxnSpPr>
          <p:spPr>
            <a:xfrm>
              <a:off x="2856960" y="3929040"/>
              <a:ext cx="572040" cy="5007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31" name="AutoShape 77"/>
            <p:cNvCxnSpPr>
              <a:stCxn id="424" idx="3"/>
            </p:cNvCxnSpPr>
            <p:nvPr/>
          </p:nvCxnSpPr>
          <p:spPr>
            <a:xfrm flipV="1">
              <a:off x="2928600" y="3428640"/>
              <a:ext cx="500760" cy="3477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32" name="Стрелка вправо 26"/>
            <p:cNvSpPr/>
            <p:nvPr/>
          </p:nvSpPr>
          <p:spPr>
            <a:xfrm flipH="1">
              <a:off x="4929120" y="2786040"/>
              <a:ext cx="536400" cy="8650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AutoShape 11"/>
            <p:cNvSpPr/>
            <p:nvPr/>
          </p:nvSpPr>
          <p:spPr>
            <a:xfrm>
              <a:off x="3357360" y="5215320"/>
              <a:ext cx="1857240" cy="8380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еонаталь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а 60 ліжок, в т.ч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c00000"/>
                  </a:solidFill>
                  <a:latin typeface="Verdana"/>
                </a:rPr>
                <a:t>12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реанімаційних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33" name="AutoShape 75"/>
            <p:cNvCxnSpPr/>
            <p:nvPr/>
          </p:nvCxnSpPr>
          <p:spPr>
            <a:xfrm flipV="1">
              <a:off x="2785680" y="2285280"/>
              <a:ext cx="643320" cy="5720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34" name="AutoShape 5"/>
            <p:cNvSpPr/>
            <p:nvPr/>
          </p:nvSpPr>
          <p:spPr>
            <a:xfrm>
              <a:off x="500040" y="2714760"/>
              <a:ext cx="1116000" cy="509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жіноча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ція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785960" y="2714760"/>
              <a:ext cx="1330200" cy="428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центр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планування сім</a:t>
              </a:r>
              <a:r>
                <a:rPr b="1" lang="en-US" sz="1000" spc="-1" strike="noStrike">
                  <a:solidFill>
                    <a:srgbClr val="002060"/>
                  </a:solidFill>
                  <a:latin typeface="Verdana"/>
                </a:rPr>
                <a:t>’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ї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36" name="AutoShape 72"/>
            <p:cNvCxnSpPr/>
            <p:nvPr/>
          </p:nvCxnSpPr>
          <p:spPr>
            <a:xfrm flipH="1" rot="16200000">
              <a:off x="2000160" y="2357280"/>
              <a:ext cx="357840" cy="357840"/>
            </a:xfrm>
            <a:prstGeom prst="bentConnector3">
              <a:avLst>
                <a:gd name="adj1" fmla="val 49949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37" name="Стрелка вправо 25"/>
            <p:cNvSpPr/>
            <p:nvPr/>
          </p:nvSpPr>
          <p:spPr>
            <a:xfrm flipH="1">
              <a:off x="5000760" y="4715280"/>
              <a:ext cx="536400" cy="8650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8" name="AutoShape 15"/>
          <p:cNvSpPr/>
          <p:nvPr/>
        </p:nvSpPr>
        <p:spPr>
          <a:xfrm>
            <a:off x="928800" y="4286160"/>
            <a:ext cx="2143080" cy="22147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2214720"/>
              <a:gd name="textAreaBottom" fmla="*/ 2215080 h 2214720"/>
            </a:gdLst>
            <a:ahLst/>
            <a:rect l="textAreaLeft" t="textAreaTop" r="textAreaRight" b="textAreaBottom"/>
            <a:pathLst>
              <a:path w="21600" h="22322">
                <a:moveTo>
                  <a:pt x="0" y="0"/>
                </a:moveTo>
                <a:arcTo wR="0" hR="0" stAng="16200000" swAng="-5400000"/>
                <a:lnTo>
                  <a:pt x="0" y="22322"/>
                </a:lnTo>
                <a:arcTo wR="0" hR="0" stAng="10800000" swAng="-5400000"/>
                <a:lnTo>
                  <a:pt x="21600" y="2232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Інформаційно-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аналітичний блок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з тренінговими центрами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1.Планування сім*ї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2.Єфективний перина-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тальний догляд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3.Грудне вигодовування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c00000"/>
                </a:solidFill>
                <a:latin typeface="Verdana"/>
              </a:rPr>
              <a:t>4.Первинна реанімація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c00000"/>
                </a:solidFill>
                <a:latin typeface="Verdana"/>
              </a:rPr>
              <a:t>5. Догляд за здоровою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c00000"/>
                </a:solidFill>
                <a:latin typeface="Verdana"/>
              </a:rPr>
              <a:t>дитиною до 3-х років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285840" y="1357200"/>
            <a:ext cx="5429160" cy="3492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Кафедра акушерства, гінекології  та перинатології ДДМ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Прямоугольник 31"/>
          <p:cNvSpPr/>
          <p:nvPr/>
        </p:nvSpPr>
        <p:spPr>
          <a:xfrm>
            <a:off x="285840" y="50004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Verdana"/>
              </a:rPr>
              <a:t>Юридична підстава </a:t>
            </a:r>
            <a:r>
              <a:rPr b="1" lang="uk-UA" sz="1400" spc="-1" strike="noStrike">
                <a:solidFill>
                  <a:srgbClr val="c00000"/>
                </a:solidFill>
                <a:latin typeface="Verdana"/>
              </a:rPr>
              <a:t>- наказ МОЗ України № 620 від 29.12.2003 “Про організацію надання стаціонарної акушерсько-гінекологічної та неонатологічної допомоги в Україні” – Примірне положення про Перинатальний центр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Содержимое 7" descr="cam0180018.jpg"/>
          <p:cNvPicPr/>
          <p:nvPr/>
        </p:nvPicPr>
        <p:blipFill>
          <a:blip r:embed="rId1"/>
          <a:stretch/>
        </p:blipFill>
        <p:spPr>
          <a:xfrm>
            <a:off x="2286000" y="1714680"/>
            <a:ext cx="6524640" cy="480996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Verdana"/>
              </a:rPr>
              <a:t>Реалізація Національного проекту “Нове життя</a:t>
            </a:r>
            <a:r>
              <a:rPr b="0" lang="uk-UA" sz="2000" spc="-1" strike="noStrike">
                <a:solidFill>
                  <a:srgbClr val="04617b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43" name="Содержимое 5" descr="cam0140014.jpg"/>
          <p:cNvPicPr/>
          <p:nvPr/>
        </p:nvPicPr>
        <p:blipFill>
          <a:blip r:embed="rId2"/>
          <a:stretch/>
        </p:blipFill>
        <p:spPr>
          <a:xfrm>
            <a:off x="285840" y="857160"/>
            <a:ext cx="564336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44" name="Выноска со стрелкой вниз 8"/>
          <p:cNvGrpSpPr/>
          <p:nvPr/>
        </p:nvGrpSpPr>
        <p:grpSpPr>
          <a:xfrm>
            <a:off x="6016680" y="1231920"/>
            <a:ext cx="2968560" cy="2382840"/>
            <a:chOff x="6016680" y="1231920"/>
            <a:chExt cx="2968560" cy="2382840"/>
          </a:xfrm>
        </p:grpSpPr>
        <p:pic>
          <p:nvPicPr>
            <p:cNvPr id="445" name="Выноска со стрелкой вниз 8" descr=""/>
            <p:cNvPicPr/>
            <p:nvPr/>
          </p:nvPicPr>
          <p:blipFill>
            <a:blip r:embed="rId3"/>
            <a:stretch/>
          </p:blipFill>
          <p:spPr>
            <a:xfrm>
              <a:off x="6016680" y="1231920"/>
              <a:ext cx="29685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6143760" y="1357200"/>
              <a:ext cx="27144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Verdana"/>
                </a:rPr>
                <a:t>І черга – реконструкція пологового блоку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47" name="Выноска со стрелкой вправо 14"/>
          <p:cNvGrpSpPr/>
          <p:nvPr/>
        </p:nvGrpSpPr>
        <p:grpSpPr>
          <a:xfrm>
            <a:off x="49320" y="4121280"/>
            <a:ext cx="3327120" cy="2187360"/>
            <a:chOff x="49320" y="4121280"/>
            <a:chExt cx="3327120" cy="2187360"/>
          </a:xfrm>
        </p:grpSpPr>
        <p:pic>
          <p:nvPicPr>
            <p:cNvPr id="448" name="Выноска со стрелкой вправо 14" descr=""/>
            <p:cNvPicPr/>
            <p:nvPr/>
          </p:nvPicPr>
          <p:blipFill>
            <a:blip r:embed="rId4"/>
            <a:stretch/>
          </p:blipFill>
          <p:spPr>
            <a:xfrm>
              <a:off x="49320" y="4121280"/>
              <a:ext cx="332712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14200" y="4286160"/>
              <a:ext cx="256716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ІІ черга – реконструкція неонатального блоку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cxnSp>
        <p:nvCxnSpPr>
          <p:cNvPr id="450" name="Соединительная линия уступом 16"/>
          <p:cNvCxnSpPr/>
          <p:nvPr/>
        </p:nvCxnSpPr>
        <p:spPr>
          <a:xfrm>
            <a:off x="4357800" y="3642840"/>
            <a:ext cx="2916720" cy="2864520"/>
          </a:xfrm>
          <a:prstGeom prst="bentConnector3">
            <a:avLst>
              <a:gd name="adj1" fmla="val 49993"/>
            </a:avLst>
          </a:prstGeom>
          <a:ln w="54000">
            <a:solidFill>
              <a:srgbClr val="000099"/>
            </a:solidFill>
            <a:prstDash val="sysDash"/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-6480" y="23760"/>
            <a:ext cx="9156960" cy="482760"/>
          </a:xfrm>
          <a:prstGeom prst="rect">
            <a:avLst/>
          </a:prstGeom>
          <a:ln w="0">
            <a:noFill/>
          </a:ln>
        </p:spPr>
      </p:pic>
      <p:sp>
        <p:nvSpPr>
          <p:cNvPr id="452" name="Овал 60"/>
          <p:cNvSpPr/>
          <p:nvPr/>
        </p:nvSpPr>
        <p:spPr>
          <a:xfrm>
            <a:off x="785880" y="1643040"/>
            <a:ext cx="8143920" cy="457200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Прямоугольник 59"/>
          <p:cNvSpPr/>
          <p:nvPr/>
        </p:nvSpPr>
        <p:spPr>
          <a:xfrm>
            <a:off x="928800" y="3000240"/>
            <a:ext cx="3071880" cy="150048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Прямоугольник 53"/>
          <p:cNvSpPr/>
          <p:nvPr/>
        </p:nvSpPr>
        <p:spPr>
          <a:xfrm>
            <a:off x="428760" y="857160"/>
            <a:ext cx="1714320" cy="43200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ОДКЛ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Прямоугольник 24"/>
          <p:cNvSpPr/>
          <p:nvPr/>
        </p:nvSpPr>
        <p:spPr>
          <a:xfrm>
            <a:off x="214200" y="1500120"/>
            <a:ext cx="1643040" cy="48744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Харчоблок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Прямоугольник 56"/>
          <p:cNvSpPr/>
          <p:nvPr/>
        </p:nvSpPr>
        <p:spPr>
          <a:xfrm>
            <a:off x="4429080" y="1500120"/>
            <a:ext cx="2094120" cy="50004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Пральня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1071720" y="3214800"/>
            <a:ext cx="2786040" cy="107136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Неонатальний блок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60 ліжок для новонароджених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12  ліжок ІТ та реанімації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Прямоугольник 23"/>
          <p:cNvSpPr/>
          <p:nvPr/>
        </p:nvSpPr>
        <p:spPr>
          <a:xfrm>
            <a:off x="7091280" y="1500120"/>
            <a:ext cx="1909800" cy="56052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Блок Б – гінекологічн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Прямоугольник 52"/>
          <p:cNvSpPr/>
          <p:nvPr/>
        </p:nvSpPr>
        <p:spPr>
          <a:xfrm>
            <a:off x="4745160" y="785880"/>
            <a:ext cx="4255920" cy="56988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Міський пологовий будинок № 2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Прямоугольник 20"/>
          <p:cNvSpPr/>
          <p:nvPr/>
        </p:nvSpPr>
        <p:spPr>
          <a:xfrm>
            <a:off x="7572240" y="2781360"/>
            <a:ext cx="1500480" cy="60948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Жіноча консультація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Прямоугольник 34"/>
          <p:cNvSpPr/>
          <p:nvPr/>
        </p:nvSpPr>
        <p:spPr>
          <a:xfrm>
            <a:off x="7643880" y="3714840"/>
            <a:ext cx="1357200" cy="79380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Центр  планування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сім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’</a:t>
            </a: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ї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462" name="Прямая со стрелкой 39"/>
          <p:cNvCxnSpPr/>
          <p:nvPr/>
        </p:nvCxnSpPr>
        <p:spPr>
          <a:xfrm flipH="1">
            <a:off x="4941000" y="2346120"/>
            <a:ext cx="2520" cy="1544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63" name="Прямоугольник 55"/>
          <p:cNvSpPr/>
          <p:nvPr/>
        </p:nvSpPr>
        <p:spPr>
          <a:xfrm>
            <a:off x="4000680" y="2143080"/>
            <a:ext cx="3429000" cy="335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4363920" y="3714840"/>
            <a:ext cx="1386000" cy="178596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Операційно-реанімацін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7 ліжок  ІТ для новонародж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7  ліжок ІТ для жінок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Прямоугольник 25"/>
          <p:cNvSpPr/>
          <p:nvPr/>
        </p:nvSpPr>
        <p:spPr>
          <a:xfrm>
            <a:off x="5643720" y="2357280"/>
            <a:ext cx="1500120" cy="62568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Лабораторно-діагностичн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Прямоугольник 26"/>
          <p:cNvSpPr/>
          <p:nvPr/>
        </p:nvSpPr>
        <p:spPr>
          <a:xfrm>
            <a:off x="4456080" y="3141720"/>
            <a:ext cx="2716200" cy="46836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Блок А – пологов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Прямоугольник 27"/>
          <p:cNvSpPr/>
          <p:nvPr/>
        </p:nvSpPr>
        <p:spPr>
          <a:xfrm>
            <a:off x="5857920" y="3714840"/>
            <a:ext cx="1357200" cy="78084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ологове відділення -  51 ліжко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Прямоугольник 28"/>
          <p:cNvSpPr/>
          <p:nvPr/>
        </p:nvSpPr>
        <p:spPr>
          <a:xfrm>
            <a:off x="5813280" y="4643280"/>
            <a:ext cx="1489320" cy="78588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Відділення патології вагітних  - 30 ліж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Прямоугольник 32"/>
          <p:cNvSpPr/>
          <p:nvPr/>
        </p:nvSpPr>
        <p:spPr>
          <a:xfrm>
            <a:off x="4643280" y="2571840"/>
            <a:ext cx="860760" cy="38232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ЦСО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Выноска 1 64"/>
          <p:cNvSpPr/>
          <p:nvPr/>
        </p:nvSpPr>
        <p:spPr>
          <a:xfrm>
            <a:off x="214200" y="5429160"/>
            <a:ext cx="1643040" cy="428760"/>
          </a:xfrm>
          <a:prstGeom prst="borderCallout1">
            <a:avLst>
              <a:gd name="adj1" fmla="val 18750"/>
              <a:gd name="adj2" fmla="val -8333"/>
              <a:gd name="adj3" fmla="val -255555"/>
              <a:gd name="adj4" fmla="val 6903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ІІ черг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Выноска 1 65"/>
          <p:cNvSpPr/>
          <p:nvPr/>
        </p:nvSpPr>
        <p:spPr>
          <a:xfrm>
            <a:off x="7286760" y="6000840"/>
            <a:ext cx="1342800" cy="500040"/>
          </a:xfrm>
          <a:prstGeom prst="borderCallout1">
            <a:avLst>
              <a:gd name="adj1" fmla="val 18750"/>
              <a:gd name="adj2" fmla="val -8333"/>
              <a:gd name="adj3" fmla="val -113518"/>
              <a:gd name="adj4" fmla="val -4309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І черг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Стрелка вправо 22"/>
          <p:cNvSpPr/>
          <p:nvPr/>
        </p:nvSpPr>
        <p:spPr>
          <a:xfrm>
            <a:off x="214200" y="2786040"/>
            <a:ext cx="1214640" cy="2000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>
              <a:alpha val="75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Verdana"/>
              </a:rPr>
              <a:t>МДП №1 МКЛ №5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473" name="Прямая со стрелкой 30"/>
          <p:cNvCxnSpPr>
            <a:stCxn id="454" idx="3"/>
          </p:cNvCxnSpPr>
          <p:nvPr/>
        </p:nvCxnSpPr>
        <p:spPr>
          <a:xfrm>
            <a:off x="2143080" y="1072800"/>
            <a:ext cx="2215440" cy="49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74" name="Прямая со стрелкой 37"/>
          <p:cNvCxnSpPr>
            <a:stCxn id="459" idx="1"/>
            <a:endCxn id="455" idx="3"/>
          </p:cNvCxnSpPr>
          <p:nvPr/>
        </p:nvCxnSpPr>
        <p:spPr>
          <a:xfrm flipH="1">
            <a:off x="1856880" y="1070640"/>
            <a:ext cx="2888640" cy="672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85480" y="856800"/>
            <a:ext cx="828684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 рішенням сесії обласної ради </a:t>
            </a:r>
            <a:r>
              <a:rPr b="1" lang="uk-UA" sz="1600" spc="-1" strike="noStrike">
                <a:solidFill>
                  <a:srgbClr val="ff0000"/>
                </a:solidFill>
                <a:latin typeface="Verdana"/>
              </a:rPr>
              <a:t>від 30.12.10 № 51-4/VІ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риміщення поліклініки та міського пологового будинку передано на баланс області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Рішенням сесії Дніпропетровської міської ради </a:t>
            </a:r>
            <a:r>
              <a:rPr b="1" lang="uk-UA" sz="1600" spc="-1" strike="noStrike">
                <a:solidFill>
                  <a:srgbClr val="ff0000"/>
                </a:solidFill>
                <a:latin typeface="Verdana"/>
              </a:rPr>
              <a:t>від 10.08.2011 № 1096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– наданий дозвіл на проектування та проведення реконструкції споруд, передбачених під організацію перинатального центр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 Укрінвестекспертизу передані робочий проект реконструкції неонатального блоку та ескізний проект пологового блоку – отримання висновків очікується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05.09.201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ля підготовки ПКД по 2-м блокам з обласного бюджету виділено</a:t>
            </a:r>
            <a:br>
              <a:rPr sz="1600"/>
            </a:br>
            <a:r>
              <a:rPr b="1" lang="uk-UA" sz="1600" spc="-1" strike="noStrike">
                <a:solidFill>
                  <a:srgbClr val="c00000"/>
                </a:solidFill>
                <a:latin typeface="Verdana"/>
              </a:rPr>
              <a:t>6,7 млн грн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 рамках виконання Постанови КМУ від 28.03.2011 №371 – заплановано оснастити перинатальний центр медичним обладнанням на суму</a:t>
            </a:r>
            <a:br>
              <a:rPr sz="1600"/>
            </a:br>
            <a:r>
              <a:rPr b="1" lang="uk-UA" sz="1600" spc="-1" strike="noStrike">
                <a:solidFill>
                  <a:srgbClr val="c00000"/>
                </a:solidFill>
                <a:latin typeface="Verdana"/>
              </a:rPr>
              <a:t>8,2 млн гр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17.08.2011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– відбулися торги на визначення будівельної організації для проведення реконструкції двох блоків перинатального центр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20.09.2011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року можливо розпочати демонтажні роботи за умови виділення коштів з Державного бюджет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9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0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1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2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642960" y="14292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296"/>
                </a:solidFill>
                <a:latin typeface="Century Gothic"/>
              </a:rPr>
              <a:t>Реалізація Національного проект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3763"/>
                </a:solidFill>
                <a:latin typeface="Verdana"/>
              </a:rPr>
              <a:t>Очікувані результати реалізації Концепції удосконалення перинатальної допомоги в області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ланується зниженн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материнської смертності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 області до 10 на 100000 народжених живими (2010 рік – 22,4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штучних аборті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до  14 на 1000 жінок фертильного віку ( 2010 рік – 15,9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- смертності дітей з ВВР до 0,35 на 1000 народжених живими (2010 рік – 0,57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- смертності дітей від розладів дихальної системи – доношених до 1,5 на 1000 народжених живими (2010 рік – 1,8), недоношених до 20 на 1000 народжених живими (2010 – 29,41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малюкової смертності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 області до 8,7 на 1000 народжених живими (2010 рік – 9,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більшенн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відсотку запланованих та підготовлених вагітностей  у жінок з екстрагенітальною патологіє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4"/>
          <p:cNvSpPr/>
          <p:nvPr/>
        </p:nvSpPr>
        <p:spPr>
          <a:xfrm>
            <a:off x="428760" y="627120"/>
            <a:ext cx="83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</a:rPr>
              <a:t>План-графік реалізації Національного проекту “Нове життя”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71680" y="1143000"/>
          <a:ext cx="8143560" cy="652320"/>
        </p:xfrm>
        <a:graphic>
          <a:graphicData uri="http://schemas.openxmlformats.org/drawingml/2006/table">
            <a:tbl>
              <a:tblPr/>
              <a:tblGrid>
                <a:gridCol w="5143320"/>
                <a:gridCol w="1587600"/>
                <a:gridCol w="1412640"/>
              </a:tblGrid>
              <a:tr h="24912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ахо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Термін викон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 че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І че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</a:tr>
            </a:tbl>
          </a:graphicData>
        </a:graphic>
      </p:graphicFrame>
      <p:pic>
        <p:nvPicPr>
          <p:cNvPr id="479" name="Таблица 6" descr=""/>
          <p:cNvPicPr/>
          <p:nvPr/>
        </p:nvPicPr>
        <p:blipFill>
          <a:blip r:embed="rId1"/>
          <a:stretch/>
        </p:blipFill>
        <p:spPr>
          <a:xfrm>
            <a:off x="500040" y="1749600"/>
            <a:ext cx="82900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500040" y="714240"/>
          <a:ext cx="8215200" cy="5631120"/>
        </p:xfrm>
        <a:graphic>
          <a:graphicData uri="http://schemas.openxmlformats.org/drawingml/2006/table">
            <a:tbl>
              <a:tblPr/>
              <a:tblGrid>
                <a:gridCol w="447840"/>
                <a:gridCol w="2286000"/>
                <a:gridCol w="60480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076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Вид работ, черте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8.08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8.08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7.09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7.09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7.09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7.1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7.1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7.1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6.11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gridSpan="11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 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конання проектно-кошторисної документації (стадія П-100%, стадія Р-100%) - І чер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Архитектурні ріш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Конструктивні ріш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"Опалення та вентиляц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аздел "Водозабезпечення та каналізац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Кондиціонува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Електрозабезпеч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Чисті приміщ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Технолог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аздел "Лікувальні гази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"Слаботочні мережи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Пожежна сігналізац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Блискозахист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Проект организации строи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 gridSpan="11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дозвільної документації - І черг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6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експертного висновку від ДержБудЕксперти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права власності на зем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Підписання договору з підрядною організаціє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дозволу від ДАБ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Прямоугольник 2"/>
          <p:cNvSpPr/>
          <p:nvPr/>
        </p:nvSpPr>
        <p:spPr>
          <a:xfrm>
            <a:off x="714240" y="28584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296"/>
                </a:solidFill>
                <a:latin typeface="Century Gothic"/>
              </a:rPr>
              <a:t>План заходів щодо створення обласного перинатального центр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" name=""/>
          <p:cNvGraphicFramePr/>
          <p:nvPr/>
        </p:nvGraphicFramePr>
        <p:xfrm>
          <a:off x="285840" y="1285920"/>
          <a:ext cx="8572320" cy="4221000"/>
        </p:xfrm>
        <a:graphic>
          <a:graphicData uri="http://schemas.openxmlformats.org/drawingml/2006/table">
            <a:tbl>
              <a:tblPr/>
              <a:tblGrid>
                <a:gridCol w="268200"/>
                <a:gridCol w="1754280"/>
                <a:gridCol w="465120"/>
                <a:gridCol w="468360"/>
                <a:gridCol w="468360"/>
                <a:gridCol w="466560"/>
                <a:gridCol w="468360"/>
                <a:gridCol w="468360"/>
                <a:gridCol w="468360"/>
                <a:gridCol w="468000"/>
                <a:gridCol w="468360"/>
                <a:gridCol w="468360"/>
                <a:gridCol w="466920"/>
                <a:gridCol w="468360"/>
                <a:gridCol w="468000"/>
                <a:gridCol w="468360"/>
              </a:tblGrid>
              <a:tr h="370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ид работ, черте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иконання будівельно-монтажних робі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І чер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.0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.0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7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7.1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.1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.1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6.11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.11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.11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2.12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.12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.12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еключення внутрішніх інженерних мереж блоку, який реконструює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емонтажні роботи полів та перегород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Фундаменти и ростверк лестничн-ліфтового бл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иконанню каркасу лестничн-ліфтового бл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иконанню каркасу покрівл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иконанню конструкції технічного поверх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лаштуванню технічного поверх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Прямоугольник 2"/>
          <p:cNvSpPr/>
          <p:nvPr/>
        </p:nvSpPr>
        <p:spPr>
          <a:xfrm>
            <a:off x="714240" y="57168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296"/>
                </a:solidFill>
                <a:latin typeface="Century Gothic"/>
              </a:rPr>
              <a:t>План заходів щодо створення обласного перинатального центр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357120" y="642960"/>
          <a:ext cx="8572680" cy="3465360"/>
        </p:xfrm>
        <a:graphic>
          <a:graphicData uri="http://schemas.openxmlformats.org/drawingml/2006/table">
            <a:tbl>
              <a:tblPr/>
              <a:tblGrid>
                <a:gridCol w="268200"/>
                <a:gridCol w="1660680"/>
                <a:gridCol w="785880"/>
                <a:gridCol w="714240"/>
                <a:gridCol w="714600"/>
                <a:gridCol w="785520"/>
                <a:gridCol w="714600"/>
                <a:gridCol w="785880"/>
                <a:gridCol w="1000080"/>
                <a:gridCol w="1143000"/>
              </a:tblGrid>
              <a:tr h="18792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йменування зах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трок вико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рієнтовні джерела та обсяги фінансування, тис.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планована площа регіонального перинатального центр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ата поча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ата заверше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ержавни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Місцеви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убвенція з обласного бюдже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Інші додаткові джерела фінансу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гальний обсяг фінансу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 КЗ ДОДКЛ по вул.Космічна 13 в м.Дніпропетровськ під перинатально-акушерське відділення, клінічну лабораторією, ЦС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7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, в т.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433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9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зробка проектно-кошторисної докумен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7.05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1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монтно будівельні робо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6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0.03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9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2600,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2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ведення в експлуатаці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8.05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идбання облад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.04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93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3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8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4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57120" y="4143240"/>
          <a:ext cx="8572680" cy="2433600"/>
        </p:xfrm>
        <a:graphic>
          <a:graphicData uri="http://schemas.openxmlformats.org/drawingml/2006/table">
            <a:tbl>
              <a:tblPr/>
              <a:tblGrid>
                <a:gridCol w="268200"/>
                <a:gridCol w="1660680"/>
                <a:gridCol w="785880"/>
                <a:gridCol w="714240"/>
                <a:gridCol w="714600"/>
                <a:gridCol w="785520"/>
                <a:gridCol w="714600"/>
                <a:gridCol w="785880"/>
                <a:gridCol w="1000080"/>
                <a:gridCol w="1143000"/>
              </a:tblGrid>
              <a:tr h="3981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 поліклініки (блок №5) під неонатальне відділення на 60 ліжок</a:t>
                      </a:r>
                      <a:br>
                        <a:rPr sz="1200"/>
                      </a:b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ІІ черга) КЗ ДОДКЛ по вул.Космічна 13 в м.Дніпропетровсь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, в т.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81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80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зробка проектно-кошторисної докумен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1.12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5.07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монтно будівельні робо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6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5.1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7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500,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8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ведення в експлуатаці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0.1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идбання облад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5.1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06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6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4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TextBox 6"/>
          <p:cNvSpPr/>
          <p:nvPr/>
        </p:nvSpPr>
        <p:spPr>
          <a:xfrm>
            <a:off x="642960" y="142920"/>
            <a:ext cx="814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296"/>
                </a:solidFill>
                <a:latin typeface="Century Gothic"/>
              </a:rPr>
              <a:t>План заходів щодо створення обласного перинатального центру з визначенням потреби в бюджетних кошта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946240" y="1049400"/>
          <a:ext cx="2500560" cy="365040"/>
        </p:xfrm>
        <a:graphic>
          <a:graphicData uri="http://schemas.openxmlformats.org/drawingml/2006/table">
            <a:tbl>
              <a:tblPr/>
              <a:tblGrid>
                <a:gridCol w="250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Базова</a:t>
                      </a: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85840" y="1071720"/>
          <a:ext cx="2232000" cy="35712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КЛЮЧОВІ  ЗАВ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6089760" y="1049400"/>
          <a:ext cx="2571480" cy="36504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Ціль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72" name="Группа 12"/>
          <p:cNvGrpSpPr/>
          <p:nvPr/>
        </p:nvGrpSpPr>
        <p:grpSpPr>
          <a:xfrm>
            <a:off x="285840" y="1973160"/>
            <a:ext cx="8429400" cy="1168920"/>
            <a:chOff x="285840" y="1973160"/>
            <a:chExt cx="8429400" cy="1168920"/>
          </a:xfrm>
        </p:grpSpPr>
        <p:sp>
          <p:nvSpPr>
            <p:cNvPr id="273" name="Text Box 115"/>
            <p:cNvSpPr/>
            <p:nvPr/>
          </p:nvSpPr>
          <p:spPr>
            <a:xfrm>
              <a:off x="2857320" y="1973160"/>
              <a:ext cx="2643120" cy="11689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marL="266760" indent="-26676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Жіночі консультації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266760" indent="-26676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Дитячі поліклінічні заклади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266760" indent="-26676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Амбулаторії ЗПСМ, ФАПи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AutoShape 134"/>
            <p:cNvSpPr/>
            <p:nvPr/>
          </p:nvSpPr>
          <p:spPr>
            <a:xfrm>
              <a:off x="285840" y="2115720"/>
              <a:ext cx="2500200" cy="928440"/>
            </a:xfrm>
            <a:custGeom>
              <a:avLst/>
              <a:gdLst>
                <a:gd name="textAreaLeft" fmla="*/ 0 w 2500200"/>
                <a:gd name="textAreaRight" fmla="*/ 2500560 w 250020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141" y="0"/>
                  </a:lnTo>
                  <a:lnTo>
                    <a:pt x="21600" y="10800"/>
                  </a:lnTo>
                  <a:lnTo>
                    <a:pt x="2014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22392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00"/>
                  </a:solidFill>
                  <a:latin typeface="Century Gothic"/>
                </a:rPr>
                <a:t>Удосконалення перинатальної допомоги на первинному рівні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Text Box 115"/>
            <p:cNvSpPr/>
            <p:nvPr/>
          </p:nvSpPr>
          <p:spPr>
            <a:xfrm>
              <a:off x="5929200" y="2071440"/>
              <a:ext cx="2786040" cy="9464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4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Центри первинної медичної допомоги (лікар-акушер-гінеколог, лікар педіатр)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276" name="Picture 10" descr="http://www.zerkalov.org.ua/files/16s.gif"/>
            <p:cNvPicPr/>
            <p:nvPr/>
          </p:nvPicPr>
          <p:blipFill>
            <a:blip r:embed="rId1"/>
            <a:stretch/>
          </p:blipFill>
          <p:spPr>
            <a:xfrm>
              <a:off x="5572080" y="2142720"/>
              <a:ext cx="57132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Группа 16"/>
          <p:cNvGrpSpPr/>
          <p:nvPr/>
        </p:nvGrpSpPr>
        <p:grpSpPr>
          <a:xfrm>
            <a:off x="214200" y="3714840"/>
            <a:ext cx="8715600" cy="2214360"/>
            <a:chOff x="214200" y="3714840"/>
            <a:chExt cx="8715600" cy="2214360"/>
          </a:xfrm>
        </p:grpSpPr>
        <p:sp>
          <p:nvSpPr>
            <p:cNvPr id="278" name="Пятиугольник 13"/>
            <p:cNvSpPr/>
            <p:nvPr/>
          </p:nvSpPr>
          <p:spPr>
            <a:xfrm>
              <a:off x="214200" y="4000320"/>
              <a:ext cx="2000160" cy="1928880"/>
            </a:xfrm>
            <a:custGeom>
              <a:avLst/>
              <a:gdLst>
                <a:gd name="textAreaLeft" fmla="*/ 0 w 2000160"/>
                <a:gd name="textAreaRight" fmla="*/ 2000520 w 200016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125" y="0"/>
                  </a:lnTo>
                  <a:lnTo>
                    <a:pt x="21600" y="10800"/>
                  </a:lnTo>
                  <a:lnTo>
                    <a:pt x="1712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c6aee">
                <a:alpha val="3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66"/>
                  </a:solidFill>
                  <a:latin typeface="Verdana"/>
                </a:rPr>
                <a:t>Підвищення кваліфікаці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TextBox 31"/>
            <p:cNvSpPr/>
            <p:nvPr/>
          </p:nvSpPr>
          <p:spPr>
            <a:xfrm>
              <a:off x="2214360" y="3714840"/>
              <a:ext cx="6715440" cy="2148120"/>
            </a:xfrm>
            <a:prstGeom prst="rect">
              <a:avLst/>
            </a:prstGeom>
            <a:solidFill>
              <a:srgbClr val="c8e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2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ідготовка та перепідготовка сімейних лікарів 2011р. - 15/117;</a:t>
              </a:r>
              <a:br>
                <a:rPr sz="1200"/>
              </a:b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2012р. - 14/180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3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роведення тематичного удосконалення сімейних лікарів на кафедрі ФУЛ ДДМА за темою “Ведення фізіологчної вагітності” – (50 осіб – 2011 та 140 на 2012 р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4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роведення виїзних тренінгів з питань  впровадження перинатальних технологій,  питань планування сім*ї для акушер-гінекологів, педіатрів, сімейних лікарів, терапевтів середнього персоналу (до 500 осіб в рік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5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роведення на базі ОДКЛ семінарів для фельдшерів та сімейних лікарів з питань спостереження за здоровою дитиною (до 100 осіб в рік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80" name="TextBox 25"/>
          <p:cNvSpPr/>
          <p:nvPr/>
        </p:nvSpPr>
        <p:spPr>
          <a:xfrm>
            <a:off x="428760" y="447840"/>
            <a:ext cx="8429400" cy="580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Century Gothic"/>
              </a:rPr>
              <a:t>КОНЦЕПЦІЯ ПОДАЛЬШОГО РОЗВИТКУ ПЕРИНАТАЛЬНОЇ ДОПОМОГИ В ОБЛАСТІ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TextBox 25"/>
          <p:cNvSpPr/>
          <p:nvPr/>
        </p:nvSpPr>
        <p:spPr>
          <a:xfrm>
            <a:off x="571680" y="500040"/>
            <a:ext cx="8286480" cy="33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Century Gothic"/>
              </a:rPr>
              <a:t>Удосконалення перинатальної допомоги на  вторинному рівні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4" name="Picture 10" descr="http://www.zerkalov.org.ua/files/16s.gif"/>
          <p:cNvPicPr/>
          <p:nvPr/>
        </p:nvPicPr>
        <p:blipFill>
          <a:blip r:embed="rId1"/>
          <a:stretch/>
        </p:blipFill>
        <p:spPr>
          <a:xfrm>
            <a:off x="5643720" y="2571840"/>
            <a:ext cx="57132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428760" y="1071720"/>
          <a:ext cx="8358120" cy="5595840"/>
        </p:xfrm>
        <a:graphic>
          <a:graphicData uri="http://schemas.openxmlformats.org/drawingml/2006/table">
            <a:tbl>
              <a:tblPr/>
              <a:tblGrid>
                <a:gridCol w="2571480"/>
                <a:gridCol w="2786040"/>
                <a:gridCol w="3000600"/>
              </a:tblGrid>
              <a:tr h="520560"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Баз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Захо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Цільова мод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075280"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„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Міжобласний центр медичної генетики і пренатальної діагностики” та 7 міжрайонних консуль-тативних МГ кабіне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ренатальна діагностика ВВР проведення УЗ-скринінгу вагітних, з використанням 92 УЗД апаратів, з яких 16 (17,4%) – до 2000 року випуску та потребують замі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3 міських центри планування сім*ї, 44 консультативних кабінети з питань планування сім*ї  4 “Клініки, дружні до молоді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озширення мережі консультативних МГ кабінетів, удоско-налення обсягів МГ дослідж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Організація системи УЗД консультативних кабінетів ІІ рівня пренатального скринінг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Переоснащення КДЦ сучасним УЗД-обладнання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ідвищення кваліфікації лікарів-санологі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Поширення мережі  клінік, які надають послуги “дружні до молоді” (10 до кінця 2012 рок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0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окращення діагностики ВВР з подальшим перериванням вагітності  при не курабельних ВВР (щорічно до 65 випадків переривання вагітності до 22 тижн. з ВВР), або хірургічною корекцією в умовах перинатального центру та обласній дитячій клінічній лікар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1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рофілактика, своєчасні діагностика та лікування в/у інфікування плод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2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більшення відсотку запланованих та підготовлених вагітностей у жінок  з ЕГ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28760" y="1071720"/>
          <a:ext cx="8358120" cy="5292720"/>
        </p:xfrm>
        <a:graphic>
          <a:graphicData uri="http://schemas.openxmlformats.org/drawingml/2006/table">
            <a:tbl>
              <a:tblPr/>
              <a:tblGrid>
                <a:gridCol w="2571480"/>
                <a:gridCol w="2357640"/>
                <a:gridCol w="3429000"/>
              </a:tblGrid>
              <a:tr h="660240"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Баз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Захо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Цільова мод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632480"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1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малопотужні пологові відділення (до 400 пологів на рік-4,1% пологів по област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стаціонари середньої потужності (400-1000 пологів на рік -15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отужні родопомічні стаціонари, 9 з яких – міжрайонні центри -  80,3 % від всіх полог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5 дитячих лікарень з неонатальними  ліж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ерепрофілювання 5-ти пологових відділень, де відбувається до 400 пологів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роведення ремонтів та оснащення міжрайонних пологових центрів, де відбувається біля 1500 пологів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10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централізація неонаталь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1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більшення кількості стаціонарів середньої потуж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2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більшення кількості потужних міжрайонних пологових цент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3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Введення в дію міжрайонного перинатального центру – 159 ліжко-місц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 черга пологовий блок 2007-2008р.р.  - 50,1 млн 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І черга неонатальний блок 2011 р – 29,5 млн 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4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Створення 2 міжрайонних неонатальних відділень у м.м. Дніпропетровськ і Дніпродзер-жинсь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5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Введення 3 відділень в склад 2 перинатальних цент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9" name="TextBox 25"/>
          <p:cNvSpPr/>
          <p:nvPr/>
        </p:nvSpPr>
        <p:spPr>
          <a:xfrm>
            <a:off x="500040" y="285840"/>
            <a:ext cx="8286840" cy="33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Century Gothic"/>
              </a:rPr>
              <a:t>Оптимізація мережі  вторинного  рівня   надання медичної допомоги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0" name="Picture 10" descr="http://www.zerkalov.org.ua/files/16s.gif"/>
          <p:cNvPicPr/>
          <p:nvPr/>
        </p:nvPicPr>
        <p:blipFill>
          <a:blip r:embed="rId16"/>
          <a:stretch/>
        </p:blipFill>
        <p:spPr>
          <a:xfrm>
            <a:off x="5286240" y="13572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571680" y="928800"/>
            <a:ext cx="6572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Передумови: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чисельність населення 671,8 тис нас (в пологових стаціонарах надається допомога мешканкам міста та 5 прилеглих районів) – 850 тис.нас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в  3 пологових стаціонарах щорічно народжується </a:t>
            </a:r>
            <a:r>
              <a:rPr b="1" lang="uk-UA" sz="1600" spc="-1" strike="noStrike">
                <a:solidFill>
                  <a:srgbClr val="c00000"/>
                </a:solidFill>
                <a:latin typeface="Verdana"/>
              </a:rPr>
              <a:t>8,5 тис дітей – 12% сільськи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серед загальної кількості пологів – 3,8% передчасних пологів (до 350 пологів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біля 10%  народжених дітей потребують подальшого лікування в стаціонарі (850 дітей)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віддаленість міста (150 – 300 км) від обласного центру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протяжність міста 140 км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віддаленість дитячої лікарні від пологових стаціонарів 15-30 км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низький рівень укомплектованості лікарями –неонатологами -32,7% (7 фахівців на місто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Міжрайонний Перинатальний центр ІІ рівня</a:t>
            </a:r>
            <a:br>
              <a:rPr sz="1800"/>
            </a:b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дання медичної допомоги</a:t>
            </a: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 м. Кривий Ріг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5214960" y="1000080"/>
            <a:ext cx="3297240" cy="5505480"/>
            <a:chOff x="5214960" y="1000080"/>
            <a:chExt cx="3297240" cy="5505480"/>
          </a:xfrm>
        </p:grpSpPr>
        <p:sp>
          <p:nvSpPr>
            <p:cNvPr id="295" name="Freeform 5"/>
            <p:cNvSpPr/>
            <p:nvPr/>
          </p:nvSpPr>
          <p:spPr>
            <a:xfrm>
              <a:off x="5214960" y="1000080"/>
              <a:ext cx="3297240" cy="5505480"/>
            </a:xfrm>
            <a:prstGeom prst="pie">
              <a:avLst/>
            </a:prstGeom>
            <a:solidFill>
              <a:srgbClr val="ffffcc"/>
            </a:solidFill>
            <a:ln w="1908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296" name="Group 6"/>
            <p:cNvGrpSpPr/>
            <p:nvPr/>
          </p:nvGrpSpPr>
          <p:grpSpPr>
            <a:xfrm>
              <a:off x="6854040" y="1008720"/>
              <a:ext cx="1647720" cy="2309760"/>
              <a:chOff x="6854040" y="1008720"/>
              <a:chExt cx="1647720" cy="2309760"/>
            </a:xfrm>
          </p:grpSpPr>
          <p:sp>
            <p:nvSpPr>
              <p:cNvPr id="297" name="Freeform 7"/>
              <p:cNvSpPr/>
              <p:nvPr/>
            </p:nvSpPr>
            <p:spPr>
              <a:xfrm>
                <a:off x="6854040" y="1008720"/>
                <a:ext cx="1647720" cy="1634040"/>
              </a:xfrm>
              <a:prstGeom prst="pie">
                <a:avLst/>
              </a:prstGeom>
              <a:solidFill>
                <a:srgbClr val="ccffff">
                  <a:alpha val="60000"/>
                </a:srgbClr>
              </a:solidFill>
              <a:ln w="9360">
                <a:solidFill>
                  <a:srgbClr val="66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6883920" y="2426760"/>
                <a:ext cx="1123200" cy="891720"/>
              </a:xfrm>
              <a:prstGeom prst="pie">
                <a:avLst/>
              </a:prstGeom>
              <a:solidFill>
                <a:srgbClr val="ccffff">
                  <a:alpha val="60000"/>
                </a:srgbClr>
              </a:solidFill>
              <a:ln w="9360">
                <a:solidFill>
                  <a:srgbClr val="66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299" name="Group 9"/>
            <p:cNvGrpSpPr/>
            <p:nvPr/>
          </p:nvGrpSpPr>
          <p:grpSpPr>
            <a:xfrm>
              <a:off x="6815520" y="3130200"/>
              <a:ext cx="1539720" cy="1356840"/>
              <a:chOff x="6815520" y="3130200"/>
              <a:chExt cx="1539720" cy="1356840"/>
            </a:xfrm>
          </p:grpSpPr>
          <p:sp>
            <p:nvSpPr>
              <p:cNvPr id="300" name="Freeform 10"/>
              <p:cNvSpPr/>
              <p:nvPr/>
            </p:nvSpPr>
            <p:spPr>
              <a:xfrm>
                <a:off x="7182000" y="3337200"/>
                <a:ext cx="1173240" cy="1149840"/>
              </a:xfrm>
              <a:prstGeom prst="pie">
                <a:avLst/>
              </a:prstGeom>
              <a:solidFill>
                <a:srgbClr val="ccffcc">
                  <a:alpha val="60000"/>
                </a:srgbClr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1" name="Freeform 11"/>
              <p:cNvSpPr/>
              <p:nvPr/>
            </p:nvSpPr>
            <p:spPr>
              <a:xfrm>
                <a:off x="6815520" y="3130200"/>
                <a:ext cx="989640" cy="792720"/>
              </a:xfrm>
              <a:prstGeom prst="pie">
                <a:avLst/>
              </a:prstGeom>
              <a:solidFill>
                <a:srgbClr val="ccffcc">
                  <a:alpha val="60000"/>
                </a:srgbClr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302" name="Group 12"/>
            <p:cNvGrpSpPr/>
            <p:nvPr/>
          </p:nvGrpSpPr>
          <p:grpSpPr>
            <a:xfrm>
              <a:off x="5224680" y="3467160"/>
              <a:ext cx="2330640" cy="3030120"/>
              <a:chOff x="5224680" y="3467160"/>
              <a:chExt cx="2330640" cy="3030120"/>
            </a:xfrm>
          </p:grpSpPr>
          <p:sp>
            <p:nvSpPr>
              <p:cNvPr id="303" name="Freeform 13"/>
              <p:cNvSpPr/>
              <p:nvPr/>
            </p:nvSpPr>
            <p:spPr>
              <a:xfrm>
                <a:off x="5819760" y="3467160"/>
                <a:ext cx="1107720" cy="1679400"/>
              </a:xfrm>
              <a:prstGeom prst="pie">
                <a:avLst/>
              </a:prstGeom>
              <a:solidFill>
                <a:srgbClr val="ffcc99">
                  <a:alpha val="60000"/>
                </a:srgbClr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4" name="Freeform 14"/>
              <p:cNvSpPr/>
              <p:nvPr/>
            </p:nvSpPr>
            <p:spPr>
              <a:xfrm>
                <a:off x="5224680" y="4213440"/>
                <a:ext cx="1964160" cy="2283840"/>
              </a:xfrm>
              <a:prstGeom prst="pie">
                <a:avLst/>
              </a:prstGeom>
              <a:solidFill>
                <a:srgbClr val="ffcc99">
                  <a:alpha val="60000"/>
                </a:srgbClr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5" name="Freeform 15"/>
              <p:cNvSpPr/>
              <p:nvPr/>
            </p:nvSpPr>
            <p:spPr>
              <a:xfrm>
                <a:off x="6758280" y="3855600"/>
                <a:ext cx="797040" cy="824400"/>
              </a:xfrm>
              <a:prstGeom prst="pie">
                <a:avLst/>
              </a:prstGeom>
              <a:solidFill>
                <a:srgbClr val="ffcc99">
                  <a:alpha val="60000"/>
                </a:srgbClr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grpSp>
        <p:nvGrpSpPr>
          <p:cNvPr id="306" name="Group 16"/>
          <p:cNvGrpSpPr/>
          <p:nvPr/>
        </p:nvGrpSpPr>
        <p:grpSpPr>
          <a:xfrm>
            <a:off x="6786720" y="1928880"/>
            <a:ext cx="1931400" cy="2784240"/>
            <a:chOff x="6786720" y="1928880"/>
            <a:chExt cx="1931400" cy="2784240"/>
          </a:xfrm>
        </p:grpSpPr>
        <p:sp>
          <p:nvSpPr>
            <p:cNvPr id="307" name="WordArt 17"/>
            <p:cNvSpPr txBox="1"/>
            <p:nvPr/>
          </p:nvSpPr>
          <p:spPr>
            <a:xfrm>
              <a:off x="8135640" y="1928880"/>
              <a:ext cx="5428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666699"/>
                  </a:solidFill>
                  <a:latin typeface="Arial"/>
                </a:rPr>
                <a:t>Тернівський</a:t>
              </a:r>
              <a:endParaRPr b="1" lang="en-US" sz="1800" spc="1" strike="noStrike">
                <a:ln w="0">
                  <a:noFill/>
                </a:ln>
                <a:solidFill>
                  <a:srgbClr val="666699"/>
                </a:solidFill>
                <a:latin typeface="Arial"/>
                <a:ea typeface="Arial"/>
              </a:endParaRPr>
            </a:p>
          </p:txBody>
        </p:sp>
        <p:sp>
          <p:nvSpPr>
            <p:cNvPr id="308" name="WordArt 18"/>
            <p:cNvSpPr txBox="1"/>
            <p:nvPr/>
          </p:nvSpPr>
          <p:spPr>
            <a:xfrm>
              <a:off x="7723080" y="2783520"/>
              <a:ext cx="541080" cy="84600"/>
            </a:xfrm>
            <a:prstGeom prst="rect">
              <a:avLst/>
            </a:prstGeom>
          </p:spPr>
          <p:txBody>
            <a:bodyPr wrap="none" lIns="90000" rIns="90000" tIns="38160" bIns="381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666699"/>
                  </a:solidFill>
                  <a:latin typeface="Arial"/>
                </a:rPr>
                <a:t>Жовтневий</a:t>
              </a:r>
              <a:endParaRPr b="1" lang="en-US" sz="1800" spc="1" strike="noStrike">
                <a:ln w="0">
                  <a:noFill/>
                </a:ln>
                <a:solidFill>
                  <a:srgbClr val="666699"/>
                </a:solidFill>
                <a:latin typeface="Arial"/>
                <a:ea typeface="Arial"/>
              </a:endParaRPr>
            </a:p>
          </p:txBody>
        </p:sp>
        <p:sp>
          <p:nvSpPr>
            <p:cNvPr id="309" name="WordArt 19"/>
            <p:cNvSpPr txBox="1"/>
            <p:nvPr/>
          </p:nvSpPr>
          <p:spPr>
            <a:xfrm>
              <a:off x="7404120" y="3370320"/>
              <a:ext cx="530280" cy="84600"/>
            </a:xfrm>
            <a:prstGeom prst="rect">
              <a:avLst/>
            </a:prstGeom>
          </p:spPr>
          <p:txBody>
            <a:bodyPr wrap="none" lIns="90000" rIns="90000" tIns="38160" bIns="381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"/>
                </a:rPr>
                <a:t>Саксаганський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310" name="WordArt 20"/>
            <p:cNvSpPr txBox="1"/>
            <p:nvPr/>
          </p:nvSpPr>
          <p:spPr>
            <a:xfrm>
              <a:off x="6786720" y="3855240"/>
              <a:ext cx="599400" cy="20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Центрально-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міський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311" name="WordArt 21"/>
            <p:cNvSpPr txBox="1"/>
            <p:nvPr/>
          </p:nvSpPr>
          <p:spPr>
            <a:xfrm>
              <a:off x="8085960" y="3991320"/>
              <a:ext cx="632160" cy="11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"/>
                </a:rPr>
                <a:t>Довгинцевський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312" name="WordArt 22"/>
            <p:cNvSpPr txBox="1"/>
            <p:nvPr/>
          </p:nvSpPr>
          <p:spPr>
            <a:xfrm>
              <a:off x="7365600" y="4036320"/>
              <a:ext cx="584280" cy="10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Дзержинський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313" name="WordArt 23"/>
            <p:cNvSpPr txBox="1"/>
            <p:nvPr/>
          </p:nvSpPr>
          <p:spPr>
            <a:xfrm>
              <a:off x="6798960" y="4613040"/>
              <a:ext cx="629640" cy="10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Інгулецький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14" name="Овал 33"/>
          <p:cNvSpPr/>
          <p:nvPr/>
        </p:nvSpPr>
        <p:spPr>
          <a:xfrm>
            <a:off x="8501040" y="1428840"/>
            <a:ext cx="357120" cy="285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Овал 34"/>
          <p:cNvSpPr/>
          <p:nvPr/>
        </p:nvSpPr>
        <p:spPr>
          <a:xfrm>
            <a:off x="7929720" y="3000240"/>
            <a:ext cx="357120" cy="285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Овал 35"/>
          <p:cNvSpPr/>
          <p:nvPr/>
        </p:nvSpPr>
        <p:spPr>
          <a:xfrm>
            <a:off x="6500880" y="4071960"/>
            <a:ext cx="357120" cy="285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Овал 36"/>
          <p:cNvSpPr/>
          <p:nvPr/>
        </p:nvSpPr>
        <p:spPr>
          <a:xfrm>
            <a:off x="7429680" y="3571920"/>
            <a:ext cx="357120" cy="285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WordArt 17"/>
          <p:cNvSpPr txBox="1"/>
          <p:nvPr/>
        </p:nvSpPr>
        <p:spPr>
          <a:xfrm>
            <a:off x="7858080" y="785880"/>
            <a:ext cx="10717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П*ятихат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19" name="WordArt 17"/>
          <p:cNvSpPr txBox="1"/>
          <p:nvPr/>
        </p:nvSpPr>
        <p:spPr>
          <a:xfrm>
            <a:off x="6215040" y="2357280"/>
            <a:ext cx="11430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Криворіз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20" name="WordArt 17"/>
          <p:cNvSpPr txBox="1"/>
          <p:nvPr/>
        </p:nvSpPr>
        <p:spPr>
          <a:xfrm>
            <a:off x="4572000" y="5500800"/>
            <a:ext cx="1143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Широків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21" name="WordArt 17"/>
          <p:cNvSpPr txBox="1"/>
          <p:nvPr/>
        </p:nvSpPr>
        <p:spPr>
          <a:xfrm>
            <a:off x="7000920" y="5214960"/>
            <a:ext cx="1143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Апостолів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22" name="WordArt 17"/>
          <p:cNvSpPr txBox="1"/>
          <p:nvPr/>
        </p:nvSpPr>
        <p:spPr>
          <a:xfrm>
            <a:off x="7858080" y="3500280"/>
            <a:ext cx="11430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Софіїв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Міжрайонний Перинатальний центр ІІ рівня</a:t>
            </a:r>
            <a:br>
              <a:rPr sz="1800"/>
            </a:b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дання медичної допомоги м. Кривий Ріг </a:t>
            </a:r>
            <a:br>
              <a:rPr sz="1800"/>
            </a:b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– відповідно до вимог наказу МОЗ України № 620 від 29.12.2003</a:t>
            </a:r>
            <a:br>
              <a:rPr sz="1800"/>
            </a:b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“Про організацію надання стаціонарної акушерсько-гінекологічної та неонатологічної допомоги в Україні” – Примірне положення про Перинатальний центр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285840" y="2357280"/>
            <a:ext cx="8499240" cy="4171680"/>
            <a:chOff x="285840" y="2357280"/>
            <a:chExt cx="8499240" cy="4171680"/>
          </a:xfrm>
        </p:grpSpPr>
        <p:sp>
          <p:nvSpPr>
            <p:cNvPr id="326" name="Rectangle 16"/>
            <p:cNvSpPr/>
            <p:nvPr/>
          </p:nvSpPr>
          <p:spPr>
            <a:xfrm>
              <a:off x="499320" y="2824560"/>
              <a:ext cx="1214640" cy="233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Харчоблок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Rectangle 15"/>
            <p:cNvSpPr/>
            <p:nvPr/>
          </p:nvSpPr>
          <p:spPr>
            <a:xfrm>
              <a:off x="2000520" y="2824560"/>
              <a:ext cx="341280" cy="1033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ГАРАЖ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Rectangle 14"/>
            <p:cNvSpPr/>
            <p:nvPr/>
          </p:nvSpPr>
          <p:spPr>
            <a:xfrm>
              <a:off x="2143080" y="2357280"/>
              <a:ext cx="1371960" cy="37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ральня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0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344,7  м</a:t>
              </a:r>
              <a:r>
                <a:rPr b="0" lang="ru-RU" sz="10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4358160" y="2489040"/>
              <a:ext cx="2855880" cy="1645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Неонатальный блок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загальна</a:t>
              </a: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S</a:t>
              </a: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3172, 4 м</a:t>
              </a:r>
              <a:r>
                <a:rPr b="1" lang="ru-RU" sz="11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 – ІІ поверхи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–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відділення патології 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новонароджених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неонатологическая бригада 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поверх –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відділення реанімації  новонароджених,  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ургентна лабораторі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285840" y="4168440"/>
              <a:ext cx="4285440" cy="1617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ологовий блок загальна</a:t>
              </a: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5505, 7 м</a:t>
              </a:r>
              <a:r>
                <a:rPr b="1" lang="ru-RU" sz="11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 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оверх. – приемнальне відділення, клініко-діагностична лабораторія, жіноча консультація, адміністраці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–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поверхи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ологов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зали, операційні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 поверх -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ВРІТ для жінок та дітей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IV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 -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V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 поверхи - 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 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ісляпологові палат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1" name="Rectangle 11"/>
            <p:cNvSpPr/>
            <p:nvPr/>
          </p:nvSpPr>
          <p:spPr>
            <a:xfrm>
              <a:off x="6142320" y="4402080"/>
              <a:ext cx="2642760" cy="1319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Гінекологічний блок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Загальна </a:t>
              </a: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2394, 6 м</a:t>
              </a:r>
              <a:r>
                <a:rPr b="1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- ІІ поверхи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– відділення патологіі вагітних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эт. – гинекологическое отделение 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– 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805,5 м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Обща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2" name="Line 9"/>
            <p:cNvSpPr/>
            <p:nvPr/>
          </p:nvSpPr>
          <p:spPr>
            <a:xfrm>
              <a:off x="5671440" y="6528240"/>
              <a:ext cx="1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3" name="Rectangle 8"/>
            <p:cNvSpPr/>
            <p:nvPr/>
          </p:nvSpPr>
          <p:spPr>
            <a:xfrm>
              <a:off x="785880" y="3175200"/>
              <a:ext cx="986400" cy="37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Киснева станци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4500360" y="4811400"/>
              <a:ext cx="1669320" cy="4744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Холл с галереей,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88,1 м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5" name="Rectangle 4"/>
            <p:cNvSpPr/>
            <p:nvPr/>
          </p:nvSpPr>
          <p:spPr>
            <a:xfrm>
              <a:off x="4213800" y="5652000"/>
              <a:ext cx="1599840" cy="37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Баклабораторія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 344, 94 м</a:t>
              </a:r>
              <a:r>
                <a:rPr b="0" lang="ru-RU" sz="11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6" name="Стрелка углом 23"/>
          <p:cNvSpPr/>
          <p:nvPr/>
        </p:nvSpPr>
        <p:spPr>
          <a:xfrm>
            <a:off x="2714760" y="3071880"/>
            <a:ext cx="1643040" cy="1071360"/>
          </a:xfrm>
          <a:prstGeom prst="pie">
            <a:avLst/>
          </a:prstGeom>
          <a:solidFill>
            <a:srgbClr val="0f6fc6">
              <a:alpha val="56000"/>
            </a:srgbClr>
          </a:solidFill>
          <a:ln w="25560">
            <a:solidFill>
              <a:srgbClr val="0850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Підземний перехід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одержимое 19" descr="CIMG40.jpg"/>
          <p:cNvPicPr/>
          <p:nvPr/>
        </p:nvPicPr>
        <p:blipFill>
          <a:blip r:embed="rId1"/>
          <a:stretch/>
        </p:blipFill>
        <p:spPr>
          <a:xfrm>
            <a:off x="1643040" y="3357720"/>
            <a:ext cx="2638440" cy="19778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4643280" y="4714920"/>
            <a:ext cx="4143600" cy="1428840"/>
          </a:xfrm>
          <a:prstGeom prst="rect">
            <a:avLst/>
          </a:prstGeom>
          <a:solidFill>
            <a:srgbClr val="009dd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ІІ черга – 2011 р. - неонатальний блок (36 ліжок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з відділенням патології новонароджених (27 ліжок) та  ВАРІТ (9 ліжок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4572000" y="2857680"/>
            <a:ext cx="4286160" cy="1214280"/>
          </a:xfrm>
          <a:prstGeom prst="rect">
            <a:avLst/>
          </a:prstGeom>
          <a:solidFill>
            <a:srgbClr val="009dd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І черга -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2008 р. введено в експлуатацію  –  пологовий блок (40 ліжок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3 ліжка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– ІТ для новонароджени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6 ліжок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– ВАРІТ для жінок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Oval 14"/>
          <p:cNvSpPr/>
          <p:nvPr/>
        </p:nvSpPr>
        <p:spPr>
          <a:xfrm>
            <a:off x="5429160" y="4143240"/>
            <a:ext cx="2500560" cy="522360"/>
          </a:xfrm>
          <a:prstGeom prst="ellipse">
            <a:avLst/>
          </a:prstGeom>
          <a:solidFill>
            <a:srgbClr val="f2f2f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08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Verdana"/>
                <a:ea typeface="Tahoma"/>
              </a:rPr>
              <a:t>50,1 млн гр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Міжрайонний Перинатальний центр ІІ рівня</a:t>
            </a:r>
            <a:br>
              <a:rPr sz="1800"/>
            </a:b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дання медичної допомоги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3" name="Содержимое 19" descr="CIMG40.jpg"/>
          <p:cNvPicPr/>
          <p:nvPr/>
        </p:nvPicPr>
        <p:blipFill>
          <a:blip r:embed="rId2"/>
          <a:stretch/>
        </p:blipFill>
        <p:spPr>
          <a:xfrm>
            <a:off x="357120" y="4714920"/>
            <a:ext cx="2500560" cy="187488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18" descr="CIMG4066.JPG"/>
          <p:cNvPicPr/>
          <p:nvPr/>
        </p:nvPicPr>
        <p:blipFill>
          <a:blip r:embed="rId3"/>
          <a:stretch/>
        </p:blipFill>
        <p:spPr>
          <a:xfrm>
            <a:off x="285840" y="1928880"/>
            <a:ext cx="2428920" cy="1630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1428840" y="1002960"/>
            <a:ext cx="6643440" cy="82404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Потужність центру -    3000 пологів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Verdana"/>
                <a:ea typeface="Times New Roman"/>
              </a:rPr>
              <a:t>159 ліжко-місц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6" name="Picture 10" descr="http://www.zerkalov.org.ua/files/16s.gif"/>
          <p:cNvPicPr/>
          <p:nvPr/>
        </p:nvPicPr>
        <p:blipFill>
          <a:blip r:embed="rId4"/>
          <a:stretch/>
        </p:blipFill>
        <p:spPr>
          <a:xfrm rot="5400000">
            <a:off x="3366000" y="1634400"/>
            <a:ext cx="642600" cy="8031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94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Прямоугольник 12"/>
          <p:cNvSpPr/>
          <p:nvPr/>
        </p:nvSpPr>
        <p:spPr>
          <a:xfrm>
            <a:off x="3714840" y="6143760"/>
            <a:ext cx="47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Verdana"/>
                <a:ea typeface="Times New Roman"/>
              </a:rPr>
              <a:t>Кошторисна вартість - 99,99 млн грн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214800" y="420840"/>
          <a:ext cx="2428920" cy="3650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Баз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00040" y="420840"/>
          <a:ext cx="2232000" cy="3348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КЛЮЧОВІ  ЗАВ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143760" y="420840"/>
          <a:ext cx="2500200" cy="365040"/>
        </p:xfrm>
        <a:graphic>
          <a:graphicData uri="http://schemas.openxmlformats.org/drawingml/2006/table">
            <a:tbl>
              <a:tblPr/>
              <a:tblGrid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Ціль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2" name="Text Box 115"/>
          <p:cNvSpPr/>
          <p:nvPr/>
        </p:nvSpPr>
        <p:spPr>
          <a:xfrm>
            <a:off x="2857680" y="1428840"/>
            <a:ext cx="3000240" cy="5596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Пологове відділення  ОКЛ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акушерської реанімації на базі МКЛ№9  м.Дн-сь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Міський клінічний пологовий будинок №2 м.Дн-сь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реанімації новонароджених на базі  МДКЛ №3 м.Дн-сь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патології недоношених новонароджених МДКЛ № 6 м.Дн-с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реанімації новонароджених і ОДКЛ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AutoShape 134"/>
          <p:cNvSpPr/>
          <p:nvPr/>
        </p:nvSpPr>
        <p:spPr>
          <a:xfrm>
            <a:off x="214200" y="2232000"/>
            <a:ext cx="2643480" cy="2571840"/>
          </a:xfrm>
          <a:custGeom>
            <a:avLst/>
            <a:gdLst>
              <a:gd name="textAreaLeft" fmla="*/ 0 w 2643480"/>
              <a:gd name="textAreaRight" fmla="*/ 2643840 w 2643480"/>
              <a:gd name="textAreaTop" fmla="*/ 0 h 2571840"/>
              <a:gd name="textAreaBottom" fmla="*/ 257220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7" y="0"/>
                </a:lnTo>
                <a:lnTo>
                  <a:pt x="21600" y="10800"/>
                </a:lnTo>
                <a:lnTo>
                  <a:pt x="17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08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Забезпечення високотехнологічною допомогою  вагітних, роділь та новонароджени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Text Box 115"/>
          <p:cNvSpPr/>
          <p:nvPr/>
        </p:nvSpPr>
        <p:spPr>
          <a:xfrm>
            <a:off x="6143760" y="2303640"/>
            <a:ext cx="2857320" cy="2527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ffffff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екстрагенітальної патології  обласної клінічної лікарні на 1500 пологів на рік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buClr>
                <a:srgbClr val="ffffff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Обласний перинатальний центр на 4000 пологів на рік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TextBox 25"/>
          <p:cNvSpPr/>
          <p:nvPr/>
        </p:nvSpPr>
        <p:spPr>
          <a:xfrm>
            <a:off x="500040" y="1000080"/>
            <a:ext cx="821520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Century Gothic"/>
              </a:rPr>
              <a:t>Оптимізація мережі  третинного  рівня   надання медичної допомог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6" name="Picture 10" descr="http://www.zerkalov.org.ua/files/16s.gif"/>
          <p:cNvPicPr/>
          <p:nvPr/>
        </p:nvPicPr>
        <p:blipFill>
          <a:blip r:embed="rId1"/>
          <a:stretch/>
        </p:blipFill>
        <p:spPr>
          <a:xfrm>
            <a:off x="5929200" y="3143160"/>
            <a:ext cx="5716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6:07:27Z</dcterms:created>
  <dc:creator>user</dc:creator>
  <dc:description/>
  <dc:language>en-US</dc:language>
  <cp:lastModifiedBy>SeM</cp:lastModifiedBy>
  <cp:lastPrinted>2011-07-19T07:07:19Z</cp:lastPrinted>
  <dcterms:modified xsi:type="dcterms:W3CDTF">2011-08-17T12:32:57Z</dcterms:modified>
  <cp:revision>873</cp:revision>
  <dc:subject/>
  <dc:title>Презентация PowerPoint</dc:title>
</cp:coreProperties>
</file>