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1E26-A9BC-46C1-8078-FB6ABD94F4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39633BB-FDB6-4297-919F-7375935C17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9893662-B5DA-4D54-801D-EDC3766C4E8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Розподіл народжених живими та мертвими за ваговою категорією має тенденцію щодо покращення достовірності реєстрації маловагових категорі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Відсоток народжених до 1500 гр збільшений з 1,16 до 1,35 відсотк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A0D47C-8250-4B5E-8BE4-4EC71579A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BD6C4C2-92E4-43EC-B177-FD37A8A630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C5065A9-95AE-49AC-ABC9-1872AB20FD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B2AC4FF-582C-4A73-A7CE-48CE69D811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56B2-6A14-4D5B-8634-333F5E7580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096E-AE84-468A-A303-4446FDEE1EF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8F4A-F40E-4869-81DF-15C13A22EF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6DE6-A55E-481C-8A36-423230F6B0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2070-994D-4AA0-8C2B-3484A4BE78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E604-A125-4C2C-AEE7-D522A522DC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1FB4-5147-49C3-928C-101F137A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EDD9-9AA9-4764-AABA-FF4C004D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066-4156-4E98-83BA-98A70224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C867-41F3-491F-B7FA-2B5BD002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2AFB-A4F2-4D5D-A428-FBE3E69D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B72E-BE4F-41AD-8AAB-4834853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079A-887C-4B30-8E2D-6335B1D7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5465-EC52-4B8D-A015-11F734BC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DC1C-3F0F-4EB0-A405-5969050B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E34B-C83C-4A27-AAC5-65F576E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65FA-ECE1-43C4-973B-CBF226E1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3FA-3768-4D46-B228-C4A9732D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97B6-2AA7-40FE-84F5-7A7E5FE0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7FD8-DDAE-4CEB-A64A-064EBC4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E5C9-3C4E-43BB-93D8-58A66419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3D37-BFAC-4AA1-A778-3E3AA300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ADF-E79D-4A8F-BFE0-21F70670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137B-E96B-4DAA-99E7-E69421CD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64565-C783-463E-99B6-C5A2847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6DA2E-B0D5-4ABB-A38E-F4F40FD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89DCB-3A40-4C71-B6C7-4000F994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580C-3521-4FDA-A0FA-F37B7A84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103-276C-4FED-8C99-A8F1AC64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12B4-3B00-46A0-B0D9-D07D51A4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3E27-F5C3-4556-B4CF-D58E8115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752D9-7EEA-4BB2-BD90-99E700F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6F7C-C91A-46D5-9E74-EC271A79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78246-A702-4469-A151-8B63914F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E216B-6A15-410C-8776-C8F68B00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7A437-7C58-4627-A6E1-F18FE5FA2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55A02-F062-4D03-8A2C-2AC7DC06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907E-35C0-4373-867E-924F5CD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A6D7-F762-47A4-9BC4-7067BB90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06F7-76C8-4FAB-B8D0-7789AE64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9B2AA-D8B7-46BE-85FB-98615A5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8DD0-541B-43B3-B732-654DCFA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472A2-7503-469A-8A72-3F9F6323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7DBA6-69D2-4148-A2E1-6F30BE05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5CCA-8CA9-48A8-BFD8-DCAF1E6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91531-8408-4AB5-A388-51D7A454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0481-1738-4962-BB49-012F43A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D52E-0FAE-4076-AC74-5690AEDC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B4F6B-D2F2-483F-8697-65F873CED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B4B7A-089B-48A9-8093-D19014A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D9E-BC97-43D4-976E-7A196BE9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294E0-9857-4D7A-9A49-2555A67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3A6C-AD10-4F12-905A-947C3550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C722-EFAF-4EEC-AD7D-A8197A7A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2A47-683F-40F3-B499-5313B32D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AF67C-FA99-44E2-9D19-313B713A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D95B8-7F31-4955-AC4D-B1D26C7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FA137-A154-414B-9287-5E6F798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1223E-DFE2-4EC7-BB19-4B78A29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185DD-B1EF-4FB8-B342-CBE9C8A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B2CC-9A21-4CE5-BBCD-9B30AB01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056-F43B-42EC-BE10-085925C1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5E69-3146-4CF6-BD11-EDD074A43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3FA-F32B-4C71-B263-2BF01386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EFB-0628-4B7F-8817-130423FF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84D2-6C38-432D-A86F-8E2E9DB6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E355-4BD6-4975-8DDB-2C77D464A6F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61AC-67D1-4C56-A7E1-45ECCADC4F9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4576f"/>
            </a:gs>
            <a:gs pos="100000">
              <a:srgbClr val="0230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9CC2-8695-4D8C-9BE0-3CD827CAFD2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AE45A-09C4-4CE5-9A21-C389B96881A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eaf2"/>
            </a:gs>
            <a:gs pos="100000">
              <a:srgbClr val="21b2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EECA-2B3C-4F16-970F-14144FC9BA8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18229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214200" y="357120"/>
            <a:ext cx="8572680" cy="6281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93560" y="1133640"/>
            <a:ext cx="8137800" cy="1536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85840" y="4071960"/>
            <a:ext cx="3598920" cy="433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Головне управління охорони здоров</a:t>
            </a:r>
            <a:r>
              <a:rPr b="1" lang="en-US" sz="1400" spc="-1" strike="noStrike">
                <a:solidFill>
                  <a:srgbClr val="262699"/>
                </a:solidFill>
                <a:latin typeface="Arial"/>
              </a:rPr>
              <a:t>’</a:t>
            </a: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я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400" spc="-1" strike="noStrike">
                <a:solidFill>
                  <a:srgbClr val="262699"/>
                </a:solidFill>
                <a:latin typeface="Arial"/>
              </a:rPr>
              <a:t>облдержадміністрації</a:t>
            </a:r>
            <a:r>
              <a:rPr b="1" lang="uk-UA" sz="600" spc="-1" strike="noStrike">
                <a:solidFill>
                  <a:srgbClr val="22228b"/>
                </a:solidFill>
                <a:latin typeface="Arial"/>
                <a:ea typeface="Arial"/>
              </a:rPr>
              <a:t>  </a:t>
            </a:r>
            <a:endParaRPr b="0" lang="en-US" sz="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Подзаголовок 2"/>
          <p:cNvSpPr/>
          <p:nvPr/>
        </p:nvSpPr>
        <p:spPr>
          <a:xfrm>
            <a:off x="6732720" y="5229360"/>
            <a:ext cx="17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262699"/>
                </a:solidFill>
                <a:latin typeface="Arial"/>
              </a:rPr>
              <a:t>ДОПОВІДАЧ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262699"/>
                </a:solidFill>
                <a:latin typeface="Arial"/>
              </a:rPr>
              <a:t>ГІНЗБУРГ В.Г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Прямоугольник 10"/>
          <p:cNvSpPr/>
          <p:nvPr/>
        </p:nvSpPr>
        <p:spPr>
          <a:xfrm>
            <a:off x="0" y="1785960"/>
            <a:ext cx="2857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Равнобедренный треугольник 37"/>
          <p:cNvSpPr/>
          <p:nvPr/>
        </p:nvSpPr>
        <p:spPr>
          <a:xfrm rot="10800000">
            <a:off x="2285640" y="713520"/>
            <a:ext cx="4357800" cy="142920"/>
          </a:xfrm>
          <a:prstGeom prst="triangle">
            <a:avLst>
              <a:gd name="adj" fmla="val 50000"/>
            </a:avLst>
          </a:prstGeom>
          <a:solidFill>
            <a:srgbClr val="5c6ae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2071800" y="2571840"/>
            <a:ext cx="6929280" cy="2559600"/>
          </a:xfrm>
          <a:prstGeom prst="rect">
            <a:avLst/>
          </a:prstGeom>
          <a:solidFill>
            <a:srgbClr val="c8e3fb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на базах учбових центрів тренінгів з питань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реанімації новонароджених (4 тренінги – 8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провадження перинатальних технологій, підтримки грудного вигодовування (8 тренінгів до 2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ланування сім*ї (4 тренінги до 10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роведення майстер-класів для лікарів УЗД-діагностики з питань пренатальної діагностики  ВВР (4 майстер-класи в рік – 160 осіб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підвищення кваліфікації фахівців, які будуть працювати в обласному перинатальному центрі згідно затвердженого плану графіку –  72 лікаря, 28 акушерок </a:t>
            </a:r>
            <a:r>
              <a:rPr b="1" lang="uk-UA" sz="1200" spc="-1" strike="noStrike">
                <a:solidFill>
                  <a:srgbClr val="c00000"/>
                </a:solidFill>
                <a:latin typeface="Verdana"/>
              </a:rPr>
              <a:t>Пройшли навчання – 20 лікарів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lnSpc>
                <a:spcPct val="100000"/>
              </a:lnSpc>
              <a:spcAft>
                <a:spcPts val="601"/>
              </a:spcAft>
              <a:buSzPct val="103006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Забезпечення спеціалізації неонатологів та дитячих анестезіологів – 6 фахівців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Пятиугольник 8"/>
          <p:cNvSpPr/>
          <p:nvPr/>
        </p:nvSpPr>
        <p:spPr>
          <a:xfrm>
            <a:off x="357120" y="2714760"/>
            <a:ext cx="1785960" cy="24098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2409840"/>
              <a:gd name="textAreaBottom" fmla="*/ 2410200 h 24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05" y="0"/>
                </a:lnTo>
                <a:lnTo>
                  <a:pt x="21600" y="10800"/>
                </a:lnTo>
                <a:lnTo>
                  <a:pt x="152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c6aee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Для фахівц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вторинного та третинного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500" spc="-1" strike="noStrike">
                <a:solidFill>
                  <a:srgbClr val="000066"/>
                </a:solidFill>
                <a:latin typeface="Verdana"/>
              </a:rPr>
              <a:t>рівнів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Прямоугольник 11"/>
          <p:cNvSpPr/>
          <p:nvPr/>
        </p:nvSpPr>
        <p:spPr>
          <a:xfrm>
            <a:off x="214200" y="1285920"/>
            <a:ext cx="8643960" cy="291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 algn="ctr">
              <a:lnSpc>
                <a:spcPct val="100000"/>
              </a:lnSpc>
              <a:buClr>
                <a:srgbClr val="0000cc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300" spc="-1" strike="noStrike">
                <a:solidFill>
                  <a:srgbClr val="0000cc"/>
                </a:solidFill>
                <a:latin typeface="Verdana"/>
              </a:rPr>
              <a:t>Укладання договору з ДУ “Інститут педіатрії, акушерства і гінекології НАМН України”</a:t>
            </a:r>
            <a:endParaRPr b="0" lang="en-US" sz="13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571680" y="28584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Шляхи підвищення кваліфікації та підготовки кадрів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2286000" y="3143160"/>
            <a:ext cx="6572160" cy="642960"/>
          </a:xfrm>
          <a:prstGeom prst="rect">
            <a:avLst/>
          </a:prstGeom>
          <a:solidFill>
            <a:srgbClr val="ff0000">
              <a:alpha val="14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Calibri"/>
              </a:rPr>
              <a:t>Передумови створення обласного Перинатального центру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213920"/>
            <a:ext cx="82296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 області щорічно відбувається понад 25000 пологів у жінок з екстрагенітальною патологією та ускладненим перебігом вагітності, з них до 20% з важкою патологією (5000 пологів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Відбувається близько 2500 передчасних пологів та до 400 дітей народжується живими з вагою до 1500 г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явний  дефіцит неонатальних ліжок (60), в т. ч. реанімаційних (12) та відсутній потужний обласний пологовий центр (потужність існуючого – 1500 пологів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Децентралізована система надання неонатальної допомоги (2 ДЛ м. Дніпропетровська, 1 ДЛ м. Кривого Рогу,1 ДЛ м. Дніпродзержинська) – вкрай високі ризики для новонароджених при перетранспортуванні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Активне впровадження в практику хірургічної допомоги новонародженим при ВВР (загальна хірургія, кардіо- та нейрохірургія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5"/>
          <p:cNvGraphicFramePr/>
          <p:nvPr/>
        </p:nvGraphicFramePr>
        <p:xfrm>
          <a:off x="214200" y="2489040"/>
          <a:ext cx="8358480" cy="43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489040"/>
                    <a:ext cx="8358480" cy="43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Группа 7"/>
          <p:cNvGrpSpPr/>
          <p:nvPr/>
        </p:nvGrpSpPr>
        <p:grpSpPr>
          <a:xfrm>
            <a:off x="357120" y="357120"/>
            <a:ext cx="8501040" cy="928800"/>
            <a:chOff x="357120" y="357120"/>
            <a:chExt cx="8501040" cy="928800"/>
          </a:xfrm>
        </p:grpSpPr>
        <p:sp>
          <p:nvSpPr>
            <p:cNvPr id="370" name="Скругленный прямоугольник 13"/>
            <p:cNvSpPr/>
            <p:nvPr/>
          </p:nvSpPr>
          <p:spPr>
            <a:xfrm>
              <a:off x="357120" y="357120"/>
              <a:ext cx="8501040" cy="92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Скругленный прямоугольник 4"/>
            <p:cNvSpPr/>
            <p:nvPr/>
          </p:nvSpPr>
          <p:spPr>
            <a:xfrm>
              <a:off x="357120" y="498240"/>
              <a:ext cx="85010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106560" bIns="1065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uk-UA" sz="2000" spc="-1" strike="noStrike">
                  <a:solidFill>
                    <a:srgbClr val="000066"/>
                  </a:solidFill>
                  <a:latin typeface="Verdana"/>
                </a:rPr>
                <a:t>Достовірність реєстрації новонароджених  живих та мертвих з низькою масою тіла (500 -1499 гр)</a:t>
              </a:r>
              <a:endParaRPr b="0" lang="en-US" sz="2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2" name="Стрелка вниз 8"/>
          <p:cNvSpPr/>
          <p:nvPr/>
        </p:nvSpPr>
        <p:spPr>
          <a:xfrm>
            <a:off x="78588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beac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1000-14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Стрелка вниз 12"/>
          <p:cNvSpPr/>
          <p:nvPr/>
        </p:nvSpPr>
        <p:spPr>
          <a:xfrm>
            <a:off x="5643720" y="1285920"/>
            <a:ext cx="2857320" cy="121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df3d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Народжених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у ваговій категорі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500-999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nstantia"/>
              </a:rPr>
              <a:t>(питома ваг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06480" y="2515680"/>
            <a:ext cx="3322440" cy="219240"/>
          </a:xfrm>
          <a:prstGeom prst="rect">
            <a:avLst/>
          </a:prstGeom>
          <a:solidFill>
            <a:srgbClr val="dbf5f9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002060"/>
                </a:solidFill>
                <a:latin typeface="Calibri"/>
              </a:rPr>
              <a:t>0,59-----------Україна-------0,34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63520" y="274680"/>
            <a:ext cx="861696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500" spc="-1" strike="noStrike">
                <a:solidFill>
                  <a:srgbClr val="000066"/>
                </a:solidFill>
                <a:latin typeface="Calibri"/>
              </a:rPr>
              <a:t>Структура малюкової смертності за місцем смерті</a:t>
            </a:r>
            <a:br>
              <a:rPr sz="2500"/>
            </a:b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(Україна за 2010р – 53,2% смертність на рівні ВРІТ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6" name="Object 3"/>
          <p:cNvGraphicFramePr/>
          <p:nvPr/>
        </p:nvGraphicFramePr>
        <p:xfrm>
          <a:off x="190440" y="1092240"/>
          <a:ext cx="8302680" cy="54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1092240"/>
                    <a:ext cx="830268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Овал 4"/>
          <p:cNvSpPr/>
          <p:nvPr/>
        </p:nvSpPr>
        <p:spPr>
          <a:xfrm>
            <a:off x="227160" y="4487760"/>
            <a:ext cx="1241280" cy="113184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Овал 5"/>
          <p:cNvSpPr/>
          <p:nvPr/>
        </p:nvSpPr>
        <p:spPr>
          <a:xfrm>
            <a:off x="2637000" y="4597560"/>
            <a:ext cx="1350720" cy="120492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18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ок – </a:t>
            </a: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Овал 3"/>
          <p:cNvSpPr/>
          <p:nvPr/>
        </p:nvSpPr>
        <p:spPr>
          <a:xfrm>
            <a:off x="5302080" y="4633920"/>
            <a:ext cx="1497240" cy="1278000"/>
          </a:xfrm>
          <a:prstGeom prst="ellipse">
            <a:avLst/>
          </a:prstGeom>
          <a:solidFill>
            <a:srgbClr val="d6c8d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entury Gothic"/>
              </a:rPr>
              <a:t>24 </a:t>
            </a:r>
            <a:r>
              <a:rPr b="0" lang="uk-UA" sz="1000" spc="-1" strike="noStrike">
                <a:solidFill>
                  <a:srgbClr val="000000"/>
                </a:solidFill>
                <a:latin typeface="Century Gothic"/>
              </a:rPr>
              <a:t>ліжк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entury Gothic"/>
              </a:rPr>
              <a:t>РІТН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1" name="Стрелка вверх 10"/>
          <p:cNvSpPr/>
          <p:nvPr/>
        </p:nvSpPr>
        <p:spPr>
          <a:xfrm>
            <a:off x="5776920" y="2698920"/>
            <a:ext cx="584280" cy="1927080"/>
          </a:xfrm>
          <a:prstGeom prst="upArrow">
            <a:avLst>
              <a:gd name="adj1" fmla="val 50000"/>
              <a:gd name="adj2" fmla="val 49992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Стрелка вниз 11"/>
          <p:cNvSpPr/>
          <p:nvPr/>
        </p:nvSpPr>
        <p:spPr>
          <a:xfrm>
            <a:off x="3147840" y="3137040"/>
            <a:ext cx="484200" cy="14605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428760" y="214200"/>
            <a:ext cx="835812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міського пологового будинку №2</a:t>
            </a:r>
            <a:br>
              <a:rPr sz="2000"/>
            </a:b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м. Дніпропетровська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384" name="Группа 27"/>
          <p:cNvGrpSpPr/>
          <p:nvPr/>
        </p:nvGrpSpPr>
        <p:grpSpPr>
          <a:xfrm>
            <a:off x="0" y="1214280"/>
            <a:ext cx="8858160" cy="5000760"/>
            <a:chOff x="0" y="1214280"/>
            <a:chExt cx="8858160" cy="5000760"/>
          </a:xfrm>
        </p:grpSpPr>
        <p:sp>
          <p:nvSpPr>
            <p:cNvPr id="385" name="AutoShape 4"/>
            <p:cNvSpPr/>
            <p:nvPr/>
          </p:nvSpPr>
          <p:spPr>
            <a:xfrm>
              <a:off x="0" y="3624120"/>
              <a:ext cx="1357200" cy="933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6" name="AutoShape 5"/>
            <p:cNvSpPr/>
            <p:nvPr/>
          </p:nvSpPr>
          <p:spPr>
            <a:xfrm>
              <a:off x="1071360" y="1447560"/>
              <a:ext cx="1500120" cy="777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7" name="AutoShape 8"/>
            <p:cNvSpPr/>
            <p:nvPr/>
          </p:nvSpPr>
          <p:spPr>
            <a:xfrm>
              <a:off x="3357360" y="12920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1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8" name="AutoShape 9"/>
            <p:cNvSpPr/>
            <p:nvPr/>
          </p:nvSpPr>
          <p:spPr>
            <a:xfrm>
              <a:off x="3357360" y="3390840"/>
              <a:ext cx="185724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00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9" name="AutoShape 10"/>
            <p:cNvSpPr/>
            <p:nvPr/>
          </p:nvSpPr>
          <p:spPr>
            <a:xfrm>
              <a:off x="3357360" y="2303280"/>
              <a:ext cx="1857240" cy="911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6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0" name="AutoShape 11"/>
            <p:cNvSpPr/>
            <p:nvPr/>
          </p:nvSpPr>
          <p:spPr>
            <a:xfrm>
              <a:off x="3286080" y="4857840"/>
              <a:ext cx="1857240" cy="1290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1" name="AutoShape 14"/>
            <p:cNvSpPr/>
            <p:nvPr/>
          </p:nvSpPr>
          <p:spPr>
            <a:xfrm>
              <a:off x="5357880" y="1214280"/>
              <a:ext cx="3500280" cy="29545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Виконує функції обласних центр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анування сім*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ідліткової гінекології та перинатолог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Акушерсько-гінекологічної допомоги жінкам-інваліда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  <a:ea typeface="Arial"/>
                </a:rPr>
                <a:t>Виконує функції міського центру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Надання хірургічної допомоги акушерським хворим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Респіраторний центр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2" name="AutoShape 15"/>
            <p:cNvSpPr/>
            <p:nvPr/>
          </p:nvSpPr>
          <p:spPr>
            <a:xfrm>
              <a:off x="928440" y="4714920"/>
              <a:ext cx="2143080" cy="15001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Інформаційно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аліти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тренінговими центра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.Планування сім*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2.Єфективний перина-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льний догляд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3.Грудне вигодовуванн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3" name="AutoShape 16"/>
            <p:cNvSpPr/>
            <p:nvPr/>
          </p:nvSpPr>
          <p:spPr>
            <a:xfrm>
              <a:off x="1500120" y="3390840"/>
              <a:ext cx="1285560" cy="9126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94" name="AutoShape 18"/>
            <p:cNvSpPr/>
            <p:nvPr/>
          </p:nvSpPr>
          <p:spPr>
            <a:xfrm>
              <a:off x="5357880" y="4714920"/>
              <a:ext cx="3500280" cy="13906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Реанімація та інтенсивна терап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ворим новонародженим протягом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першого тижня житт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395" name="AutoShape 70"/>
            <p:cNvCxnSpPr>
              <a:endCxn id="386" idx="1"/>
            </p:cNvCxnSpPr>
            <p:nvPr/>
          </p:nvCxnSpPr>
          <p:spPr>
            <a:xfrm flipH="1" flipV="1" rot="5400000">
              <a:off x="-118080" y="2381760"/>
              <a:ext cx="1736280" cy="6433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6" name="AutoShape 71"/>
            <p:cNvCxnSpPr>
              <a:stCxn id="385" idx="3"/>
              <a:endCxn id="392" idx="1"/>
            </p:cNvCxnSpPr>
            <p:nvPr/>
          </p:nvCxnSpPr>
          <p:spPr>
            <a:xfrm flipH="1">
              <a:off x="928080" y="4091040"/>
              <a:ext cx="429120" cy="1374480"/>
            </a:xfrm>
            <a:prstGeom prst="bentConnector5">
              <a:avLst>
                <a:gd name="adj1" fmla="val -53316"/>
                <a:gd name="adj2" fmla="val 39664"/>
                <a:gd name="adj3" fmla="val 153316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7" name="AutoShape 72"/>
            <p:cNvCxnSpPr/>
            <p:nvPr/>
          </p:nvCxnSpPr>
          <p:spPr>
            <a:xfrm rot="5400000">
              <a:off x="1376280" y="2275920"/>
              <a:ext cx="389160" cy="28620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8" name="AutoShape 74"/>
            <p:cNvCxnSpPr>
              <a:stCxn id="386" idx="3"/>
              <a:endCxn id="387" idx="1"/>
            </p:cNvCxnSpPr>
            <p:nvPr/>
          </p:nvCxnSpPr>
          <p:spPr>
            <a:xfrm flipV="1">
              <a:off x="2571480" y="1747800"/>
              <a:ext cx="786240" cy="88560"/>
            </a:xfrm>
            <a:prstGeom prst="bentConnector3">
              <a:avLst>
                <a:gd name="adj1" fmla="val 49977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399" name="AutoShape 76"/>
            <p:cNvCxnSpPr/>
            <p:nvPr/>
          </p:nvCxnSpPr>
          <p:spPr>
            <a:xfrm>
              <a:off x="2785680" y="4214520"/>
              <a:ext cx="643320" cy="6224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00" name="AutoShape 77"/>
            <p:cNvCxnSpPr>
              <a:stCxn id="393" idx="3"/>
            </p:cNvCxnSpPr>
            <p:nvPr/>
          </p:nvCxnSpPr>
          <p:spPr>
            <a:xfrm flipV="1">
              <a:off x="2785680" y="3548160"/>
              <a:ext cx="572040" cy="2995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1" name="Стрелка вправо 26"/>
            <p:cNvSpPr/>
            <p:nvPr/>
          </p:nvSpPr>
          <p:spPr>
            <a:xfrm flipH="1">
              <a:off x="4929120" y="276048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2" name="AutoShape 75"/>
            <p:cNvCxnSpPr/>
            <p:nvPr/>
          </p:nvCxnSpPr>
          <p:spPr>
            <a:xfrm flipH="1" flipV="1" rot="5400000">
              <a:off x="2763000" y="2012760"/>
              <a:ext cx="54468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3" name="AutoShape 5"/>
            <p:cNvSpPr/>
            <p:nvPr/>
          </p:nvSpPr>
          <p:spPr>
            <a:xfrm>
              <a:off x="500040" y="2614320"/>
              <a:ext cx="1116000" cy="6318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04" name="AutoShape 5"/>
            <p:cNvSpPr/>
            <p:nvPr/>
          </p:nvSpPr>
          <p:spPr>
            <a:xfrm>
              <a:off x="1714320" y="2614320"/>
              <a:ext cx="1330200" cy="5428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05" name="AutoShape 72"/>
            <p:cNvCxnSpPr/>
            <p:nvPr/>
          </p:nvCxnSpPr>
          <p:spPr>
            <a:xfrm flipH="1" rot="16200000">
              <a:off x="1912680" y="2239920"/>
              <a:ext cx="389160" cy="3578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06" name="Стрелка вправо 25"/>
            <p:cNvSpPr/>
            <p:nvPr/>
          </p:nvSpPr>
          <p:spPr>
            <a:xfrm flipH="1">
              <a:off x="5000760" y="4946760"/>
              <a:ext cx="536400" cy="9414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7" name="AutoShape 5"/>
          <p:cNvSpPr/>
          <p:nvPr/>
        </p:nvSpPr>
        <p:spPr>
          <a:xfrm>
            <a:off x="285840" y="785880"/>
            <a:ext cx="3500280" cy="4921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Содержимое 5" descr="Panorama 2.JPG"/>
          <p:cNvPicPr/>
          <p:nvPr/>
        </p:nvPicPr>
        <p:blipFill>
          <a:blip r:embed="rId1"/>
          <a:srcRect l="0" t="0" r="27047" b="0"/>
          <a:stretch/>
        </p:blipFill>
        <p:spPr>
          <a:xfrm>
            <a:off x="928800" y="2071800"/>
            <a:ext cx="4124160" cy="2714400"/>
          </a:xfrm>
          <a:prstGeom prst="rect">
            <a:avLst/>
          </a:prstGeom>
          <a:ln w="0">
            <a:noFill/>
          </a:ln>
        </p:spPr>
      </p:pic>
      <p:pic>
        <p:nvPicPr>
          <p:cNvPr id="409" name="Содержимое 6" descr="Panorama 1.JPG"/>
          <p:cNvPicPr/>
          <p:nvPr/>
        </p:nvPicPr>
        <p:blipFill>
          <a:blip r:embed="rId2"/>
          <a:stretch/>
        </p:blipFill>
        <p:spPr>
          <a:xfrm>
            <a:off x="4500720" y="2071800"/>
            <a:ext cx="4071960" cy="27144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14200" y="172800"/>
            <a:ext cx="8429760" cy="46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Базові медичні заклади для реалізації проекту – створення обласного перинатального центру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285840" y="714240"/>
            <a:ext cx="4786200" cy="128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ДП № 1 КЗ «Міська дитяча клінічна лікарня № 5»</a:t>
            </a:r>
            <a:br>
              <a:rPr sz="1200"/>
            </a:b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. Дніпропетровська (вул. Космічна, 15а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66"/>
                </a:solidFill>
                <a:latin typeface="Verdana"/>
              </a:rPr>
              <a:t>3-х – поверхова будівля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0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3741,7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 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1366,0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4429080" y="4857840"/>
            <a:ext cx="4572000" cy="157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КЗ «Міський пологовий будинок № 2»            м. Дніпропетровська (вул. Космічна, 17)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 </a:t>
            </a: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5-ти – поверхова будівл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ік забудови – 1983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Загальна площа – 14976,5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66"/>
                </a:solidFill>
                <a:latin typeface="Verdana"/>
              </a:rPr>
              <a:t>робоча площа – 5862,3 м</a:t>
            </a:r>
            <a:r>
              <a:rPr b="0" lang="uk-UA" sz="1400" spc="-1" strike="noStrike" baseline="30000">
                <a:solidFill>
                  <a:srgbClr val="000066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0" y="28440"/>
            <a:ext cx="91440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66"/>
                </a:solidFill>
                <a:latin typeface="Verdana"/>
              </a:rPr>
              <a:t>Структура перинатального центру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14" name="Группа 27"/>
          <p:cNvGrpSpPr/>
          <p:nvPr/>
        </p:nvGrpSpPr>
        <p:grpSpPr>
          <a:xfrm>
            <a:off x="142920" y="1714680"/>
            <a:ext cx="8715240" cy="4351320"/>
            <a:chOff x="142920" y="1714680"/>
            <a:chExt cx="8715240" cy="4351320"/>
          </a:xfrm>
        </p:grpSpPr>
        <p:cxnSp>
          <p:nvCxnSpPr>
            <p:cNvPr id="415" name="AutoShape 75"/>
            <p:cNvCxnSpPr>
              <a:endCxn id="416" idx="1"/>
            </p:cNvCxnSpPr>
            <p:nvPr/>
          </p:nvCxnSpPr>
          <p:spPr>
            <a:xfrm flipH="1" rot="16200000">
              <a:off x="2075400" y="4352760"/>
              <a:ext cx="1634040" cy="92916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17" name="AutoShape 4"/>
            <p:cNvSpPr/>
            <p:nvPr/>
          </p:nvSpPr>
          <p:spPr>
            <a:xfrm>
              <a:off x="142920" y="3429000"/>
              <a:ext cx="135720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дміністративно -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осподарчий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AutoShape 5"/>
            <p:cNvSpPr/>
            <p:nvPr/>
          </p:nvSpPr>
          <p:spPr>
            <a:xfrm>
              <a:off x="500040" y="1857240"/>
              <a:ext cx="2286000" cy="5000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Лікувально –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тивний бл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AutoShape 8"/>
            <p:cNvSpPr/>
            <p:nvPr/>
          </p:nvSpPr>
          <p:spPr>
            <a:xfrm>
              <a:off x="3429000" y="1785960"/>
              <a:ext cx="1857240" cy="552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Гінекологіч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125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AutoShape 9"/>
            <p:cNvSpPr/>
            <p:nvPr/>
          </p:nvSpPr>
          <p:spPr>
            <a:xfrm>
              <a:off x="3357360" y="3429000"/>
              <a:ext cx="1857240" cy="5713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94 ліжка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AutoShape 10"/>
            <p:cNvSpPr/>
            <p:nvPr/>
          </p:nvSpPr>
          <p:spPr>
            <a:xfrm>
              <a:off x="3357360" y="2500200"/>
              <a:ext cx="1857240" cy="7142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нестезіології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spcAft>
                  <a:spcPts val="201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та ІТ для жін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3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AutoShape 11"/>
            <p:cNvSpPr/>
            <p:nvPr/>
          </p:nvSpPr>
          <p:spPr>
            <a:xfrm>
              <a:off x="3357360" y="4286520"/>
              <a:ext cx="1857240" cy="7095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 для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овонародже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ВІТ на </a:t>
              </a: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7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акушерського блоку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AutoShape 14"/>
            <p:cNvSpPr/>
            <p:nvPr/>
          </p:nvSpPr>
          <p:spPr>
            <a:xfrm>
              <a:off x="5357880" y="1714680"/>
              <a:ext cx="3500280" cy="242892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акушерськ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- при передчасних пологах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дівчаток та підлітк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жінок-інвалідів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агітних з пренатально діагностованими хворобам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плоду, в т.ч. ВВР, які підлягають хірургічній корекції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lvl="1" marL="457200">
                <a:lnSpc>
                  <a:spcPct val="100000"/>
                </a:lnSpc>
                <a:spcAft>
                  <a:spcPts val="601"/>
                </a:spcAft>
                <a:buClr>
                  <a:srgbClr val="002060"/>
                </a:buClr>
                <a:buFont typeface="Verdana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  <a:ea typeface="Arial"/>
                </a:rPr>
                <a:t>у випадках ускладненого перебігу вагітност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AutoShape 16"/>
            <p:cNvSpPr/>
            <p:nvPr/>
          </p:nvSpPr>
          <p:spPr>
            <a:xfrm>
              <a:off x="1643040" y="3429000"/>
              <a:ext cx="1285560" cy="695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Діагностичний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блок</a:t>
              </a:r>
              <a:r>
                <a:rPr b="0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AutoShape 18"/>
            <p:cNvSpPr/>
            <p:nvPr/>
          </p:nvSpPr>
          <p:spPr>
            <a:xfrm>
              <a:off x="5357880" y="4286520"/>
              <a:ext cx="3500280" cy="17794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c00000"/>
                  </a:solidFill>
                  <a:latin typeface="Verdana"/>
                </a:rPr>
                <a:t>Забезпечення неонатальної допомог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Виходжування недоношених діт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 їх реабілітаці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Забезпечення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 </a:t>
              </a: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анестезіологічної,</a:t>
              </a:r>
              <a:r>
                <a:rPr b="1" lang="ru-RU" sz="12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хірургічної допомоги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овонародженим , у т.ч.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200" spc="-1" strike="noStrike">
                  <a:solidFill>
                    <a:srgbClr val="002060"/>
                  </a:solidFill>
                  <a:latin typeface="Verdana"/>
                </a:rPr>
                <a:t>нейрохірургічної, кардіохірургічної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26" name="AutoShape 70"/>
            <p:cNvCxnSpPr>
              <a:endCxn id="418" idx="1"/>
            </p:cNvCxnSpPr>
            <p:nvPr/>
          </p:nvCxnSpPr>
          <p:spPr>
            <a:xfrm flipH="1" flipV="1" rot="5400000">
              <a:off x="-269280" y="2660400"/>
              <a:ext cx="1322280" cy="214920"/>
            </a:xfrm>
            <a:prstGeom prst="bentConnector2">
              <a:avLst/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7" name="AutoShape 71"/>
            <p:cNvCxnSpPr/>
            <p:nvPr/>
          </p:nvCxnSpPr>
          <p:spPr>
            <a:xfrm>
              <a:off x="500040" y="4143240"/>
              <a:ext cx="429120" cy="286200"/>
            </a:xfrm>
            <a:prstGeom prst="bentConnector3">
              <a:avLst>
                <a:gd name="adj1" fmla="val 49958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8" name="AutoShape 72"/>
            <p:cNvCxnSpPr/>
            <p:nvPr/>
          </p:nvCxnSpPr>
          <p:spPr>
            <a:xfrm rot="5400000">
              <a:off x="1034640" y="2393280"/>
              <a:ext cx="357840" cy="28620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29" name="AutoShape 74"/>
            <p:cNvCxnSpPr>
              <a:stCxn id="418" idx="3"/>
              <a:endCxn id="419" idx="1"/>
            </p:cNvCxnSpPr>
            <p:nvPr/>
          </p:nvCxnSpPr>
          <p:spPr>
            <a:xfrm flipV="1">
              <a:off x="2785680" y="2061360"/>
              <a:ext cx="643320" cy="457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0" name="AutoShape 76"/>
            <p:cNvCxnSpPr/>
            <p:nvPr/>
          </p:nvCxnSpPr>
          <p:spPr>
            <a:xfrm>
              <a:off x="2856960" y="3929040"/>
              <a:ext cx="572040" cy="500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cxnSp>
          <p:nvCxnSpPr>
            <p:cNvPr id="431" name="AutoShape 77"/>
            <p:cNvCxnSpPr>
              <a:stCxn id="424" idx="3"/>
            </p:cNvCxnSpPr>
            <p:nvPr/>
          </p:nvCxnSpPr>
          <p:spPr>
            <a:xfrm flipV="1">
              <a:off x="2928600" y="3428640"/>
              <a:ext cx="500760" cy="34776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2" name="Стрелка вправо 26"/>
            <p:cNvSpPr/>
            <p:nvPr/>
          </p:nvSpPr>
          <p:spPr>
            <a:xfrm flipH="1">
              <a:off x="4929120" y="278604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AutoShape 11"/>
            <p:cNvSpPr/>
            <p:nvPr/>
          </p:nvSpPr>
          <p:spPr>
            <a:xfrm>
              <a:off x="3357360" y="5215320"/>
              <a:ext cx="1857240" cy="83808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еонатальний блок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з операційними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на 60 ліжок, в т.ч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00000"/>
                  </a:solidFill>
                  <a:latin typeface="Verdana"/>
                </a:rPr>
                <a:t>12 ліжок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 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реанімаційних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3" name="AutoShape 75"/>
            <p:cNvCxnSpPr/>
            <p:nvPr/>
          </p:nvCxnSpPr>
          <p:spPr>
            <a:xfrm flipV="1">
              <a:off x="2785680" y="2285280"/>
              <a:ext cx="643320" cy="57204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4" name="AutoShape 5"/>
            <p:cNvSpPr/>
            <p:nvPr/>
          </p:nvSpPr>
          <p:spPr>
            <a:xfrm>
              <a:off x="500040" y="2714760"/>
              <a:ext cx="1116000" cy="509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жіноча 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консультація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AutoShape 5"/>
            <p:cNvSpPr/>
            <p:nvPr/>
          </p:nvSpPr>
          <p:spPr>
            <a:xfrm>
              <a:off x="1785960" y="2714760"/>
              <a:ext cx="1330200" cy="42840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центр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планування сім</a:t>
              </a:r>
              <a:r>
                <a:rPr b="1" lang="en-US" sz="1000" spc="-1" strike="noStrike">
                  <a:solidFill>
                    <a:srgbClr val="002060"/>
                  </a:solidFill>
                  <a:latin typeface="Verdana"/>
                </a:rPr>
                <a:t>’</a:t>
              </a:r>
              <a:r>
                <a:rPr b="1" lang="uk-UA" sz="1000" spc="-1" strike="noStrike">
                  <a:solidFill>
                    <a:srgbClr val="002060"/>
                  </a:solidFill>
                  <a:latin typeface="Verdana"/>
                </a:rPr>
                <a:t>ї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cxnSp>
          <p:nvCxnSpPr>
            <p:cNvPr id="436" name="AutoShape 72"/>
            <p:cNvCxnSpPr/>
            <p:nvPr/>
          </p:nvCxnSpPr>
          <p:spPr>
            <a:xfrm flipH="1" rot="16200000">
              <a:off x="2000160" y="2357280"/>
              <a:ext cx="357840" cy="357840"/>
            </a:xfrm>
            <a:prstGeom prst="bentConnector3">
              <a:avLst>
                <a:gd name="adj1" fmla="val 49949"/>
              </a:avLst>
            </a:prstGeom>
            <a:ln w="38160">
              <a:solidFill>
                <a:srgbClr val="00b0f0"/>
              </a:solidFill>
              <a:miter/>
              <a:tailEnd len="med" type="triangle" w="med"/>
            </a:ln>
          </p:spPr>
        </p:cxnSp>
        <p:sp>
          <p:nvSpPr>
            <p:cNvPr id="437" name="Стрелка вправо 25"/>
            <p:cNvSpPr/>
            <p:nvPr/>
          </p:nvSpPr>
          <p:spPr>
            <a:xfrm flipH="1">
              <a:off x="5000760" y="4715280"/>
              <a:ext cx="536400" cy="8650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b0f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8" name="AutoShape 15"/>
          <p:cNvSpPr/>
          <p:nvPr/>
        </p:nvSpPr>
        <p:spPr>
          <a:xfrm>
            <a:off x="928800" y="4286160"/>
            <a:ext cx="2143080" cy="22147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214720"/>
              <a:gd name="textAreaBottom" fmla="*/ 2215080 h 2214720"/>
            </a:gdLst>
            <a:ahLst/>
            <a:rect l="textAreaLeft" t="textAreaTop" r="textAreaRight" b="textAreaBottom"/>
            <a:pathLst>
              <a:path w="21600" h="22322">
                <a:moveTo>
                  <a:pt x="0" y="0"/>
                </a:moveTo>
                <a:arcTo wR="0" hR="0" stAng="16200000" swAng="-5400000"/>
                <a:lnTo>
                  <a:pt x="0" y="22322"/>
                </a:lnTo>
                <a:arcTo wR="0" hR="0" stAng="10800000" swAng="-5400000"/>
                <a:lnTo>
                  <a:pt x="21600" y="2232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Інформаційно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аналітичний блок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з тренінговими центрами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1.Планування сім*ї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2.Єфективний перина-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тальний догляд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3.Грудне вигодовуванн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4.Первинна реанімація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5. Догляд за здоровою 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c00000"/>
                </a:solidFill>
                <a:latin typeface="Verdana"/>
              </a:rPr>
              <a:t>дитиною до 3-х років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285840" y="1357200"/>
            <a:ext cx="5429160" cy="3492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r>
              <a:rPr b="1" lang="uk-UA" sz="1000" spc="-1" strike="noStrike">
                <a:solidFill>
                  <a:srgbClr val="002060"/>
                </a:solidFill>
                <a:latin typeface="Verdana"/>
              </a:rPr>
              <a:t>Кафедра акушерства, гінекології  та перинатології ДДМА</a:t>
            </a: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444600"/>
                <a:tab algn="l" pos="888840"/>
                <a:tab algn="l" pos="1333440"/>
                <a:tab algn="l" pos="1778040"/>
                <a:tab algn="l" pos="2222640"/>
                <a:tab algn="l" pos="2666880"/>
                <a:tab algn="l" pos="3111480"/>
                <a:tab algn="l" pos="3556080"/>
                <a:tab algn="l" pos="4000680"/>
                <a:tab algn="l" pos="4444920"/>
                <a:tab algn="l" pos="4889520"/>
                <a:tab algn="l" pos="5334120"/>
                <a:tab algn="l" pos="5778360"/>
                <a:tab algn="l" pos="6222960"/>
                <a:tab algn="l" pos="6667560"/>
                <a:tab algn="l" pos="7112160"/>
                <a:tab algn="l" pos="7556400"/>
                <a:tab algn="l" pos="8001000"/>
                <a:tab algn="l" pos="8445600"/>
                <a:tab algn="l" pos="8889840"/>
              </a:tabLst>
            </a:pPr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Прямоугольник 31"/>
          <p:cNvSpPr/>
          <p:nvPr/>
        </p:nvSpPr>
        <p:spPr>
          <a:xfrm>
            <a:off x="285840" y="500040"/>
            <a:ext cx="88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Юридична підстава </a:t>
            </a:r>
            <a:r>
              <a:rPr b="1" lang="uk-UA" sz="1400" spc="-1" strike="noStrike">
                <a:solidFill>
                  <a:srgbClr val="c00000"/>
                </a:solidFill>
                <a:latin typeface="Verdana"/>
              </a:rPr>
              <a:t>- наказ МОЗ України № 620 від 29.12.2003 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Содержимое 7" descr="cam0180018.jpg"/>
          <p:cNvPicPr/>
          <p:nvPr/>
        </p:nvPicPr>
        <p:blipFill>
          <a:blip r:embed="rId1"/>
          <a:stretch/>
        </p:blipFill>
        <p:spPr>
          <a:xfrm>
            <a:off x="2286000" y="1714680"/>
            <a:ext cx="6524640" cy="480996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2000" spc="-1" strike="noStrike">
                <a:solidFill>
                  <a:srgbClr val="04617b"/>
                </a:solidFill>
                <a:latin typeface="Verdana"/>
              </a:rPr>
              <a:t>Реалізація Національного проекту “Нове життя</a:t>
            </a:r>
            <a:r>
              <a:rPr b="0" lang="uk-UA" sz="2000" spc="-1" strike="noStrike">
                <a:solidFill>
                  <a:srgbClr val="04617b"/>
                </a:solidFill>
                <a:latin typeface="Verdana"/>
              </a:rPr>
              <a:t>”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43" name="Содержимое 5" descr="cam0140014.jpg"/>
          <p:cNvPicPr/>
          <p:nvPr/>
        </p:nvPicPr>
        <p:blipFill>
          <a:blip r:embed="rId2"/>
          <a:stretch/>
        </p:blipFill>
        <p:spPr>
          <a:xfrm>
            <a:off x="285840" y="857160"/>
            <a:ext cx="5643360" cy="2786040"/>
          </a:xfrm>
          <a:prstGeom prst="rect">
            <a:avLst/>
          </a:prstGeom>
          <a:ln w="0">
            <a:noFill/>
          </a:ln>
        </p:spPr>
      </p:pic>
      <p:grpSp>
        <p:nvGrpSpPr>
          <p:cNvPr id="444" name="Выноска со стрелкой вниз 8"/>
          <p:cNvGrpSpPr/>
          <p:nvPr/>
        </p:nvGrpSpPr>
        <p:grpSpPr>
          <a:xfrm>
            <a:off x="6016680" y="1231920"/>
            <a:ext cx="2968560" cy="2382840"/>
            <a:chOff x="6016680" y="1231920"/>
            <a:chExt cx="2968560" cy="2382840"/>
          </a:xfrm>
        </p:grpSpPr>
        <p:pic>
          <p:nvPicPr>
            <p:cNvPr id="445" name="Выноска со стрелкой вниз 8" descr=""/>
            <p:cNvPicPr/>
            <p:nvPr/>
          </p:nvPicPr>
          <p:blipFill>
            <a:blip r:embed="rId3"/>
            <a:stretch/>
          </p:blipFill>
          <p:spPr>
            <a:xfrm>
              <a:off x="6016680" y="1231920"/>
              <a:ext cx="29685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6143760" y="1357200"/>
              <a:ext cx="27144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Verdana"/>
                </a:rPr>
                <a:t>І черга – реконструкція пологов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47" name="Выноска со стрелкой вправо 14"/>
          <p:cNvGrpSpPr/>
          <p:nvPr/>
        </p:nvGrpSpPr>
        <p:grpSpPr>
          <a:xfrm>
            <a:off x="49320" y="4121280"/>
            <a:ext cx="3327120" cy="2187360"/>
            <a:chOff x="49320" y="4121280"/>
            <a:chExt cx="3327120" cy="2187360"/>
          </a:xfrm>
        </p:grpSpPr>
        <p:pic>
          <p:nvPicPr>
            <p:cNvPr id="448" name="Выноска со стрелкой вправо 14" descr=""/>
            <p:cNvPicPr/>
            <p:nvPr/>
          </p:nvPicPr>
          <p:blipFill>
            <a:blip r:embed="rId4"/>
            <a:stretch/>
          </p:blipFill>
          <p:spPr>
            <a:xfrm>
              <a:off x="49320" y="4121280"/>
              <a:ext cx="332712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214200" y="4286160"/>
              <a:ext cx="256716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66"/>
                  </a:solidFill>
                  <a:latin typeface="Arial"/>
                </a:rPr>
                <a:t>ІІ черга – реконструкція неонатального блоку</a:t>
              </a: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cxnSp>
        <p:nvCxnSpPr>
          <p:cNvPr id="450" name="Соединительная линия уступом 16"/>
          <p:cNvCxnSpPr/>
          <p:nvPr/>
        </p:nvCxnSpPr>
        <p:spPr>
          <a:xfrm>
            <a:off x="4357800" y="3642840"/>
            <a:ext cx="2916720" cy="2864520"/>
          </a:xfrm>
          <a:prstGeom prst="bentConnector3">
            <a:avLst>
              <a:gd name="adj1" fmla="val 49993"/>
            </a:avLst>
          </a:prstGeom>
          <a:ln w="54000">
            <a:solidFill>
              <a:srgbClr val="000099"/>
            </a:solidFill>
            <a:prstDash val="sysDash"/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-6480" y="23760"/>
            <a:ext cx="9156960" cy="482760"/>
          </a:xfrm>
          <a:prstGeom prst="rect">
            <a:avLst/>
          </a:prstGeom>
          <a:ln w="0">
            <a:noFill/>
          </a:ln>
        </p:spPr>
      </p:pic>
      <p:sp>
        <p:nvSpPr>
          <p:cNvPr id="452" name="Овал 60"/>
          <p:cNvSpPr/>
          <p:nvPr/>
        </p:nvSpPr>
        <p:spPr>
          <a:xfrm>
            <a:off x="785880" y="1643040"/>
            <a:ext cx="8143920" cy="4572000"/>
          </a:xfrm>
          <a:prstGeom prst="ellipse">
            <a:avLst/>
          </a:prstGeom>
          <a:solidFill>
            <a:srgbClr val="20c9f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Прямоугольник 59"/>
          <p:cNvSpPr/>
          <p:nvPr/>
        </p:nvSpPr>
        <p:spPr>
          <a:xfrm>
            <a:off x="928800" y="3000240"/>
            <a:ext cx="3071880" cy="150048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Прямоугольник 53"/>
          <p:cNvSpPr/>
          <p:nvPr/>
        </p:nvSpPr>
        <p:spPr>
          <a:xfrm>
            <a:off x="428760" y="857160"/>
            <a:ext cx="1714320" cy="43200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Прямоугольник 24"/>
          <p:cNvSpPr/>
          <p:nvPr/>
        </p:nvSpPr>
        <p:spPr>
          <a:xfrm>
            <a:off x="214200" y="1500120"/>
            <a:ext cx="1643040" cy="48744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Харчоблок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Прямоугольник 56"/>
          <p:cNvSpPr/>
          <p:nvPr/>
        </p:nvSpPr>
        <p:spPr>
          <a:xfrm>
            <a:off x="4429080" y="1500120"/>
            <a:ext cx="2094120" cy="50004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Пральня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1071720" y="3214800"/>
            <a:ext cx="2786040" cy="1071360"/>
          </a:xfrm>
          <a:prstGeom prst="rect">
            <a:avLst/>
          </a:prstGeom>
          <a:solidFill>
            <a:srgbClr val="c8e3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Неонатальний блок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60 ліжок для новонароджених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Verdana"/>
              </a:rPr>
              <a:t>12  ліжок ІТ та реанімації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Прямоугольник 23"/>
          <p:cNvSpPr/>
          <p:nvPr/>
        </p:nvSpPr>
        <p:spPr>
          <a:xfrm>
            <a:off x="7091280" y="1500120"/>
            <a:ext cx="1909800" cy="56052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Б – гінекологі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Прямоугольник 52"/>
          <p:cNvSpPr/>
          <p:nvPr/>
        </p:nvSpPr>
        <p:spPr>
          <a:xfrm>
            <a:off x="4745160" y="785880"/>
            <a:ext cx="4255920" cy="5698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Міський пологовий будинок № 2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0" name="Прямоугольник 20"/>
          <p:cNvSpPr/>
          <p:nvPr/>
        </p:nvSpPr>
        <p:spPr>
          <a:xfrm>
            <a:off x="7572240" y="2781360"/>
            <a:ext cx="1500480" cy="60948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Жіноча консультаці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Прямоугольник 34"/>
          <p:cNvSpPr/>
          <p:nvPr/>
        </p:nvSpPr>
        <p:spPr>
          <a:xfrm>
            <a:off x="7643880" y="3714840"/>
            <a:ext cx="1357200" cy="793800"/>
          </a:xfrm>
          <a:prstGeom prst="rect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ентр  планування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сім</a:t>
            </a:r>
            <a:r>
              <a:rPr b="1" lang="en-US" sz="1200" spc="-1" strike="noStrike">
                <a:solidFill>
                  <a:srgbClr val="000066"/>
                </a:solidFill>
                <a:latin typeface="Verdana"/>
              </a:rPr>
              <a:t>’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ї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62" name="Прямая со стрелкой 39"/>
          <p:cNvCxnSpPr/>
          <p:nvPr/>
        </p:nvCxnSpPr>
        <p:spPr>
          <a:xfrm flipH="1">
            <a:off x="4941000" y="2346120"/>
            <a:ext cx="2520" cy="1544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63" name="Прямоугольник 55"/>
          <p:cNvSpPr/>
          <p:nvPr/>
        </p:nvSpPr>
        <p:spPr>
          <a:xfrm>
            <a:off x="4000680" y="2143080"/>
            <a:ext cx="3429000" cy="335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4363920" y="3714840"/>
            <a:ext cx="1386000" cy="17859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Операційно-реанімаці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ліжок  ІТ для новонародж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7  ліжок ІТ для жінок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5" name="Прямоугольник 25"/>
          <p:cNvSpPr/>
          <p:nvPr/>
        </p:nvSpPr>
        <p:spPr>
          <a:xfrm>
            <a:off x="5643720" y="2357280"/>
            <a:ext cx="1500120" cy="6256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Лабораторно-діагностичн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Прямоугольник 26"/>
          <p:cNvSpPr/>
          <p:nvPr/>
        </p:nvSpPr>
        <p:spPr>
          <a:xfrm>
            <a:off x="4456080" y="3141720"/>
            <a:ext cx="2716200" cy="46836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Блок А – пологовий бл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7" name="Прямоугольник 27"/>
          <p:cNvSpPr/>
          <p:nvPr/>
        </p:nvSpPr>
        <p:spPr>
          <a:xfrm>
            <a:off x="5857920" y="3714840"/>
            <a:ext cx="1357200" cy="78084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Пологове відділення -  51 ліжк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Прямоугольник 28"/>
          <p:cNvSpPr/>
          <p:nvPr/>
        </p:nvSpPr>
        <p:spPr>
          <a:xfrm>
            <a:off x="5813280" y="4643280"/>
            <a:ext cx="1489320" cy="78588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Відділення патології вагітних  - 30 ліжок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9" name="Прямоугольник 32"/>
          <p:cNvSpPr/>
          <p:nvPr/>
        </p:nvSpPr>
        <p:spPr>
          <a:xfrm>
            <a:off x="4643280" y="2571840"/>
            <a:ext cx="860760" cy="382320"/>
          </a:xfrm>
          <a:prstGeom prst="rect">
            <a:avLst/>
          </a:prstGeom>
          <a:solidFill>
            <a:srgbClr val="99ff9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66"/>
                </a:solidFill>
                <a:latin typeface="Verdana"/>
              </a:rPr>
              <a:t>ЦСО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Выноска 1 64"/>
          <p:cNvSpPr/>
          <p:nvPr/>
        </p:nvSpPr>
        <p:spPr>
          <a:xfrm>
            <a:off x="214200" y="5429160"/>
            <a:ext cx="1643040" cy="428760"/>
          </a:xfrm>
          <a:prstGeom prst="borderCallout1">
            <a:avLst>
              <a:gd name="adj1" fmla="val 18750"/>
              <a:gd name="adj2" fmla="val -8333"/>
              <a:gd name="adj3" fmla="val -255555"/>
              <a:gd name="adj4" fmla="val 6903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Выноска 1 65"/>
          <p:cNvSpPr/>
          <p:nvPr/>
        </p:nvSpPr>
        <p:spPr>
          <a:xfrm>
            <a:off x="7286760" y="6000840"/>
            <a:ext cx="1342800" cy="500040"/>
          </a:xfrm>
          <a:prstGeom prst="borderCallout1">
            <a:avLst>
              <a:gd name="adj1" fmla="val 18750"/>
              <a:gd name="adj2" fmla="val -8333"/>
              <a:gd name="adj3" fmla="val -113518"/>
              <a:gd name="adj4" fmla="val -4309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І черг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2" name="Стрелка вправо 22"/>
          <p:cNvSpPr/>
          <p:nvPr/>
        </p:nvSpPr>
        <p:spPr>
          <a:xfrm>
            <a:off x="214200" y="2786040"/>
            <a:ext cx="1214640" cy="2000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f6fc6">
              <a:alpha val="75000"/>
            </a:srgbClr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Verdana"/>
              </a:rPr>
              <a:t>МДП №1 МКЛ №5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cxnSp>
        <p:nvCxnSpPr>
          <p:cNvPr id="473" name="Прямая со стрелкой 30"/>
          <p:cNvCxnSpPr>
            <a:stCxn id="454" idx="3"/>
          </p:cNvCxnSpPr>
          <p:nvPr/>
        </p:nvCxnSpPr>
        <p:spPr>
          <a:xfrm>
            <a:off x="2143080" y="1072800"/>
            <a:ext cx="2215440" cy="4993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474" name="Прямая со стрелкой 37"/>
          <p:cNvCxnSpPr>
            <a:stCxn id="459" idx="1"/>
            <a:endCxn id="455" idx="3"/>
          </p:cNvCxnSpPr>
          <p:nvPr/>
        </p:nvCxnSpPr>
        <p:spPr>
          <a:xfrm flipH="1">
            <a:off x="1856880" y="1070640"/>
            <a:ext cx="2888640" cy="67212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85480" y="856800"/>
            <a:ext cx="82868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а рішенням сесії обласн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30.12.10 № 51-4/VІ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приміщення поліклініки та міського пологового будинку передано на баланс області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Рішенням сесії Дніпропетровської міської ради </a:t>
            </a:r>
            <a:r>
              <a:rPr b="1" lang="uk-UA" sz="1600" spc="-1" strike="noStrike">
                <a:solidFill>
                  <a:srgbClr val="ff0000"/>
                </a:solidFill>
                <a:latin typeface="Verdana"/>
              </a:rPr>
              <a:t>від 10.08.2011 № 1096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наданий дозвіл на проектування та проведення реконструкції споруд, передбачених під організацію перинатального центр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Укрінвестекспертизу передані робочий проект реконструкції неонатального блоку та ескізний проект пологового блоку – отримання висновків очікується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05.09.2011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Для підготовки ПКД по 2-м блокам з обласного бюджету виділено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6,7 млн грн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В рамках виконання Постанови КМУ від 28.03.2011 №371 – заплановано оснастити перинатальний центр медичним обладнанням на суму</a:t>
            </a:r>
            <a:br>
              <a:rPr sz="1600"/>
            </a:b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2 млн грн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17.08.2011 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– відбулися торги на визначення будівельної організації для проведення реконструкції двох блоків перинатального центр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З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.09.2011</a:t>
            </a:r>
            <a:r>
              <a:rPr b="0" lang="uk-UA" sz="1600" spc="-1" strike="noStrike">
                <a:solidFill>
                  <a:srgbClr val="000000"/>
                </a:solidFill>
                <a:latin typeface="Verdana"/>
              </a:rPr>
              <a:t> року можливо розпочати демонтажні роботи за умови виділення коштів з Державного бюджету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9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0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1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400"/>
              </a:spcBef>
              <a:spcAft>
                <a:spcPts val="700"/>
              </a:spcAft>
              <a:buSzPct val="100000"/>
              <a:buBlip>
                <a:blip r:embed="rId12"/>
              </a:buBlip>
              <a:tabLst>
                <a:tab algn="l" pos="488880"/>
                <a:tab algn="l" pos="977760"/>
                <a:tab algn="l" pos="1467000"/>
                <a:tab algn="l" pos="1955880"/>
                <a:tab algn="l" pos="2444760"/>
                <a:tab algn="l" pos="2933640"/>
                <a:tab algn="l" pos="3422520"/>
                <a:tab algn="l" pos="3911760"/>
                <a:tab algn="l" pos="4400640"/>
                <a:tab algn="l" pos="4889520"/>
                <a:tab algn="l" pos="5378400"/>
                <a:tab algn="l" pos="5867280"/>
                <a:tab algn="l" pos="6356520"/>
                <a:tab algn="l" pos="6845400"/>
                <a:tab algn="l" pos="7334280"/>
                <a:tab algn="l" pos="7823160"/>
                <a:tab algn="l" pos="8312040"/>
                <a:tab algn="l" pos="8801280"/>
                <a:tab algn="l" pos="9290160"/>
                <a:tab algn="l" pos="977904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TextBox 6"/>
          <p:cNvSpPr/>
          <p:nvPr/>
        </p:nvSpPr>
        <p:spPr>
          <a:xfrm>
            <a:off x="642960" y="1429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296"/>
                </a:solidFill>
                <a:latin typeface="Century Gothic"/>
              </a:rPr>
              <a:t>Реалізація Національного проекту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83763"/>
                </a:solidFill>
                <a:latin typeface="Verdana"/>
              </a:rPr>
              <a:t>Очікувані результати реалізації Концепції удосконалення перинатальної допомоги в області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Планується зниженн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теринськ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10 на 100000 народжених живими (2010 рік – 22,4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штучних абортів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до  14 на 1000 жінок фертильного віку ( 2010 рік – 15,9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з ВВР до 0,35 на 1000 народжених живими (2010 рік – 0,57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- смертності дітей від розладів дихальної системи – доношених до 1,5 на 1000 народжених живими (2010 рік – 1,8), недоношених до 20 на 1000 народжених живими (2010 – 29,41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малюкової смертності 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в області до 8,7 на 1000 народжених живими (2010 рік – 9,7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Verdana"/>
              </a:rPr>
              <a:t>Збільшення</a:t>
            </a:r>
            <a:r>
              <a:rPr b="0" lang="uk-UA" sz="1800" spc="-1" strike="noStrike">
                <a:solidFill>
                  <a:srgbClr val="000000"/>
                </a:solidFill>
                <a:latin typeface="Verdana"/>
              </a:rPr>
              <a:t> відсотку запланованих та підготовлених вагітностей  у жінок з екстрагенітальною патологією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4"/>
          <p:cNvSpPr/>
          <p:nvPr/>
        </p:nvSpPr>
        <p:spPr>
          <a:xfrm>
            <a:off x="428760" y="627120"/>
            <a:ext cx="835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</a:rPr>
              <a:t>План-графік реалізації Національного проекту “Нове життя”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571680" y="1143000"/>
          <a:ext cx="8143560" cy="652320"/>
        </p:xfrm>
        <a:graphic>
          <a:graphicData uri="http://schemas.openxmlformats.org/drawingml/2006/table">
            <a:tbl>
              <a:tblPr/>
              <a:tblGrid>
                <a:gridCol w="5143320"/>
                <a:gridCol w="1587600"/>
                <a:gridCol w="1412640"/>
              </a:tblGrid>
              <a:tr h="24912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ахо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grid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Термін викон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400" marR="5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d9e8"/>
                    </a:solidFill>
                  </a:tcPr>
                </a:tc>
              </a:tr>
            </a:tbl>
          </a:graphicData>
        </a:graphic>
      </p:graphicFrame>
      <p:pic>
        <p:nvPicPr>
          <p:cNvPr id="479" name="Таблица 6" descr=""/>
          <p:cNvPicPr/>
          <p:nvPr/>
        </p:nvPicPr>
        <p:blipFill>
          <a:blip r:embed="rId1"/>
          <a:stretch/>
        </p:blipFill>
        <p:spPr>
          <a:xfrm>
            <a:off x="500040" y="1749600"/>
            <a:ext cx="829008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"/>
          <p:cNvGraphicFramePr/>
          <p:nvPr/>
        </p:nvGraphicFramePr>
        <p:xfrm>
          <a:off x="500040" y="714240"/>
          <a:ext cx="8215200" cy="5631120"/>
        </p:xfrm>
        <a:graphic>
          <a:graphicData uri="http://schemas.openxmlformats.org/drawingml/2006/table">
            <a:tbl>
              <a:tblPr/>
              <a:tblGrid>
                <a:gridCol w="447840"/>
                <a:gridCol w="2286000"/>
                <a:gridCol w="60480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5076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Вид работ, черте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8.08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09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7.1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6.11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онання проектно-кошторисної документації (стадія П-100%, стадія Р-100%) - І черг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Архитектур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структивні ріш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Опалення та вентиля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Водозабезпечення та ка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Кондиціонува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Електрозабезпеч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Чисті приміщенн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Технолог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аздел "Лікувальні газ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"Слаботочні мереж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Пожежна сігналізація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Розділ "Блискозахист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роект организации строитель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 gridSpan="11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ільної документації - І черг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6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експертного висновку від ДержБудЕкспертиз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права власності на зем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Підписання договору з підрядною організаціє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0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Отримання дозволу від ДАБ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1" name="Прямоугольник 2"/>
          <p:cNvSpPr/>
          <p:nvPr/>
        </p:nvSpPr>
        <p:spPr>
          <a:xfrm>
            <a:off x="714240" y="28584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2" name=""/>
          <p:cNvGraphicFramePr/>
          <p:nvPr/>
        </p:nvGraphicFramePr>
        <p:xfrm>
          <a:off x="285840" y="1285920"/>
          <a:ext cx="8572320" cy="4221000"/>
        </p:xfrm>
        <a:graphic>
          <a:graphicData uri="http://schemas.openxmlformats.org/drawingml/2006/table">
            <a:tbl>
              <a:tblPr/>
              <a:tblGrid>
                <a:gridCol w="268200"/>
                <a:gridCol w="1754280"/>
                <a:gridCol w="465120"/>
                <a:gridCol w="468360"/>
                <a:gridCol w="468360"/>
                <a:gridCol w="466560"/>
                <a:gridCol w="468360"/>
                <a:gridCol w="468360"/>
                <a:gridCol w="468360"/>
                <a:gridCol w="468000"/>
                <a:gridCol w="468360"/>
                <a:gridCol w="468360"/>
                <a:gridCol w="466920"/>
                <a:gridCol w="468360"/>
                <a:gridCol w="468000"/>
                <a:gridCol w="468360"/>
              </a:tblGrid>
              <a:tr h="370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д работ, черте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4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иконання будівельно-монтажних робі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І чер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8.08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7.1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1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2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6.12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ереключення внутрішніх інженерних мереж блоку, який реконструюєть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монтажні роботи полів та перегород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Фундаменти и ростверк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лестничн-ліфтового бло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аркасу покрівл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иконанню конструкції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боти по влаштуванню технічного поверх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Прямоугольник 2"/>
          <p:cNvSpPr/>
          <p:nvPr/>
        </p:nvSpPr>
        <p:spPr>
          <a:xfrm>
            <a:off x="714240" y="57168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357120" y="642960"/>
          <a:ext cx="8572680" cy="346536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18792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Найменування зах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трок вико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рієнтовні джерела та обсяги фінансування, 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планована площа регіонального перинатального центр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початк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ата завершен-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ержавн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Місцевий бюдж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убвенція з обласного бюджет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Інші додаткові джерела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Загальний обсяг фінансуван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КЗ ДОДКЛ по вул.Космічна 13 в м.Дніпропетровськ під перинатально-акушерське відділення, клінічну лабораторією, ЦСВ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   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43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9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.05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03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4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26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52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.05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6.04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935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364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4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5" name=""/>
          <p:cNvGraphicFramePr/>
          <p:nvPr/>
        </p:nvGraphicFramePr>
        <p:xfrm>
          <a:off x="357120" y="4143240"/>
          <a:ext cx="8572680" cy="2433600"/>
        </p:xfrm>
        <a:graphic>
          <a:graphicData uri="http://schemas.openxmlformats.org/drawingml/2006/table">
            <a:tbl>
              <a:tblPr/>
              <a:tblGrid>
                <a:gridCol w="268200"/>
                <a:gridCol w="1660680"/>
                <a:gridCol w="785880"/>
                <a:gridCol w="714240"/>
                <a:gridCol w="714600"/>
                <a:gridCol w="785520"/>
                <a:gridCol w="714600"/>
                <a:gridCol w="785880"/>
                <a:gridCol w="1000080"/>
                <a:gridCol w="1143000"/>
              </a:tblGrid>
              <a:tr h="39816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 поліклініки (блок №5) під неонатальне відділення на 60 ліжок</a:t>
                      </a:r>
                      <a:br>
                        <a:rPr sz="1200"/>
                      </a:b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(ІІ черга) КЗ ДОДКЛ по вул.Космічна 13 в м.Дніпропетровсь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конструкція будівлі, в т.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781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80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2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озробка проектно-кошторисної документаці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01.12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5.07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Ремонтно будівельні робо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6.09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75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0500,0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80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Введення в експлуатаці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0.1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ридбання обладнан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5.10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064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66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1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43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b" marL="5040" marR="50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6" name="TextBox 6"/>
          <p:cNvSpPr/>
          <p:nvPr/>
        </p:nvSpPr>
        <p:spPr>
          <a:xfrm>
            <a:off x="642960" y="142920"/>
            <a:ext cx="814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296"/>
                </a:solidFill>
                <a:latin typeface="Century Gothic"/>
              </a:rPr>
              <a:t>План заходів щодо створення обласного перинатального центру з визначенням потреби в бюджетних кошта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2946240" y="1049400"/>
          <a:ext cx="2500560" cy="365040"/>
        </p:xfrm>
        <a:graphic>
          <a:graphicData uri="http://schemas.openxmlformats.org/drawingml/2006/table">
            <a:tbl>
              <a:tblPr/>
              <a:tblGrid>
                <a:gridCol w="2500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285840" y="1071720"/>
          <a:ext cx="2232000" cy="35712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6089760" y="1049400"/>
          <a:ext cx="2571480" cy="36504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72" name="Группа 12"/>
          <p:cNvGrpSpPr/>
          <p:nvPr/>
        </p:nvGrpSpPr>
        <p:grpSpPr>
          <a:xfrm>
            <a:off x="285840" y="1973160"/>
            <a:ext cx="8429400" cy="1168920"/>
            <a:chOff x="285840" y="1973160"/>
            <a:chExt cx="8429400" cy="1168920"/>
          </a:xfrm>
        </p:grpSpPr>
        <p:sp>
          <p:nvSpPr>
            <p:cNvPr id="273" name="Text Box 115"/>
            <p:cNvSpPr/>
            <p:nvPr/>
          </p:nvSpPr>
          <p:spPr>
            <a:xfrm>
              <a:off x="2857320" y="1973160"/>
              <a:ext cx="2643120" cy="11689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Жіночі консультації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Дитячі поліклінічні заклад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266760" indent="-26676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Амбулаторії ЗПСМ, ФАПи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AutoShape 134"/>
            <p:cNvSpPr/>
            <p:nvPr/>
          </p:nvSpPr>
          <p:spPr>
            <a:xfrm>
              <a:off x="285840" y="2115720"/>
              <a:ext cx="2500200" cy="928440"/>
            </a:xfrm>
            <a:custGeom>
              <a:avLst/>
              <a:gdLst>
                <a:gd name="textAreaLeft" fmla="*/ 0 w 2500200"/>
                <a:gd name="textAreaRight" fmla="*/ 2500560 w 250020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141" y="0"/>
                  </a:lnTo>
                  <a:lnTo>
                    <a:pt x="21600" y="10800"/>
                  </a:lnTo>
                  <a:lnTo>
                    <a:pt x="2014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22392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00"/>
                  </a:solidFill>
                  <a:latin typeface="Century Gothic"/>
                </a:rPr>
                <a:t>Удосконалення перинатальної допомоги на первинному рівні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Text Box 115"/>
            <p:cNvSpPr/>
            <p:nvPr/>
          </p:nvSpPr>
          <p:spPr>
            <a:xfrm>
              <a:off x="5929200" y="2071440"/>
              <a:ext cx="2786040" cy="94644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440"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Verdana"/>
                </a:rPr>
                <a:t>Центри первинної медичної допомоги (лікар-акушер-гінеколог, лікар педіатр)</a:t>
              </a:r>
              <a:endParaRPr b="0" lang="en-US" sz="1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pic>
          <p:nvPicPr>
            <p:cNvPr id="276" name="Picture 10" descr="http://www.zerkalov.org.ua/files/16s.gif"/>
            <p:cNvPicPr/>
            <p:nvPr/>
          </p:nvPicPr>
          <p:blipFill>
            <a:blip r:embed="rId1"/>
            <a:stretch/>
          </p:blipFill>
          <p:spPr>
            <a:xfrm>
              <a:off x="5572080" y="2142720"/>
              <a:ext cx="5713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7" name="Группа 16"/>
          <p:cNvGrpSpPr/>
          <p:nvPr/>
        </p:nvGrpSpPr>
        <p:grpSpPr>
          <a:xfrm>
            <a:off x="214200" y="3714840"/>
            <a:ext cx="8715600" cy="2214360"/>
            <a:chOff x="214200" y="3714840"/>
            <a:chExt cx="8715600" cy="2214360"/>
          </a:xfrm>
        </p:grpSpPr>
        <p:sp>
          <p:nvSpPr>
            <p:cNvPr id="278" name="Пятиугольник 13"/>
            <p:cNvSpPr/>
            <p:nvPr/>
          </p:nvSpPr>
          <p:spPr>
            <a:xfrm>
              <a:off x="214200" y="4000320"/>
              <a:ext cx="2000160" cy="1928880"/>
            </a:xfrm>
            <a:custGeom>
              <a:avLst/>
              <a:gdLst>
                <a:gd name="textAreaLeft" fmla="*/ 0 w 2000160"/>
                <a:gd name="textAreaRight" fmla="*/ 2000520 w 2000160"/>
                <a:gd name="textAreaTop" fmla="*/ 0 h 1928880"/>
                <a:gd name="textAreaBottom" fmla="*/ 192924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125" y="0"/>
                  </a:lnTo>
                  <a:lnTo>
                    <a:pt x="21600" y="10800"/>
                  </a:lnTo>
                  <a:lnTo>
                    <a:pt x="1712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c6aee">
                <a:alpha val="30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66"/>
                  </a:solidFill>
                  <a:latin typeface="Verdana"/>
                </a:rPr>
                <a:t>Підвищення кваліфікації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TextBox 31"/>
            <p:cNvSpPr/>
            <p:nvPr/>
          </p:nvSpPr>
          <p:spPr>
            <a:xfrm>
              <a:off x="2214360" y="3714840"/>
              <a:ext cx="6715440" cy="2148120"/>
            </a:xfrm>
            <a:prstGeom prst="rect">
              <a:avLst/>
            </a:prstGeom>
            <a:solidFill>
              <a:srgbClr val="c8e3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2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ідготовка та перепідготовка сімейних лікарів 2011р. - 15/117;</a:t>
              </a:r>
              <a:br>
                <a:rPr sz="1200"/>
              </a:b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2012р. - 14/180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3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тематичного удосконалення сімейних лікарів на кафедрі ФУЛ ДДМА за темою “Ведення фізіологчної вагітності” – (50 осіб – 2011 та 140 на 2012 р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4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виїзних тренінгів з питань  впровадження перинатальних технологій,  питань планування сім*ї для акушер-гінекологів, педіатрів, сімейних лікарів, терапевтів середнього персоналу (до 5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marL="176040" indent="-176040">
                <a:lnSpc>
                  <a:spcPct val="100000"/>
                </a:lnSpc>
                <a:spcAft>
                  <a:spcPts val="601"/>
                </a:spcAft>
                <a:buSzPct val="103006"/>
                <a:buBlip>
                  <a:blip r:embed="rId5"/>
                </a:buBlip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uk-UA" sz="1200" spc="-1" strike="noStrike">
                  <a:solidFill>
                    <a:srgbClr val="000066"/>
                  </a:solidFill>
                  <a:latin typeface="Verdana"/>
                </a:rPr>
                <a:t>Проведення на базі ОДКЛ семінарів для фельдшерів та сімейних лікарів з питань спостереження за здоровою дитиною (до 100 осіб в рік)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80" name="TextBox 25"/>
          <p:cNvSpPr/>
          <p:nvPr/>
        </p:nvSpPr>
        <p:spPr>
          <a:xfrm>
            <a:off x="428760" y="447840"/>
            <a:ext cx="8429400" cy="580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КОНЦЕПЦІЯ ПОДАЛЬШОГО РОЗВИТКУ ПЕРИНАТАЛЬНОЇ ДОПОМОГИ В ОБЛАСТ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571680" y="500040"/>
            <a:ext cx="828648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Удосконалення перинатальної допомоги на  вторинному рівні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4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643720" y="2571840"/>
            <a:ext cx="57132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428760" y="1071720"/>
          <a:ext cx="8358120" cy="5595840"/>
        </p:xfrm>
        <a:graphic>
          <a:graphicData uri="http://schemas.openxmlformats.org/drawingml/2006/table">
            <a:tbl>
              <a:tblPr/>
              <a:tblGrid>
                <a:gridCol w="2571480"/>
                <a:gridCol w="2786040"/>
                <a:gridCol w="3000600"/>
              </a:tblGrid>
              <a:tr h="52056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50752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„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іжобласний центр медичної генетики і пренатальної діагностики” та 7 міжрайонних консуль-тативних МГ кабінет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ренатальна діагностика ВВР проведення УЗ-скринінгу вагітних, з використанням 92 УЗД апаратів, з яких 16 (17,4%) – до 2000 року випуску та потребують замі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3 міських центри планування сім*ї, 44 консультативних кабінети з питань планування сім*ї  4 “Клініки, дружні до молоді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Розширення мережі консультативних МГ кабінетів, удоско-налення обсягів МГ дослідж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Організація системи УЗД консультативних кабінетів ІІ рівня пренатального скринінг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ереоснащення КДЦ сучасним УЗД-обладнанням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ідвищення кваліфікації лікарів-санологів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Поширення мережі  клінік, які надають послуги “дружні до молоді” (10 до кінця 2012 ро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окращення діагностики ВВР з подальшим перериванням вагітності  при не курабельних ВВР (щорічно до 65 випадків переривання вагітності до 22 тижн. з ВВР), або хірургічною корекцією в умовах перинатального центру та обласній дитячій клінічній лікарн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філактика, своєчасні діагностика та лікування в/у інфікування плод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відсотку запланованих та підготовлених вагітностей у жінок  з ЕГ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2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Rectangle 11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28760" y="1071720"/>
          <a:ext cx="8358120" cy="5292720"/>
        </p:xfrm>
        <a:graphic>
          <a:graphicData uri="http://schemas.openxmlformats.org/drawingml/2006/table">
            <a:tbl>
              <a:tblPr/>
              <a:tblGrid>
                <a:gridCol w="2571480"/>
                <a:gridCol w="2357640"/>
                <a:gridCol w="3429000"/>
              </a:tblGrid>
              <a:tr h="660240"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Захо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800" spc="-1" strike="noStrike">
                          <a:solidFill>
                            <a:srgbClr val="cc0000"/>
                          </a:solidFill>
                          <a:latin typeface="Arial"/>
                          <a:ea typeface="Microsoft YaHei"/>
                        </a:rPr>
                        <a:t>Цільова мод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  <a:tr h="4632480"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1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малопотужні пологові відділення (до 400 пологів на рік-4,1% пологів по області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2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3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стаціонари середньої потужності (400-1000 пологів на рік -15,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4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5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потужні родопомічні стаціонари, 9 з яких – міжрайонні центри -  80,3 % від всіх полог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85000"/>
                        </a:lnSpc>
                        <a:buSzPct val="102950"/>
                        <a:buBlip>
                          <a:blip r:embed="rId6"/>
                        </a:buBlip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uk-UA" sz="1400" spc="-1" strike="noStrike">
                          <a:solidFill>
                            <a:srgbClr val="002060"/>
                          </a:solidFill>
                          <a:latin typeface="Verdana"/>
                        </a:rPr>
                        <a:t>5 дитячих лікарень з неонатальними  ліж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7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ерепрофілювання 5-ти пологових відділень, де відбувається до 4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8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9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Проведення ремонтів та оснащення міжрайонних пологових центрів, де відбувається біля 1500 пологів на рі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SzPct val="102950"/>
                        <a:buBlip>
                          <a:blip r:embed="rId10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централізація неонатальної допом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60840" bIns="6084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1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стаціонарів середньої потужн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2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Збільшення кількості потужних міжрайонних пологов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3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Введення в дію міжрайонного перинатального центру – 159 ліжко-місц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 черга пологовий блок 2007-2008р.р.  - 50,1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Clr>
                          <a:srgbClr val="000066"/>
                        </a:buClr>
                        <a:buFont typeface="Wingdings" charset="2"/>
                        <a:buChar char="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ІІ черга неонатальний блок 2011 р – 29,5 млн гр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4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Створення 2 міжрайонних неонатальних відділень у м.м. Дніпропетровськ і Дніпродзер-жинсь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buSzPct val="102950"/>
                        <a:buBlip>
                          <a:blip r:embed="rId15"/>
                        </a:buBlip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uk-UA" sz="1400" spc="-1" strike="noStrike">
                          <a:solidFill>
                            <a:srgbClr val="000066"/>
                          </a:solidFill>
                          <a:latin typeface="Verdana"/>
                          <a:ea typeface="Microsoft YaHei"/>
                        </a:rPr>
                        <a:t>Введення 3 відділень в склад 2 перинатальних центрі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289" name="TextBox 25"/>
          <p:cNvSpPr/>
          <p:nvPr/>
        </p:nvSpPr>
        <p:spPr>
          <a:xfrm>
            <a:off x="500040" y="285840"/>
            <a:ext cx="8286840" cy="337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Century Gothic"/>
              </a:rPr>
              <a:t>Оптимізація мережі  вторинного  рівня   надання медичної допомог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0" name="Picture 10" descr="http://www.zerkalov.org.ua/files/16s.gif"/>
          <p:cNvPicPr/>
          <p:nvPr/>
        </p:nvPicPr>
        <p:blipFill>
          <a:blip r:embed="rId16"/>
          <a:stretch/>
        </p:blipFill>
        <p:spPr>
          <a:xfrm>
            <a:off x="5286240" y="1357200"/>
            <a:ext cx="5716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571680" y="928800"/>
            <a:ext cx="657216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Передумови: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чисельність населення 671,8 тис нас (в пологових стаціонарах надається допомога мешканкам міста та 5 прилеглих районів) – 850 тис.нас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  3 пологових стаціонарах щорічно народжується </a:t>
            </a:r>
            <a:r>
              <a:rPr b="1" lang="uk-UA" sz="1600" spc="-1" strike="noStrike">
                <a:solidFill>
                  <a:srgbClr val="c00000"/>
                </a:solidFill>
                <a:latin typeface="Verdana"/>
              </a:rPr>
              <a:t>8,5 тис дітей – 12% сільськ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серед загальної кількості пологів – 3,8% передчасних пологів (до 350 пологів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біля 10%  народжених дітей потребують подальшого лікування в стаціонарі (850 дітей)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міста (150 – 300 км) від обласного центру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протяжність міста 14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віддаленість дитячої лікарні від пологових стаціонарів 15-30 к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низький рівень укомплектованості лікарями –неонатологами -32,7% (7 фахівців на місто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 м. Кривий Ріг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5214960" y="1000080"/>
            <a:ext cx="3297240" cy="5505480"/>
            <a:chOff x="5214960" y="1000080"/>
            <a:chExt cx="3297240" cy="5505480"/>
          </a:xfrm>
        </p:grpSpPr>
        <p:sp>
          <p:nvSpPr>
            <p:cNvPr id="295" name="Freeform 5"/>
            <p:cNvSpPr/>
            <p:nvPr/>
          </p:nvSpPr>
          <p:spPr>
            <a:xfrm>
              <a:off x="5214960" y="1000080"/>
              <a:ext cx="3297240" cy="5505480"/>
            </a:xfrm>
            <a:prstGeom prst="pie">
              <a:avLst/>
            </a:prstGeom>
            <a:solidFill>
              <a:srgbClr val="ffffcc"/>
            </a:solidFill>
            <a:ln w="1908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96" name="Group 6"/>
            <p:cNvGrpSpPr/>
            <p:nvPr/>
          </p:nvGrpSpPr>
          <p:grpSpPr>
            <a:xfrm>
              <a:off x="6854040" y="1008720"/>
              <a:ext cx="1647720" cy="2309760"/>
              <a:chOff x="6854040" y="1008720"/>
              <a:chExt cx="1647720" cy="2309760"/>
            </a:xfrm>
          </p:grpSpPr>
          <p:sp>
            <p:nvSpPr>
              <p:cNvPr id="297" name="Freeform 7"/>
              <p:cNvSpPr/>
              <p:nvPr/>
            </p:nvSpPr>
            <p:spPr>
              <a:xfrm>
                <a:off x="6854040" y="1008720"/>
                <a:ext cx="1647720" cy="163404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98" name="Freeform 8"/>
              <p:cNvSpPr/>
              <p:nvPr/>
            </p:nvSpPr>
            <p:spPr>
              <a:xfrm>
                <a:off x="6883920" y="2426760"/>
                <a:ext cx="1123200" cy="891720"/>
              </a:xfrm>
              <a:prstGeom prst="pie">
                <a:avLst/>
              </a:prstGeom>
              <a:solidFill>
                <a:srgbClr val="ccffff">
                  <a:alpha val="60000"/>
                </a:srgbClr>
              </a:solidFill>
              <a:ln w="9360">
                <a:solidFill>
                  <a:srgbClr val="66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99" name="Group 9"/>
            <p:cNvGrpSpPr/>
            <p:nvPr/>
          </p:nvGrpSpPr>
          <p:grpSpPr>
            <a:xfrm>
              <a:off x="6815520" y="3130200"/>
              <a:ext cx="1539720" cy="1356840"/>
              <a:chOff x="6815520" y="3130200"/>
              <a:chExt cx="1539720" cy="1356840"/>
            </a:xfrm>
          </p:grpSpPr>
          <p:sp>
            <p:nvSpPr>
              <p:cNvPr id="300" name="Freeform 10"/>
              <p:cNvSpPr/>
              <p:nvPr/>
            </p:nvSpPr>
            <p:spPr>
              <a:xfrm>
                <a:off x="7182000" y="3337200"/>
                <a:ext cx="1173240" cy="114984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6815520" y="3130200"/>
                <a:ext cx="989640" cy="792720"/>
              </a:xfrm>
              <a:prstGeom prst="pie">
                <a:avLst/>
              </a:prstGeom>
              <a:solidFill>
                <a:srgbClr val="ccffcc">
                  <a:alpha val="60000"/>
                </a:srgbClr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302" name="Group 12"/>
            <p:cNvGrpSpPr/>
            <p:nvPr/>
          </p:nvGrpSpPr>
          <p:grpSpPr>
            <a:xfrm>
              <a:off x="5224680" y="3467160"/>
              <a:ext cx="2330640" cy="3030120"/>
              <a:chOff x="5224680" y="3467160"/>
              <a:chExt cx="2330640" cy="3030120"/>
            </a:xfrm>
          </p:grpSpPr>
          <p:sp>
            <p:nvSpPr>
              <p:cNvPr id="303" name="Freeform 13"/>
              <p:cNvSpPr/>
              <p:nvPr/>
            </p:nvSpPr>
            <p:spPr>
              <a:xfrm>
                <a:off x="5819760" y="3467160"/>
                <a:ext cx="1107720" cy="1679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4" name="Freeform 14"/>
              <p:cNvSpPr/>
              <p:nvPr/>
            </p:nvSpPr>
            <p:spPr>
              <a:xfrm>
                <a:off x="5224680" y="4213440"/>
                <a:ext cx="1964160" cy="228384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5" name="Freeform 15"/>
              <p:cNvSpPr/>
              <p:nvPr/>
            </p:nvSpPr>
            <p:spPr>
              <a:xfrm>
                <a:off x="6758280" y="3855600"/>
                <a:ext cx="797040" cy="824400"/>
              </a:xfrm>
              <a:prstGeom prst="pie">
                <a:avLst/>
              </a:prstGeom>
              <a:solidFill>
                <a:srgbClr val="ffcc99">
                  <a:alpha val="60000"/>
                </a:srgbClr>
              </a:solidFill>
              <a:ln w="936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grpSp>
        <p:nvGrpSpPr>
          <p:cNvPr id="306" name="Group 16"/>
          <p:cNvGrpSpPr/>
          <p:nvPr/>
        </p:nvGrpSpPr>
        <p:grpSpPr>
          <a:xfrm>
            <a:off x="6786720" y="1928880"/>
            <a:ext cx="1931400" cy="2784240"/>
            <a:chOff x="6786720" y="1928880"/>
            <a:chExt cx="1931400" cy="2784240"/>
          </a:xfrm>
        </p:grpSpPr>
        <p:sp>
          <p:nvSpPr>
            <p:cNvPr id="307" name="WordArt 17"/>
            <p:cNvSpPr txBox="1"/>
            <p:nvPr/>
          </p:nvSpPr>
          <p:spPr>
            <a:xfrm>
              <a:off x="8135640" y="1928880"/>
              <a:ext cx="542880" cy="92160"/>
            </a:xfrm>
            <a:prstGeom prst="rect">
              <a:avLst/>
            </a:prstGeom>
          </p:spPr>
          <p:txBody>
            <a:bodyPr wrap="none" lIns="90000" rIns="90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Тернівськ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8" name="WordArt 18"/>
            <p:cNvSpPr txBox="1"/>
            <p:nvPr/>
          </p:nvSpPr>
          <p:spPr>
            <a:xfrm>
              <a:off x="7723080" y="2783520"/>
              <a:ext cx="5410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666699"/>
                  </a:solidFill>
                  <a:latin typeface="Arial"/>
                </a:rPr>
                <a:t>Жовтневий</a:t>
              </a:r>
              <a:endParaRPr b="1" lang="en-US" sz="1800" spc="1" strike="noStrike">
                <a:ln w="0">
                  <a:noFill/>
                </a:ln>
                <a:solidFill>
                  <a:srgbClr val="666699"/>
                </a:solidFill>
                <a:latin typeface="Arial"/>
                <a:ea typeface="Arial"/>
              </a:endParaRPr>
            </a:p>
          </p:txBody>
        </p:sp>
        <p:sp>
          <p:nvSpPr>
            <p:cNvPr id="309" name="WordArt 19"/>
            <p:cNvSpPr txBox="1"/>
            <p:nvPr/>
          </p:nvSpPr>
          <p:spPr>
            <a:xfrm>
              <a:off x="7404120" y="3370320"/>
              <a:ext cx="530280" cy="84600"/>
            </a:xfrm>
            <a:prstGeom prst="rect">
              <a:avLst/>
            </a:prstGeom>
          </p:spPr>
          <p:txBody>
            <a:bodyPr wrap="none" lIns="90000" rIns="90000" tIns="38160" bIns="381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Саксаган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0" name="WordArt 20"/>
            <p:cNvSpPr txBox="1"/>
            <p:nvPr/>
          </p:nvSpPr>
          <p:spPr>
            <a:xfrm>
              <a:off x="6786720" y="3855240"/>
              <a:ext cx="599400" cy="20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Центрально-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мі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WordArt 21"/>
            <p:cNvSpPr txBox="1"/>
            <p:nvPr/>
          </p:nvSpPr>
          <p:spPr>
            <a:xfrm>
              <a:off x="8085960" y="3991320"/>
              <a:ext cx="632160" cy="11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008000"/>
                  </a:solidFill>
                  <a:latin typeface="Arial"/>
                </a:rPr>
                <a:t>Довгинцевський</a:t>
              </a:r>
              <a:endPara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312" name="WordArt 22"/>
            <p:cNvSpPr txBox="1"/>
            <p:nvPr/>
          </p:nvSpPr>
          <p:spPr>
            <a:xfrm>
              <a:off x="7365600" y="4036320"/>
              <a:ext cx="584280" cy="1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Дзержинс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  <p:sp>
          <p:nvSpPr>
            <p:cNvPr id="313" name="WordArt 23"/>
            <p:cNvSpPr txBox="1"/>
            <p:nvPr/>
          </p:nvSpPr>
          <p:spPr>
            <a:xfrm>
              <a:off x="6798960" y="4613040"/>
              <a:ext cx="629640" cy="1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6600"/>
                  </a:solidFill>
                  <a:latin typeface="Arial"/>
                </a:rPr>
                <a:t>Інгулецький</a:t>
              </a:r>
              <a:endParaRPr b="1" lang="en-US" sz="1800" spc="1" strike="noStrike">
                <a:ln w="0">
                  <a:noFill/>
                </a:ln>
                <a:solidFill>
                  <a:srgbClr val="ff66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14" name="Овал 33"/>
          <p:cNvSpPr/>
          <p:nvPr/>
        </p:nvSpPr>
        <p:spPr>
          <a:xfrm>
            <a:off x="8501040" y="14288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Овал 34"/>
          <p:cNvSpPr/>
          <p:nvPr/>
        </p:nvSpPr>
        <p:spPr>
          <a:xfrm>
            <a:off x="7929720" y="300024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Овал 35"/>
          <p:cNvSpPr/>
          <p:nvPr/>
        </p:nvSpPr>
        <p:spPr>
          <a:xfrm>
            <a:off x="6500880" y="4071960"/>
            <a:ext cx="357120" cy="2858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Овал 36"/>
          <p:cNvSpPr/>
          <p:nvPr/>
        </p:nvSpPr>
        <p:spPr>
          <a:xfrm>
            <a:off x="7429680" y="3571920"/>
            <a:ext cx="357120" cy="2858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WordArt 17"/>
          <p:cNvSpPr txBox="1"/>
          <p:nvPr/>
        </p:nvSpPr>
        <p:spPr>
          <a:xfrm>
            <a:off x="7858080" y="785880"/>
            <a:ext cx="107172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П*ятихат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19" name="WordArt 17"/>
          <p:cNvSpPr txBox="1"/>
          <p:nvPr/>
        </p:nvSpPr>
        <p:spPr>
          <a:xfrm>
            <a:off x="6215040" y="2357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Криворіз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0" name="WordArt 17"/>
          <p:cNvSpPr txBox="1"/>
          <p:nvPr/>
        </p:nvSpPr>
        <p:spPr>
          <a:xfrm>
            <a:off x="4572000" y="550080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Широк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1" name="WordArt 17"/>
          <p:cNvSpPr txBox="1"/>
          <p:nvPr/>
        </p:nvSpPr>
        <p:spPr>
          <a:xfrm>
            <a:off x="7000920" y="5214960"/>
            <a:ext cx="1143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Апостолі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  <p:sp>
        <p:nvSpPr>
          <p:cNvPr id="322" name="WordArt 17"/>
          <p:cNvSpPr txBox="1"/>
          <p:nvPr/>
        </p:nvSpPr>
        <p:spPr>
          <a:xfrm>
            <a:off x="7858080" y="3500280"/>
            <a:ext cx="1143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66"/>
                </a:solidFill>
                <a:latin typeface="Arial"/>
              </a:rPr>
              <a:t>Софіївський р-н</a:t>
            </a:r>
            <a:endParaRPr b="1" lang="en-US" sz="1800" spc="1" strike="noStrike">
              <a:ln w="0">
                <a:noFill/>
              </a:ln>
              <a:solidFill>
                <a:srgbClr val="00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64396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 м. Кривий Ріг 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– відповідно до вимог наказу МОЗ України № 620 від 29.12.2003</a:t>
            </a:r>
            <a:br>
              <a:rPr sz="1800"/>
            </a:br>
            <a:r>
              <a:rPr b="1" lang="uk-UA" sz="1800" spc="-1" strike="noStrike">
                <a:solidFill>
                  <a:srgbClr val="c00000"/>
                </a:solidFill>
                <a:latin typeface="Verdana"/>
              </a:rPr>
              <a:t>“Про організацію надання стаціонарної акушерсько-гінекологічної та неонатологічної допомоги в Україні” – Примірне положення про Перинатальний центр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325" name="Group 3"/>
          <p:cNvGrpSpPr/>
          <p:nvPr/>
        </p:nvGrpSpPr>
        <p:grpSpPr>
          <a:xfrm>
            <a:off x="285840" y="2357280"/>
            <a:ext cx="8499240" cy="4171680"/>
            <a:chOff x="285840" y="2357280"/>
            <a:chExt cx="8499240" cy="4171680"/>
          </a:xfrm>
        </p:grpSpPr>
        <p:sp>
          <p:nvSpPr>
            <p:cNvPr id="326" name="Rectangle 16"/>
            <p:cNvSpPr/>
            <p:nvPr/>
          </p:nvSpPr>
          <p:spPr>
            <a:xfrm>
              <a:off x="499320" y="2824560"/>
              <a:ext cx="1214640" cy="233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арчоблок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Rectangle 15"/>
            <p:cNvSpPr/>
            <p:nvPr/>
          </p:nvSpPr>
          <p:spPr>
            <a:xfrm>
              <a:off x="2000520" y="2824560"/>
              <a:ext cx="341280" cy="1033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АРАЖ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Rectangle 14"/>
            <p:cNvSpPr/>
            <p:nvPr/>
          </p:nvSpPr>
          <p:spPr>
            <a:xfrm>
              <a:off x="2143080" y="2357280"/>
              <a:ext cx="1371960" cy="37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ральн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0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44,7  м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4358160" y="2489040"/>
              <a:ext cx="2855880" cy="1645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альны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3172, 4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–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патології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овонародже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неонатологическая бригада 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 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відділення реанімації  новонароджених, 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ургентна лаборатор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Rectangle 12"/>
            <p:cNvSpPr/>
            <p:nvPr/>
          </p:nvSpPr>
          <p:spPr>
            <a:xfrm>
              <a:off x="285840" y="4168440"/>
              <a:ext cx="4285440" cy="1617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ий блок загальна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5505, 7 м</a:t>
              </a:r>
              <a:r>
                <a:rPr b="1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верх. – приемнальне відділення, клініко-діагностична лабораторія, жіноча консультація, адміністраці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поверхи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ологов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зали, операційні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 поверх -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ВРІТ для жінок та дітей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I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-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V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 поверхи - 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  </a:t>
              </a: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післяпологові палати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1" name="Rectangle 11"/>
            <p:cNvSpPr/>
            <p:nvPr/>
          </p:nvSpPr>
          <p:spPr>
            <a:xfrm>
              <a:off x="6142320" y="4402080"/>
              <a:ext cx="2642760" cy="13197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Гінекологічний блок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Загальна </a:t>
              </a: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1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2394, 6 м</a:t>
              </a:r>
              <a:r>
                <a:rPr b="1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- ІІ поверхи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– відділення патологіі вагітних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ІІІ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эт. – гинекологическое отделение 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– 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05,5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Обща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2" name="Line 9"/>
            <p:cNvSpPr/>
            <p:nvPr/>
          </p:nvSpPr>
          <p:spPr>
            <a:xfrm>
              <a:off x="5671440" y="6528240"/>
              <a:ext cx="1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3" name="Rectangle 8"/>
            <p:cNvSpPr/>
            <p:nvPr/>
          </p:nvSpPr>
          <p:spPr>
            <a:xfrm>
              <a:off x="785880" y="3175200"/>
              <a:ext cx="986400" cy="374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Киснева станция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4500360" y="4811400"/>
              <a:ext cx="1669320" cy="4744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Холл с галереей, 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88,1 м</a:t>
              </a:r>
              <a:r>
                <a:rPr b="0" lang="ru-RU" sz="12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5" name="Rectangle 4"/>
            <p:cNvSpPr/>
            <p:nvPr/>
          </p:nvSpPr>
          <p:spPr>
            <a:xfrm>
              <a:off x="4213800" y="5652000"/>
              <a:ext cx="1599840" cy="3729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Баклабораторія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S</a:t>
              </a:r>
              <a:r>
                <a:rPr b="0" lang="ru-RU" sz="11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 =  344, 94 м</a:t>
              </a:r>
              <a:r>
                <a:rPr b="0" lang="ru-RU" sz="1100" spc="-1" strike="noStrike" baseline="30000">
                  <a:solidFill>
                    <a:srgbClr val="000000"/>
                  </a:solidFill>
                  <a:latin typeface="Century Gothic"/>
                  <a:ea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6" name="Стрелка углом 23"/>
          <p:cNvSpPr/>
          <p:nvPr/>
        </p:nvSpPr>
        <p:spPr>
          <a:xfrm>
            <a:off x="2714760" y="3071880"/>
            <a:ext cx="1643040" cy="1071360"/>
          </a:xfrm>
          <a:prstGeom prst="pie">
            <a:avLst/>
          </a:prstGeom>
          <a:solidFill>
            <a:srgbClr val="0f6fc6">
              <a:alpha val="56000"/>
            </a:srgbClr>
          </a:solidFill>
          <a:ln w="25560">
            <a:solidFill>
              <a:srgbClr val="08509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Підземний перехід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19" descr="CIMG40.jpg"/>
          <p:cNvPicPr/>
          <p:nvPr/>
        </p:nvPicPr>
        <p:blipFill>
          <a:blip r:embed="rId1"/>
          <a:stretch/>
        </p:blipFill>
        <p:spPr>
          <a:xfrm>
            <a:off x="1643040" y="3357720"/>
            <a:ext cx="2638440" cy="1977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4643280" y="4714920"/>
            <a:ext cx="4143600" cy="142884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ІІ черга – 2011 р. - неонатальний блок (36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uk-UA" sz="1600" spc="-1" strike="noStrike">
                <a:solidFill>
                  <a:srgbClr val="000066"/>
                </a:solidFill>
                <a:latin typeface="Verdana"/>
              </a:rPr>
              <a:t>з відділенням патології новонароджених (27 ліжок) та  ВАРІТ (9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4572000" y="2857680"/>
            <a:ext cx="4286160" cy="1214280"/>
          </a:xfrm>
          <a:prstGeom prst="rect">
            <a:avLst/>
          </a:prstGeom>
          <a:solidFill>
            <a:srgbClr val="009dd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І черга -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2008 р. введено в експлуатацію  –  пологовий блок (40 ліжок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3 ліжка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ІТ для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6 ліжок </a:t>
            </a:r>
            <a:r>
              <a:rPr b="1" lang="uk-UA" sz="1600" spc="-1" strike="noStrike">
                <a:solidFill>
                  <a:srgbClr val="000000"/>
                </a:solidFill>
                <a:latin typeface="Verdana"/>
              </a:rPr>
              <a:t>– ВАРІТ для жіно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Oval 14"/>
          <p:cNvSpPr/>
          <p:nvPr/>
        </p:nvSpPr>
        <p:spPr>
          <a:xfrm>
            <a:off x="5429160" y="4143240"/>
            <a:ext cx="2500560" cy="522360"/>
          </a:xfrm>
          <a:prstGeom prst="ellipse">
            <a:avLst/>
          </a:prstGeom>
          <a:solidFill>
            <a:srgbClr val="f2f2f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600" rIns="21600" tIns="108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Verdana"/>
                <a:ea typeface="Tahoma"/>
              </a:rPr>
              <a:t>50,1 млн грн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Міжрайонний Перинатальний центр ІІ рівня</a:t>
            </a:r>
            <a:br>
              <a:rPr sz="1800"/>
            </a:br>
            <a:r>
              <a:rPr b="1" lang="uk-UA" sz="1800" spc="-1" strike="noStrike">
                <a:solidFill>
                  <a:srgbClr val="000066"/>
                </a:solidFill>
                <a:latin typeface="Verdana"/>
                <a:ea typeface="Arial"/>
              </a:rPr>
              <a:t>надання медичної допомоги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3" name="Содержимое 19" descr="CIMG40.jpg"/>
          <p:cNvPicPr/>
          <p:nvPr/>
        </p:nvPicPr>
        <p:blipFill>
          <a:blip r:embed="rId2"/>
          <a:stretch/>
        </p:blipFill>
        <p:spPr>
          <a:xfrm>
            <a:off x="357120" y="4714920"/>
            <a:ext cx="2500560" cy="187488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18" descr="CIMG4066.JPG"/>
          <p:cNvPicPr/>
          <p:nvPr/>
        </p:nvPicPr>
        <p:blipFill>
          <a:blip r:embed="rId3"/>
          <a:stretch/>
        </p:blipFill>
        <p:spPr>
          <a:xfrm>
            <a:off x="285840" y="1928880"/>
            <a:ext cx="2428920" cy="1630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3"/>
          <p:cNvSpPr/>
          <p:nvPr/>
        </p:nvSpPr>
        <p:spPr>
          <a:xfrm>
            <a:off x="1428840" y="1002960"/>
            <a:ext cx="6643440" cy="82404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Потужність центру -    3000 пологів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159 ліжко-місць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46" name="Picture 10" descr="http://www.zerkalov.org.ua/files/16s.gif"/>
          <p:cNvPicPr/>
          <p:nvPr/>
        </p:nvPicPr>
        <p:blipFill>
          <a:blip r:embed="rId4"/>
          <a:stretch/>
        </p:blipFill>
        <p:spPr>
          <a:xfrm rot="5400000">
            <a:off x="3366000" y="1634400"/>
            <a:ext cx="642600" cy="8031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943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Прямоугольник 12"/>
          <p:cNvSpPr/>
          <p:nvPr/>
        </p:nvSpPr>
        <p:spPr>
          <a:xfrm>
            <a:off x="3714840" y="6143760"/>
            <a:ext cx="47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Verdana"/>
                <a:ea typeface="Times New Roman"/>
              </a:rPr>
              <a:t>Кошторисна вартість - 99,99 млн грн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3214800" y="420840"/>
          <a:ext cx="2428920" cy="365040"/>
        </p:xfrm>
        <a:graphic>
          <a:graphicData uri="http://schemas.openxmlformats.org/drawingml/2006/table">
            <a:tbl>
              <a:tblPr/>
              <a:tblGrid>
                <a:gridCol w="2428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Баз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500040" y="420840"/>
          <a:ext cx="2232000" cy="33480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КЛЮЧОВІ  ЗАВД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1" name=""/>
          <p:cNvGraphicFramePr/>
          <p:nvPr/>
        </p:nvGraphicFramePr>
        <p:xfrm>
          <a:off x="6143760" y="420840"/>
          <a:ext cx="2500200" cy="36504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99"/>
                          </a:solidFill>
                          <a:latin typeface="Arial Narrow"/>
                        </a:rPr>
                        <a:t>Цільова мод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52" name="Text Box 115"/>
          <p:cNvSpPr/>
          <p:nvPr/>
        </p:nvSpPr>
        <p:spPr>
          <a:xfrm>
            <a:off x="2857680" y="1428840"/>
            <a:ext cx="3000240" cy="5596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Пологове відділення  О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акушерської реанімації на базі МКЛ№9 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Міський клінічний пологовий будинок №2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на базі  МДКЛ №3 м.Дн-сь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патології недоношених новонароджених МДКЛ № 6 м.Дн-ска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266760" indent="-266760"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реанімації новонароджених і ОДКЛ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AutoShape 134"/>
          <p:cNvSpPr/>
          <p:nvPr/>
        </p:nvSpPr>
        <p:spPr>
          <a:xfrm>
            <a:off x="214200" y="2232000"/>
            <a:ext cx="2643480" cy="2571840"/>
          </a:xfrm>
          <a:custGeom>
            <a:avLst/>
            <a:gdLst>
              <a:gd name="textAreaLeft" fmla="*/ 0 w 2643480"/>
              <a:gd name="textAreaRight" fmla="*/ 2643840 w 2643480"/>
              <a:gd name="textAreaTop" fmla="*/ 0 h 2571840"/>
              <a:gd name="textAreaBottom" fmla="*/ 2572200 h 257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77" y="0"/>
                </a:lnTo>
                <a:lnTo>
                  <a:pt x="21600" y="10800"/>
                </a:lnTo>
                <a:lnTo>
                  <a:pt x="1777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10800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Забезпечення високотехнологічною допомогою  вагітних, роділь та новонароджених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 Box 115"/>
          <p:cNvSpPr/>
          <p:nvPr/>
        </p:nvSpPr>
        <p:spPr>
          <a:xfrm>
            <a:off x="6143760" y="2303640"/>
            <a:ext cx="2857320" cy="2527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Відділення екстрагенітальної патології  обласної клінічної лікарні на 15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buClr>
                <a:srgbClr val="ffffff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Century Gothic"/>
              </a:rPr>
              <a:t>Обласний перинатальний центр на 4000 пологів на рік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176040" indent="-1760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TextBox 25"/>
          <p:cNvSpPr/>
          <p:nvPr/>
        </p:nvSpPr>
        <p:spPr>
          <a:xfrm>
            <a:off x="500040" y="1000080"/>
            <a:ext cx="8215200" cy="6426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Century Gothic"/>
              </a:rPr>
              <a:t>Оптимізація мережі  третинного  рівня   надання медичної допомог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10" descr="http://www.zerkalov.org.ua/files/16s.gif"/>
          <p:cNvPicPr/>
          <p:nvPr/>
        </p:nvPicPr>
        <p:blipFill>
          <a:blip r:embed="rId1"/>
          <a:stretch/>
        </p:blipFill>
        <p:spPr>
          <a:xfrm>
            <a:off x="5929200" y="3143160"/>
            <a:ext cx="5716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06:07:27Z</dcterms:created>
  <dc:creator>user</dc:creator>
  <dc:description/>
  <dc:language>en-US</dc:language>
  <cp:lastModifiedBy>SeM</cp:lastModifiedBy>
  <cp:lastPrinted>2011-07-19T07:07:19Z</cp:lastPrinted>
  <dcterms:modified xsi:type="dcterms:W3CDTF">2011-08-17T12:32:57Z</dcterms:modified>
  <cp:revision>873</cp:revision>
  <dc:subject/>
  <dc:title>Презентация PowerPoint</dc:title>
</cp:coreProperties>
</file>